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52A9-5A16-4C03-881F-DEC2D15B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A2FE-D6F6-44E4-A1A9-87BBD0A0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AD45-E0CB-4976-90FA-5565B902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44B2-F935-4BA9-97F6-22ACD66A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A985-A967-4DD5-A2EE-D43FFECC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6CEB-0440-4F71-9B1C-C7179C9D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5D34-0100-4766-B8C4-B90B2147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E613-52B6-478C-96EF-9315CA94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B734-52AC-4849-BFBF-303C8649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6E46-51C6-4AB4-BF2A-2239DCD7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FA0A-4721-40BB-B403-CD6C8077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681D-FD81-47B6-920F-968E2845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EDDC-903C-41F3-9726-BB8869C013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Monday, February 23rd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40. Find the vector v with IIvII=10 and direction u=2i-3j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3120" y="1660680"/>
            <a:ext cx="2090880" cy="795240"/>
          </a:xfrm>
          <a:custGeom>
            <a:avLst/>
            <a:gdLst/>
            <a:ahLst/>
            <a:rect l="l" t="t" r="r" b="b"/>
            <a:pathLst>
              <a:path w="5805" h="2208">
                <a:moveTo>
                  <a:pt x="5283" y="4614"/>
                </a:moveTo>
                <a:cubicBezTo>
                  <a:pt x="5262" y="4648"/>
                  <a:pt x="5242" y="4679"/>
                  <a:pt x="5209" y="4713"/>
                </a:cubicBezTo>
                <a:cubicBezTo>
                  <a:pt x="5142" y="4783"/>
                  <a:pt x="5081" y="4847"/>
                  <a:pt x="5011" y="4911"/>
                </a:cubicBezTo>
                <a:cubicBezTo>
                  <a:pt x="4774" y="5130"/>
                  <a:pt x="4556" y="5368"/>
                  <a:pt x="4341" y="5606"/>
                </a:cubicBezTo>
                <a:cubicBezTo>
                  <a:pt x="4257" y="5699"/>
                  <a:pt x="4177" y="5740"/>
                  <a:pt x="4118" y="5854"/>
                </a:cubicBezTo>
                <a:cubicBezTo>
                  <a:pt x="4101" y="5886"/>
                  <a:pt x="4091" y="5924"/>
                  <a:pt x="4118" y="5953"/>
                </a:cubicBezTo>
                <a:cubicBezTo>
                  <a:pt x="4130" y="5967"/>
                  <a:pt x="4221" y="5996"/>
                  <a:pt x="4242" y="6003"/>
                </a:cubicBezTo>
                <a:cubicBezTo>
                  <a:pt x="4312" y="6026"/>
                  <a:pt x="4395" y="6017"/>
                  <a:pt x="4465" y="6052"/>
                </a:cubicBezTo>
                <a:cubicBezTo>
                  <a:pt x="4557" y="6098"/>
                  <a:pt x="4683" y="6162"/>
                  <a:pt x="4762" y="6226"/>
                </a:cubicBezTo>
                <a:cubicBezTo>
                  <a:pt x="4858" y="6304"/>
                  <a:pt x="4964" y="6371"/>
                  <a:pt x="5060" y="6449"/>
                </a:cubicBezTo>
                <a:cubicBezTo>
                  <a:pt x="5133" y="6509"/>
                  <a:pt x="5200" y="6577"/>
                  <a:pt x="5283" y="6623"/>
                </a:cubicBezTo>
                <a:cubicBezTo>
                  <a:pt x="5324" y="6646"/>
                  <a:pt x="5328" y="6656"/>
                  <a:pt x="5358" y="6672"/>
                </a:cubicBezTo>
                <a:cubicBezTo>
                  <a:pt x="5342" y="6609"/>
                  <a:pt x="5339" y="6648"/>
                  <a:pt x="5358" y="6573"/>
                </a:cubicBezTo>
              </a:path>
              <a:path w="5805" h="2208">
                <a:moveTo>
                  <a:pt x="5854" y="5383"/>
                </a:moveTo>
                <a:cubicBezTo>
                  <a:pt x="5854" y="5399"/>
                  <a:pt x="5854" y="5416"/>
                  <a:pt x="5854" y="5432"/>
                </a:cubicBezTo>
                <a:cubicBezTo>
                  <a:pt x="5861" y="5370"/>
                  <a:pt x="5868" y="5315"/>
                  <a:pt x="5904" y="5259"/>
                </a:cubicBezTo>
                <a:cubicBezTo>
                  <a:pt x="5940" y="5203"/>
                  <a:pt x="5985" y="5144"/>
                  <a:pt x="6028" y="5110"/>
                </a:cubicBezTo>
                <a:cubicBezTo>
                  <a:pt x="6066" y="5079"/>
                  <a:pt x="6130" y="5076"/>
                  <a:pt x="6176" y="5085"/>
                </a:cubicBezTo>
                <a:cubicBezTo>
                  <a:pt x="6246" y="5098"/>
                  <a:pt x="6278" y="5177"/>
                  <a:pt x="6300" y="5234"/>
                </a:cubicBezTo>
                <a:cubicBezTo>
                  <a:pt x="6347" y="5355"/>
                  <a:pt x="6350" y="5452"/>
                  <a:pt x="6350" y="5581"/>
                </a:cubicBezTo>
                <a:cubicBezTo>
                  <a:pt x="6350" y="5705"/>
                  <a:pt x="6288" y="5844"/>
                  <a:pt x="6226" y="5953"/>
                </a:cubicBezTo>
                <a:cubicBezTo>
                  <a:pt x="6157" y="6075"/>
                  <a:pt x="6041" y="6172"/>
                  <a:pt x="5928" y="6251"/>
                </a:cubicBezTo>
                <a:cubicBezTo>
                  <a:pt x="5839" y="6313"/>
                  <a:pt x="5785" y="6358"/>
                  <a:pt x="5680" y="6375"/>
                </a:cubicBezTo>
                <a:cubicBezTo>
                  <a:pt x="5608" y="6386"/>
                  <a:pt x="5531" y="6331"/>
                  <a:pt x="5556" y="6251"/>
                </a:cubicBezTo>
                <a:cubicBezTo>
                  <a:pt x="5571" y="6204"/>
                  <a:pt x="5640" y="6108"/>
                  <a:pt x="5680" y="6077"/>
                </a:cubicBezTo>
                <a:cubicBezTo>
                  <a:pt x="5736" y="6034"/>
                  <a:pt x="5834" y="6013"/>
                  <a:pt x="5904" y="6028"/>
                </a:cubicBezTo>
                <a:cubicBezTo>
                  <a:pt x="6030" y="6055"/>
                  <a:pt x="6039" y="6139"/>
                  <a:pt x="6102" y="6226"/>
                </a:cubicBezTo>
                <a:cubicBezTo>
                  <a:pt x="6152" y="6296"/>
                  <a:pt x="6186" y="6363"/>
                  <a:pt x="6201" y="6449"/>
                </a:cubicBezTo>
                <a:cubicBezTo>
                  <a:pt x="6209" y="6500"/>
                  <a:pt x="6219" y="6523"/>
                  <a:pt x="6226" y="6573"/>
                </a:cubicBezTo>
              </a:path>
              <a:path w="5805" h="2208">
                <a:moveTo>
                  <a:pt x="6697" y="6375"/>
                </a:moveTo>
                <a:cubicBezTo>
                  <a:pt x="6692" y="6521"/>
                  <a:pt x="6672" y="6633"/>
                  <a:pt x="6672" y="6772"/>
                </a:cubicBezTo>
                <a:cubicBezTo>
                  <a:pt x="6672" y="6804"/>
                  <a:pt x="6667" y="6858"/>
                  <a:pt x="6672" y="6796"/>
                </a:cubicBezTo>
                <a:cubicBezTo>
                  <a:pt x="6672" y="6780"/>
                  <a:pt x="6672" y="6763"/>
                  <a:pt x="6672" y="6747"/>
                </a:cubicBezTo>
              </a:path>
              <a:path w="5805" h="2208">
                <a:moveTo>
                  <a:pt x="7094" y="5779"/>
                </a:moveTo>
                <a:cubicBezTo>
                  <a:pt x="7201" y="5764"/>
                  <a:pt x="7315" y="5743"/>
                  <a:pt x="7417" y="5730"/>
                </a:cubicBezTo>
                <a:cubicBezTo>
                  <a:pt x="7496" y="5720"/>
                  <a:pt x="7536" y="5727"/>
                  <a:pt x="7615" y="5705"/>
                </a:cubicBezTo>
              </a:path>
              <a:path w="5805" h="2208">
                <a:moveTo>
                  <a:pt x="7813" y="5308"/>
                </a:moveTo>
                <a:cubicBezTo>
                  <a:pt x="7923" y="5222"/>
                  <a:pt x="7985" y="5186"/>
                  <a:pt x="8111" y="5135"/>
                </a:cubicBezTo>
                <a:cubicBezTo>
                  <a:pt x="8185" y="5105"/>
                  <a:pt x="8262" y="5091"/>
                  <a:pt x="8334" y="5135"/>
                </a:cubicBezTo>
                <a:cubicBezTo>
                  <a:pt x="8405" y="5178"/>
                  <a:pt x="8381" y="5219"/>
                  <a:pt x="8359" y="5283"/>
                </a:cubicBezTo>
                <a:cubicBezTo>
                  <a:pt x="8315" y="5408"/>
                  <a:pt x="8254" y="5487"/>
                  <a:pt x="8161" y="5581"/>
                </a:cubicBezTo>
                <a:cubicBezTo>
                  <a:pt x="8105" y="5637"/>
                  <a:pt x="8028" y="5685"/>
                  <a:pt x="7962" y="5730"/>
                </a:cubicBezTo>
                <a:cubicBezTo>
                  <a:pt x="7934" y="5730"/>
                  <a:pt x="7924" y="5733"/>
                  <a:pt x="7913" y="5755"/>
                </a:cubicBezTo>
                <a:cubicBezTo>
                  <a:pt x="7970" y="5734"/>
                  <a:pt x="8013" y="5717"/>
                  <a:pt x="8086" y="5705"/>
                </a:cubicBezTo>
                <a:cubicBezTo>
                  <a:pt x="8169" y="5691"/>
                  <a:pt x="8224" y="5728"/>
                  <a:pt x="8285" y="5779"/>
                </a:cubicBezTo>
                <a:cubicBezTo>
                  <a:pt x="8335" y="5821"/>
                  <a:pt x="8395" y="5913"/>
                  <a:pt x="8409" y="5978"/>
                </a:cubicBezTo>
                <a:cubicBezTo>
                  <a:pt x="8430" y="6071"/>
                  <a:pt x="8390" y="6134"/>
                  <a:pt x="8334" y="6201"/>
                </a:cubicBezTo>
                <a:cubicBezTo>
                  <a:pt x="8274" y="6273"/>
                  <a:pt x="8193" y="6301"/>
                  <a:pt x="8111" y="6325"/>
                </a:cubicBezTo>
                <a:cubicBezTo>
                  <a:pt x="8029" y="6349"/>
                  <a:pt x="7942" y="6373"/>
                  <a:pt x="7863" y="6325"/>
                </a:cubicBezTo>
                <a:cubicBezTo>
                  <a:pt x="7831" y="6305"/>
                  <a:pt x="7824" y="6183"/>
                  <a:pt x="7838" y="6152"/>
                </a:cubicBezTo>
                <a:cubicBezTo>
                  <a:pt x="7855" y="6135"/>
                  <a:pt x="7871" y="6119"/>
                  <a:pt x="7888" y="6102"/>
                </a:cubicBezTo>
              </a:path>
              <a:path w="5805" h="2208">
                <a:moveTo>
                  <a:pt x="8607" y="4663"/>
                </a:moveTo>
                <a:cubicBezTo>
                  <a:pt x="8674" y="4722"/>
                  <a:pt x="8750" y="4768"/>
                  <a:pt x="8830" y="4812"/>
                </a:cubicBezTo>
                <a:cubicBezTo>
                  <a:pt x="8964" y="4886"/>
                  <a:pt x="9097" y="4955"/>
                  <a:pt x="9227" y="5035"/>
                </a:cubicBezTo>
                <a:cubicBezTo>
                  <a:pt x="9358" y="5115"/>
                  <a:pt x="9484" y="5200"/>
                  <a:pt x="9624" y="5259"/>
                </a:cubicBezTo>
                <a:cubicBezTo>
                  <a:pt x="9719" y="5299"/>
                  <a:pt x="9796" y="5337"/>
                  <a:pt x="9872" y="5407"/>
                </a:cubicBezTo>
                <a:cubicBezTo>
                  <a:pt x="9897" y="5407"/>
                  <a:pt x="9905" y="5407"/>
                  <a:pt x="9897" y="5432"/>
                </a:cubicBezTo>
                <a:cubicBezTo>
                  <a:pt x="9828" y="5440"/>
                  <a:pt x="9766" y="5455"/>
                  <a:pt x="9699" y="5482"/>
                </a:cubicBezTo>
                <a:cubicBezTo>
                  <a:pt x="9593" y="5526"/>
                  <a:pt x="9462" y="5653"/>
                  <a:pt x="9376" y="5730"/>
                </a:cubicBezTo>
                <a:cubicBezTo>
                  <a:pt x="9232" y="5858"/>
                  <a:pt x="9064" y="5990"/>
                  <a:pt x="8930" y="6127"/>
                </a:cubicBezTo>
                <a:cubicBezTo>
                  <a:pt x="8837" y="6223"/>
                  <a:pt x="8740" y="6306"/>
                  <a:pt x="8682" y="64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14880" y="1608120"/>
            <a:ext cx="2616120" cy="714240"/>
          </a:xfrm>
          <a:custGeom>
            <a:avLst/>
            <a:gdLst/>
            <a:ahLst/>
            <a:rect l="l" t="t" r="r" b="b"/>
            <a:pathLst>
              <a:path w="7269" h="1985">
                <a:moveTo>
                  <a:pt x="11708" y="5259"/>
                </a:moveTo>
                <a:cubicBezTo>
                  <a:pt x="11773" y="5249"/>
                  <a:pt x="11820" y="5246"/>
                  <a:pt x="11881" y="5234"/>
                </a:cubicBezTo>
                <a:cubicBezTo>
                  <a:pt x="11938" y="5223"/>
                  <a:pt x="11998" y="5214"/>
                  <a:pt x="12055" y="5209"/>
                </a:cubicBezTo>
                <a:cubicBezTo>
                  <a:pt x="12113" y="5204"/>
                  <a:pt x="12171" y="5212"/>
                  <a:pt x="12229" y="5209"/>
                </a:cubicBezTo>
                <a:cubicBezTo>
                  <a:pt x="12226" y="5278"/>
                  <a:pt x="12208" y="5343"/>
                  <a:pt x="12204" y="5407"/>
                </a:cubicBezTo>
                <a:cubicBezTo>
                  <a:pt x="12199" y="5502"/>
                  <a:pt x="12224" y="5594"/>
                  <a:pt x="12229" y="5680"/>
                </a:cubicBezTo>
                <a:cubicBezTo>
                  <a:pt x="12234" y="5771"/>
                  <a:pt x="12249" y="5866"/>
                  <a:pt x="12254" y="5953"/>
                </a:cubicBezTo>
                <a:cubicBezTo>
                  <a:pt x="12262" y="6086"/>
                  <a:pt x="12269" y="6217"/>
                  <a:pt x="12278" y="6350"/>
                </a:cubicBezTo>
                <a:cubicBezTo>
                  <a:pt x="12278" y="6383"/>
                  <a:pt x="12278" y="6399"/>
                  <a:pt x="12278" y="6424"/>
                </a:cubicBezTo>
                <a:cubicBezTo>
                  <a:pt x="12287" y="6382"/>
                  <a:pt x="12299" y="6393"/>
                  <a:pt x="12303" y="6350"/>
                </a:cubicBezTo>
                <a:cubicBezTo>
                  <a:pt x="12314" y="6229"/>
                  <a:pt x="12326" y="6125"/>
                  <a:pt x="12353" y="6003"/>
                </a:cubicBezTo>
                <a:cubicBezTo>
                  <a:pt x="12380" y="5878"/>
                  <a:pt x="12400" y="5755"/>
                  <a:pt x="12427" y="5631"/>
                </a:cubicBezTo>
                <a:cubicBezTo>
                  <a:pt x="12454" y="5509"/>
                  <a:pt x="12474" y="5378"/>
                  <a:pt x="12502" y="5259"/>
                </a:cubicBezTo>
                <a:cubicBezTo>
                  <a:pt x="12533" y="5126"/>
                  <a:pt x="12573" y="4991"/>
                  <a:pt x="12601" y="4862"/>
                </a:cubicBezTo>
                <a:cubicBezTo>
                  <a:pt x="12615" y="4796"/>
                  <a:pt x="12611" y="4729"/>
                  <a:pt x="12626" y="4663"/>
                </a:cubicBezTo>
                <a:cubicBezTo>
                  <a:pt x="12636" y="4617"/>
                  <a:pt x="12642" y="4580"/>
                  <a:pt x="12650" y="4539"/>
                </a:cubicBezTo>
                <a:cubicBezTo>
                  <a:pt x="12690" y="4546"/>
                  <a:pt x="12706" y="4560"/>
                  <a:pt x="12750" y="4564"/>
                </a:cubicBezTo>
                <a:cubicBezTo>
                  <a:pt x="12846" y="4572"/>
                  <a:pt x="12935" y="4544"/>
                  <a:pt x="13022" y="4539"/>
                </a:cubicBezTo>
                <a:cubicBezTo>
                  <a:pt x="13827" y="4493"/>
                  <a:pt x="14648" y="4514"/>
                  <a:pt x="15453" y="4514"/>
                </a:cubicBezTo>
                <a:cubicBezTo>
                  <a:pt x="15678" y="4514"/>
                  <a:pt x="15902" y="4501"/>
                  <a:pt x="16123" y="4490"/>
                </a:cubicBezTo>
                <a:cubicBezTo>
                  <a:pt x="16315" y="4480"/>
                  <a:pt x="16510" y="4508"/>
                  <a:pt x="16694" y="4465"/>
                </a:cubicBezTo>
                <a:cubicBezTo>
                  <a:pt x="16803" y="4440"/>
                  <a:pt x="16666" y="4468"/>
                  <a:pt x="16669" y="4465"/>
                </a:cubicBezTo>
              </a:path>
              <a:path w="7269" h="1985">
                <a:moveTo>
                  <a:pt x="12973" y="5135"/>
                </a:moveTo>
                <a:cubicBezTo>
                  <a:pt x="12989" y="5118"/>
                  <a:pt x="13006" y="5101"/>
                  <a:pt x="13022" y="5085"/>
                </a:cubicBezTo>
                <a:cubicBezTo>
                  <a:pt x="13062" y="5045"/>
                  <a:pt x="13120" y="5049"/>
                  <a:pt x="13171" y="5035"/>
                </a:cubicBezTo>
                <a:cubicBezTo>
                  <a:pt x="13246" y="5015"/>
                  <a:pt x="13298" y="5000"/>
                  <a:pt x="13370" y="5035"/>
                </a:cubicBezTo>
                <a:cubicBezTo>
                  <a:pt x="13415" y="5057"/>
                  <a:pt x="13417" y="5093"/>
                  <a:pt x="13419" y="5135"/>
                </a:cubicBezTo>
                <a:cubicBezTo>
                  <a:pt x="13425" y="5237"/>
                  <a:pt x="13313" y="5387"/>
                  <a:pt x="13271" y="5457"/>
                </a:cubicBezTo>
                <a:cubicBezTo>
                  <a:pt x="13210" y="5557"/>
                  <a:pt x="13163" y="5657"/>
                  <a:pt x="13097" y="5755"/>
                </a:cubicBezTo>
                <a:cubicBezTo>
                  <a:pt x="13042" y="5838"/>
                  <a:pt x="12987" y="5936"/>
                  <a:pt x="12948" y="6028"/>
                </a:cubicBezTo>
                <a:cubicBezTo>
                  <a:pt x="12923" y="6087"/>
                  <a:pt x="12890" y="6146"/>
                  <a:pt x="12874" y="6201"/>
                </a:cubicBezTo>
                <a:cubicBezTo>
                  <a:pt x="12874" y="6209"/>
                  <a:pt x="12874" y="6218"/>
                  <a:pt x="12874" y="6226"/>
                </a:cubicBezTo>
                <a:cubicBezTo>
                  <a:pt x="12911" y="6221"/>
                  <a:pt x="12943" y="6220"/>
                  <a:pt x="12973" y="6201"/>
                </a:cubicBezTo>
                <a:cubicBezTo>
                  <a:pt x="13022" y="6171"/>
                  <a:pt x="13043" y="6154"/>
                  <a:pt x="13097" y="6127"/>
                </a:cubicBezTo>
                <a:cubicBezTo>
                  <a:pt x="13137" y="6107"/>
                  <a:pt x="13171" y="6104"/>
                  <a:pt x="13221" y="6102"/>
                </a:cubicBezTo>
                <a:cubicBezTo>
                  <a:pt x="13275" y="6099"/>
                  <a:pt x="13292" y="6081"/>
                  <a:pt x="13345" y="6077"/>
                </a:cubicBezTo>
                <a:cubicBezTo>
                  <a:pt x="13353" y="6077"/>
                  <a:pt x="13362" y="6077"/>
                  <a:pt x="13370" y="6077"/>
                </a:cubicBezTo>
              </a:path>
              <a:path w="7269" h="1985">
                <a:moveTo>
                  <a:pt x="13717" y="5011"/>
                </a:moveTo>
                <a:cubicBezTo>
                  <a:pt x="13772" y="4921"/>
                  <a:pt x="13765" y="4887"/>
                  <a:pt x="13866" y="4887"/>
                </a:cubicBezTo>
                <a:cubicBezTo>
                  <a:pt x="13900" y="4887"/>
                  <a:pt x="13970" y="4872"/>
                  <a:pt x="13990" y="4911"/>
                </a:cubicBezTo>
                <a:cubicBezTo>
                  <a:pt x="14022" y="4975"/>
                  <a:pt x="13985" y="5023"/>
                  <a:pt x="13940" y="5085"/>
                </a:cubicBezTo>
                <a:cubicBezTo>
                  <a:pt x="13886" y="5161"/>
                  <a:pt x="13813" y="5207"/>
                  <a:pt x="13742" y="5259"/>
                </a:cubicBezTo>
                <a:cubicBezTo>
                  <a:pt x="13700" y="5290"/>
                  <a:pt x="13692" y="5309"/>
                  <a:pt x="13692" y="5358"/>
                </a:cubicBezTo>
                <a:cubicBezTo>
                  <a:pt x="13745" y="5358"/>
                  <a:pt x="13766" y="5342"/>
                  <a:pt x="13816" y="5333"/>
                </a:cubicBezTo>
                <a:cubicBezTo>
                  <a:pt x="13887" y="5320"/>
                  <a:pt x="13969" y="5325"/>
                  <a:pt x="14039" y="5308"/>
                </a:cubicBezTo>
                <a:cubicBezTo>
                  <a:pt x="14056" y="5300"/>
                  <a:pt x="14072" y="5291"/>
                  <a:pt x="14089" y="5283"/>
                </a:cubicBezTo>
              </a:path>
              <a:path w="7269" h="1985">
                <a:moveTo>
                  <a:pt x="14412" y="5358"/>
                </a:moveTo>
                <a:cubicBezTo>
                  <a:pt x="14394" y="5423"/>
                  <a:pt x="14368" y="5511"/>
                  <a:pt x="14387" y="5581"/>
                </a:cubicBezTo>
                <a:cubicBezTo>
                  <a:pt x="14404" y="5641"/>
                  <a:pt x="14412" y="5665"/>
                  <a:pt x="14412" y="5730"/>
                </a:cubicBezTo>
                <a:cubicBezTo>
                  <a:pt x="14412" y="5770"/>
                  <a:pt x="14433" y="5808"/>
                  <a:pt x="14412" y="5779"/>
                </a:cubicBezTo>
                <a:cubicBezTo>
                  <a:pt x="14404" y="5771"/>
                  <a:pt x="14395" y="5763"/>
                  <a:pt x="14387" y="5755"/>
                </a:cubicBezTo>
              </a:path>
              <a:path w="7269" h="1985">
                <a:moveTo>
                  <a:pt x="14139" y="5581"/>
                </a:moveTo>
                <a:cubicBezTo>
                  <a:pt x="14237" y="5581"/>
                  <a:pt x="14318" y="5570"/>
                  <a:pt x="14412" y="5556"/>
                </a:cubicBezTo>
                <a:cubicBezTo>
                  <a:pt x="14495" y="5556"/>
                  <a:pt x="14545" y="5550"/>
                  <a:pt x="14610" y="5531"/>
                </a:cubicBezTo>
              </a:path>
              <a:path w="7269" h="1985">
                <a:moveTo>
                  <a:pt x="15032" y="5110"/>
                </a:moveTo>
                <a:cubicBezTo>
                  <a:pt x="14984" y="5196"/>
                  <a:pt x="14931" y="5276"/>
                  <a:pt x="14883" y="5358"/>
                </a:cubicBezTo>
                <a:cubicBezTo>
                  <a:pt x="14826" y="5456"/>
                  <a:pt x="14775" y="5565"/>
                  <a:pt x="14759" y="5680"/>
                </a:cubicBezTo>
                <a:cubicBezTo>
                  <a:pt x="14746" y="5770"/>
                  <a:pt x="14713" y="5886"/>
                  <a:pt x="14734" y="5978"/>
                </a:cubicBezTo>
                <a:cubicBezTo>
                  <a:pt x="14748" y="6038"/>
                  <a:pt x="14798" y="6100"/>
                  <a:pt x="14833" y="6127"/>
                </a:cubicBezTo>
                <a:cubicBezTo>
                  <a:pt x="14891" y="6172"/>
                  <a:pt x="14930" y="6149"/>
                  <a:pt x="14982" y="6102"/>
                </a:cubicBezTo>
                <a:cubicBezTo>
                  <a:pt x="14990" y="6094"/>
                  <a:pt x="14999" y="6085"/>
                  <a:pt x="15007" y="6077"/>
                </a:cubicBezTo>
              </a:path>
              <a:path w="7269" h="1985">
                <a:moveTo>
                  <a:pt x="15106" y="5556"/>
                </a:moveTo>
                <a:cubicBezTo>
                  <a:pt x="15165" y="5556"/>
                  <a:pt x="15200" y="5535"/>
                  <a:pt x="15255" y="5531"/>
                </a:cubicBezTo>
                <a:cubicBezTo>
                  <a:pt x="15314" y="5527"/>
                  <a:pt x="15333" y="5518"/>
                  <a:pt x="15379" y="5482"/>
                </a:cubicBezTo>
              </a:path>
              <a:path w="7269" h="1985">
                <a:moveTo>
                  <a:pt x="15478" y="5283"/>
                </a:moveTo>
                <a:cubicBezTo>
                  <a:pt x="15584" y="5224"/>
                  <a:pt x="15658" y="5161"/>
                  <a:pt x="15776" y="5234"/>
                </a:cubicBezTo>
                <a:cubicBezTo>
                  <a:pt x="15821" y="5262"/>
                  <a:pt x="15810" y="5350"/>
                  <a:pt x="15776" y="5383"/>
                </a:cubicBezTo>
                <a:cubicBezTo>
                  <a:pt x="15727" y="5432"/>
                  <a:pt x="15664" y="5490"/>
                  <a:pt x="15602" y="5531"/>
                </a:cubicBezTo>
                <a:cubicBezTo>
                  <a:pt x="15558" y="5560"/>
                  <a:pt x="15515" y="5569"/>
                  <a:pt x="15503" y="5606"/>
                </a:cubicBezTo>
                <a:cubicBezTo>
                  <a:pt x="15512" y="5578"/>
                  <a:pt x="15537" y="5561"/>
                  <a:pt x="15577" y="5556"/>
                </a:cubicBezTo>
                <a:cubicBezTo>
                  <a:pt x="15628" y="5550"/>
                  <a:pt x="15642" y="5571"/>
                  <a:pt x="15677" y="5606"/>
                </a:cubicBezTo>
                <a:cubicBezTo>
                  <a:pt x="15728" y="5658"/>
                  <a:pt x="15707" y="5701"/>
                  <a:pt x="15701" y="5755"/>
                </a:cubicBezTo>
                <a:cubicBezTo>
                  <a:pt x="15693" y="5824"/>
                  <a:pt x="15670" y="5872"/>
                  <a:pt x="15627" y="5928"/>
                </a:cubicBezTo>
                <a:cubicBezTo>
                  <a:pt x="15579" y="5991"/>
                  <a:pt x="15503" y="6024"/>
                  <a:pt x="15429" y="6028"/>
                </a:cubicBezTo>
                <a:cubicBezTo>
                  <a:pt x="15369" y="6031"/>
                  <a:pt x="15325" y="6038"/>
                  <a:pt x="15280" y="6003"/>
                </a:cubicBezTo>
                <a:cubicBezTo>
                  <a:pt x="15292" y="5954"/>
                  <a:pt x="15327" y="5946"/>
                  <a:pt x="15354" y="5904"/>
                </a:cubicBezTo>
                <a:cubicBezTo>
                  <a:pt x="15391" y="5847"/>
                  <a:pt x="15408" y="5807"/>
                  <a:pt x="15453" y="5755"/>
                </a:cubicBezTo>
              </a:path>
              <a:path w="7269" h="1985">
                <a:moveTo>
                  <a:pt x="15949" y="4986"/>
                </a:moveTo>
                <a:cubicBezTo>
                  <a:pt x="16017" y="5052"/>
                  <a:pt x="16045" y="5091"/>
                  <a:pt x="16073" y="5184"/>
                </a:cubicBezTo>
                <a:cubicBezTo>
                  <a:pt x="16124" y="5352"/>
                  <a:pt x="16123" y="5483"/>
                  <a:pt x="16123" y="5655"/>
                </a:cubicBezTo>
                <a:cubicBezTo>
                  <a:pt x="16123" y="5751"/>
                  <a:pt x="16105" y="5862"/>
                  <a:pt x="16073" y="5953"/>
                </a:cubicBezTo>
                <a:cubicBezTo>
                  <a:pt x="16049" y="6021"/>
                  <a:pt x="15984" y="6092"/>
                  <a:pt x="15925" y="6127"/>
                </a:cubicBezTo>
                <a:cubicBezTo>
                  <a:pt x="15881" y="6153"/>
                  <a:pt x="15870" y="6152"/>
                  <a:pt x="15825" y="6152"/>
                </a:cubicBezTo>
                <a:cubicBezTo>
                  <a:pt x="15825" y="6119"/>
                  <a:pt x="15825" y="6085"/>
                  <a:pt x="15825" y="6052"/>
                </a:cubicBezTo>
              </a:path>
              <a:path w="7269" h="1985">
                <a:moveTo>
                  <a:pt x="16247" y="4961"/>
                </a:moveTo>
                <a:cubicBezTo>
                  <a:pt x="16312" y="4945"/>
                  <a:pt x="16426" y="4909"/>
                  <a:pt x="16495" y="4936"/>
                </a:cubicBezTo>
                <a:cubicBezTo>
                  <a:pt x="16541" y="4954"/>
                  <a:pt x="16536" y="5040"/>
                  <a:pt x="16520" y="5060"/>
                </a:cubicBezTo>
                <a:cubicBezTo>
                  <a:pt x="16484" y="5107"/>
                  <a:pt x="16441" y="5126"/>
                  <a:pt x="16396" y="5159"/>
                </a:cubicBezTo>
                <a:cubicBezTo>
                  <a:pt x="16361" y="5185"/>
                  <a:pt x="16365" y="5184"/>
                  <a:pt x="16321" y="5184"/>
                </a:cubicBezTo>
                <a:cubicBezTo>
                  <a:pt x="16334" y="5224"/>
                  <a:pt x="16370" y="5209"/>
                  <a:pt x="16421" y="5209"/>
                </a:cubicBezTo>
                <a:cubicBezTo>
                  <a:pt x="16496" y="5209"/>
                  <a:pt x="16569" y="5227"/>
                  <a:pt x="16644" y="5234"/>
                </a:cubicBezTo>
              </a:path>
              <a:path w="7269" h="1985">
                <a:moveTo>
                  <a:pt x="16818" y="5482"/>
                </a:moveTo>
                <a:cubicBezTo>
                  <a:pt x="16859" y="5482"/>
                  <a:pt x="16901" y="5482"/>
                  <a:pt x="16942" y="5482"/>
                </a:cubicBezTo>
              </a:path>
              <a:path w="7269" h="1985">
                <a:moveTo>
                  <a:pt x="16743" y="5730"/>
                </a:moveTo>
                <a:cubicBezTo>
                  <a:pt x="16828" y="5730"/>
                  <a:pt x="16889" y="5734"/>
                  <a:pt x="16966" y="5705"/>
                </a:cubicBezTo>
              </a:path>
              <a:path w="7269" h="1985">
                <a:moveTo>
                  <a:pt x="17289" y="5507"/>
                </a:moveTo>
                <a:cubicBezTo>
                  <a:pt x="17289" y="5619"/>
                  <a:pt x="17248" y="5772"/>
                  <a:pt x="17264" y="5879"/>
                </a:cubicBezTo>
                <a:cubicBezTo>
                  <a:pt x="17276" y="5961"/>
                  <a:pt x="17304" y="6048"/>
                  <a:pt x="17314" y="6127"/>
                </a:cubicBezTo>
                <a:cubicBezTo>
                  <a:pt x="17321" y="6181"/>
                  <a:pt x="17319" y="6193"/>
                  <a:pt x="17338" y="6226"/>
                </a:cubicBezTo>
                <a:cubicBezTo>
                  <a:pt x="17353" y="6157"/>
                  <a:pt x="17363" y="6099"/>
                  <a:pt x="17363" y="6028"/>
                </a:cubicBezTo>
                <a:cubicBezTo>
                  <a:pt x="17363" y="5796"/>
                  <a:pt x="17257" y="5223"/>
                  <a:pt x="17438" y="5060"/>
                </a:cubicBezTo>
                <a:cubicBezTo>
                  <a:pt x="17494" y="5009"/>
                  <a:pt x="17617" y="4993"/>
                  <a:pt x="17686" y="4986"/>
                </a:cubicBezTo>
                <a:cubicBezTo>
                  <a:pt x="18064" y="4950"/>
                  <a:pt x="18451" y="4998"/>
                  <a:pt x="18827" y="4961"/>
                </a:cubicBezTo>
                <a:cubicBezTo>
                  <a:pt x="18836" y="4960"/>
                  <a:pt x="19004" y="4981"/>
                  <a:pt x="18976" y="4936"/>
                </a:cubicBezTo>
                <a:cubicBezTo>
                  <a:pt x="18959" y="4928"/>
                  <a:pt x="18943" y="4919"/>
                  <a:pt x="18926" y="4911"/>
                </a:cubicBezTo>
              </a:path>
              <a:path w="7269" h="1985">
                <a:moveTo>
                  <a:pt x="17884" y="5333"/>
                </a:moveTo>
                <a:cubicBezTo>
                  <a:pt x="17878" y="5444"/>
                  <a:pt x="17859" y="5544"/>
                  <a:pt x="17859" y="5655"/>
                </a:cubicBezTo>
                <a:cubicBezTo>
                  <a:pt x="17859" y="5763"/>
                  <a:pt x="17867" y="5853"/>
                  <a:pt x="17884" y="5953"/>
                </a:cubicBezTo>
                <a:cubicBezTo>
                  <a:pt x="17885" y="5956"/>
                  <a:pt x="17872" y="6090"/>
                  <a:pt x="17909" y="6077"/>
                </a:cubicBezTo>
                <a:cubicBezTo>
                  <a:pt x="17909" y="6052"/>
                  <a:pt x="17909" y="6044"/>
                  <a:pt x="17909" y="6028"/>
                </a:cubicBezTo>
              </a:path>
              <a:path w="7269" h="1985">
                <a:moveTo>
                  <a:pt x="18083" y="5432"/>
                </a:moveTo>
                <a:cubicBezTo>
                  <a:pt x="18153" y="5383"/>
                  <a:pt x="18236" y="5307"/>
                  <a:pt x="18331" y="5333"/>
                </a:cubicBezTo>
                <a:cubicBezTo>
                  <a:pt x="18361" y="5341"/>
                  <a:pt x="18403" y="5406"/>
                  <a:pt x="18405" y="5432"/>
                </a:cubicBezTo>
                <a:cubicBezTo>
                  <a:pt x="18409" y="5490"/>
                  <a:pt x="18370" y="5539"/>
                  <a:pt x="18331" y="5581"/>
                </a:cubicBezTo>
                <a:cubicBezTo>
                  <a:pt x="18295" y="5619"/>
                  <a:pt x="18205" y="5663"/>
                  <a:pt x="18182" y="5705"/>
                </a:cubicBezTo>
                <a:cubicBezTo>
                  <a:pt x="18165" y="5736"/>
                  <a:pt x="18168" y="5721"/>
                  <a:pt x="18157" y="5755"/>
                </a:cubicBezTo>
                <a:cubicBezTo>
                  <a:pt x="18203" y="5755"/>
                  <a:pt x="18215" y="5735"/>
                  <a:pt x="18256" y="5730"/>
                </a:cubicBezTo>
                <a:cubicBezTo>
                  <a:pt x="18296" y="5726"/>
                  <a:pt x="18338" y="5690"/>
                  <a:pt x="18380" y="5705"/>
                </a:cubicBezTo>
                <a:cubicBezTo>
                  <a:pt x="18436" y="5725"/>
                  <a:pt x="18462" y="5737"/>
                  <a:pt x="18504" y="5779"/>
                </a:cubicBezTo>
                <a:cubicBezTo>
                  <a:pt x="18538" y="5812"/>
                  <a:pt x="18579" y="5878"/>
                  <a:pt x="18554" y="5928"/>
                </a:cubicBezTo>
                <a:cubicBezTo>
                  <a:pt x="18515" y="6006"/>
                  <a:pt x="18514" y="6019"/>
                  <a:pt x="18430" y="6052"/>
                </a:cubicBezTo>
                <a:cubicBezTo>
                  <a:pt x="18377" y="6073"/>
                  <a:pt x="18313" y="6099"/>
                  <a:pt x="18256" y="6102"/>
                </a:cubicBezTo>
                <a:cubicBezTo>
                  <a:pt x="18182" y="6106"/>
                  <a:pt x="18107" y="6102"/>
                  <a:pt x="18033" y="61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63800" y="2419200"/>
            <a:ext cx="420480" cy="501840"/>
          </a:xfrm>
          <a:custGeom>
            <a:avLst/>
            <a:gdLst/>
            <a:ahLst/>
            <a:rect l="l" t="t" r="r" b="b"/>
            <a:pathLst>
              <a:path w="1167" h="1390">
                <a:moveTo>
                  <a:pt x="5457" y="6921"/>
                </a:moveTo>
                <a:cubicBezTo>
                  <a:pt x="5623" y="6879"/>
                  <a:pt x="5787" y="6835"/>
                  <a:pt x="5953" y="6796"/>
                </a:cubicBezTo>
                <a:cubicBezTo>
                  <a:pt x="6078" y="6767"/>
                  <a:pt x="6202" y="6772"/>
                  <a:pt x="6325" y="6747"/>
                </a:cubicBezTo>
                <a:cubicBezTo>
                  <a:pt x="6383" y="6735"/>
                  <a:pt x="6558" y="6722"/>
                  <a:pt x="6499" y="6722"/>
                </a:cubicBezTo>
                <a:cubicBezTo>
                  <a:pt x="6471" y="6722"/>
                  <a:pt x="6460" y="6724"/>
                  <a:pt x="6449" y="6747"/>
                </a:cubicBezTo>
              </a:path>
              <a:path w="1167" h="1390">
                <a:moveTo>
                  <a:pt x="5556" y="7268"/>
                </a:moveTo>
                <a:cubicBezTo>
                  <a:pt x="5556" y="7508"/>
                  <a:pt x="5556" y="7934"/>
                  <a:pt x="5556" y="8086"/>
                </a:cubicBezTo>
                <a:cubicBezTo>
                  <a:pt x="5529" y="8016"/>
                  <a:pt x="5531" y="7964"/>
                  <a:pt x="5531" y="7888"/>
                </a:cubicBezTo>
                <a:cubicBezTo>
                  <a:pt x="5531" y="7758"/>
                  <a:pt x="5538" y="7641"/>
                  <a:pt x="5556" y="7516"/>
                </a:cubicBezTo>
                <a:cubicBezTo>
                  <a:pt x="5571" y="7411"/>
                  <a:pt x="5617" y="7356"/>
                  <a:pt x="5705" y="7293"/>
                </a:cubicBezTo>
                <a:cubicBezTo>
                  <a:pt x="5790" y="7232"/>
                  <a:pt x="5881" y="7180"/>
                  <a:pt x="5978" y="7144"/>
                </a:cubicBezTo>
                <a:cubicBezTo>
                  <a:pt x="6067" y="7111"/>
                  <a:pt x="6161" y="7117"/>
                  <a:pt x="6251" y="7094"/>
                </a:cubicBezTo>
                <a:cubicBezTo>
                  <a:pt x="6398" y="7057"/>
                  <a:pt x="6295" y="7075"/>
                  <a:pt x="6350" y="7094"/>
                </a:cubicBezTo>
              </a:path>
              <a:path w="1167" h="1390">
                <a:moveTo>
                  <a:pt x="5928" y="7516"/>
                </a:moveTo>
                <a:cubicBezTo>
                  <a:pt x="5950" y="7623"/>
                  <a:pt x="5978" y="7708"/>
                  <a:pt x="5978" y="7813"/>
                </a:cubicBezTo>
                <a:cubicBezTo>
                  <a:pt x="5978" y="7903"/>
                  <a:pt x="6003" y="7914"/>
                  <a:pt x="6003" y="7987"/>
                </a:cubicBezTo>
                <a:cubicBezTo>
                  <a:pt x="6003" y="8056"/>
                  <a:pt x="6000" y="7947"/>
                  <a:pt x="6003" y="7938"/>
                </a:cubicBezTo>
                <a:cubicBezTo>
                  <a:pt x="6025" y="7877"/>
                  <a:pt x="6030" y="7825"/>
                  <a:pt x="6052" y="7764"/>
                </a:cubicBezTo>
              </a:path>
              <a:path w="1167" h="1390">
                <a:moveTo>
                  <a:pt x="6176" y="7466"/>
                </a:moveTo>
                <a:cubicBezTo>
                  <a:pt x="6239" y="7421"/>
                  <a:pt x="6317" y="7348"/>
                  <a:pt x="6400" y="7342"/>
                </a:cubicBezTo>
                <a:cubicBezTo>
                  <a:pt x="6444" y="7342"/>
                  <a:pt x="6458" y="7339"/>
                  <a:pt x="6474" y="7367"/>
                </a:cubicBezTo>
                <a:cubicBezTo>
                  <a:pt x="6474" y="7418"/>
                  <a:pt x="6456" y="7448"/>
                  <a:pt x="6424" y="7491"/>
                </a:cubicBezTo>
                <a:cubicBezTo>
                  <a:pt x="6386" y="7542"/>
                  <a:pt x="6310" y="7570"/>
                  <a:pt x="6276" y="7615"/>
                </a:cubicBezTo>
                <a:cubicBezTo>
                  <a:pt x="6276" y="7640"/>
                  <a:pt x="6276" y="7648"/>
                  <a:pt x="6251" y="7640"/>
                </a:cubicBezTo>
                <a:cubicBezTo>
                  <a:pt x="6275" y="7677"/>
                  <a:pt x="6317" y="7665"/>
                  <a:pt x="6375" y="7665"/>
                </a:cubicBezTo>
                <a:cubicBezTo>
                  <a:pt x="6436" y="7665"/>
                  <a:pt x="6520" y="7664"/>
                  <a:pt x="6573" y="7689"/>
                </a:cubicBezTo>
                <a:cubicBezTo>
                  <a:pt x="6639" y="7720"/>
                  <a:pt x="6633" y="7819"/>
                  <a:pt x="6598" y="7863"/>
                </a:cubicBezTo>
                <a:cubicBezTo>
                  <a:pt x="6541" y="7934"/>
                  <a:pt x="6478" y="7950"/>
                  <a:pt x="6400" y="7987"/>
                </a:cubicBezTo>
                <a:cubicBezTo>
                  <a:pt x="6373" y="8000"/>
                  <a:pt x="6255" y="8041"/>
                  <a:pt x="6226" y="8012"/>
                </a:cubicBezTo>
                <a:cubicBezTo>
                  <a:pt x="6193" y="7979"/>
                  <a:pt x="6214" y="7959"/>
                  <a:pt x="6251" y="79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24120" y="2295360"/>
            <a:ext cx="438120" cy="509760"/>
          </a:xfrm>
          <a:custGeom>
            <a:avLst/>
            <a:gdLst/>
            <a:ahLst/>
            <a:rect l="l" t="t" r="r" b="b"/>
            <a:pathLst>
              <a:path w="1217" h="1415">
                <a:moveTo>
                  <a:pt x="7565" y="6672"/>
                </a:moveTo>
                <a:cubicBezTo>
                  <a:pt x="7674" y="6622"/>
                  <a:pt x="7774" y="6583"/>
                  <a:pt x="7888" y="6548"/>
                </a:cubicBezTo>
                <a:cubicBezTo>
                  <a:pt x="8005" y="6512"/>
                  <a:pt x="8118" y="6505"/>
                  <a:pt x="8235" y="6474"/>
                </a:cubicBezTo>
                <a:cubicBezTo>
                  <a:pt x="8310" y="6454"/>
                  <a:pt x="8419" y="6436"/>
                  <a:pt x="8483" y="6400"/>
                </a:cubicBezTo>
                <a:cubicBezTo>
                  <a:pt x="8506" y="6377"/>
                  <a:pt x="8517" y="6369"/>
                  <a:pt x="8483" y="6375"/>
                </a:cubicBezTo>
              </a:path>
              <a:path w="1217" h="1415">
                <a:moveTo>
                  <a:pt x="7838" y="6846"/>
                </a:moveTo>
                <a:cubicBezTo>
                  <a:pt x="7819" y="6959"/>
                  <a:pt x="7813" y="7055"/>
                  <a:pt x="7813" y="7169"/>
                </a:cubicBezTo>
                <a:cubicBezTo>
                  <a:pt x="7813" y="7274"/>
                  <a:pt x="7802" y="7365"/>
                  <a:pt x="7789" y="7466"/>
                </a:cubicBezTo>
                <a:cubicBezTo>
                  <a:pt x="7783" y="7512"/>
                  <a:pt x="7758" y="7685"/>
                  <a:pt x="7764" y="7714"/>
                </a:cubicBezTo>
                <a:cubicBezTo>
                  <a:pt x="7772" y="7722"/>
                  <a:pt x="7781" y="7731"/>
                  <a:pt x="7789" y="7739"/>
                </a:cubicBezTo>
                <a:cubicBezTo>
                  <a:pt x="7789" y="7698"/>
                  <a:pt x="7789" y="7706"/>
                  <a:pt x="7789" y="7665"/>
                </a:cubicBezTo>
                <a:cubicBezTo>
                  <a:pt x="7789" y="7528"/>
                  <a:pt x="7781" y="7397"/>
                  <a:pt x="7764" y="7268"/>
                </a:cubicBezTo>
                <a:cubicBezTo>
                  <a:pt x="7756" y="7208"/>
                  <a:pt x="7750" y="7114"/>
                  <a:pt x="7789" y="7069"/>
                </a:cubicBezTo>
                <a:cubicBezTo>
                  <a:pt x="7850" y="6998"/>
                  <a:pt x="7903" y="6938"/>
                  <a:pt x="7987" y="6896"/>
                </a:cubicBezTo>
                <a:cubicBezTo>
                  <a:pt x="8090" y="6845"/>
                  <a:pt x="8202" y="6841"/>
                  <a:pt x="8310" y="6821"/>
                </a:cubicBezTo>
                <a:cubicBezTo>
                  <a:pt x="8412" y="6802"/>
                  <a:pt x="8506" y="6776"/>
                  <a:pt x="8607" y="6772"/>
                </a:cubicBezTo>
                <a:cubicBezTo>
                  <a:pt x="8656" y="6770"/>
                  <a:pt x="8715" y="6772"/>
                  <a:pt x="8632" y="6772"/>
                </a:cubicBezTo>
              </a:path>
              <a:path w="1217" h="1415">
                <a:moveTo>
                  <a:pt x="8136" y="7193"/>
                </a:moveTo>
                <a:cubicBezTo>
                  <a:pt x="8113" y="7324"/>
                  <a:pt x="8117" y="7352"/>
                  <a:pt x="8136" y="7466"/>
                </a:cubicBezTo>
                <a:cubicBezTo>
                  <a:pt x="8149" y="7544"/>
                  <a:pt x="8136" y="7634"/>
                  <a:pt x="8136" y="7714"/>
                </a:cubicBezTo>
                <a:cubicBezTo>
                  <a:pt x="8136" y="7661"/>
                  <a:pt x="8142" y="7651"/>
                  <a:pt x="8161" y="7590"/>
                </a:cubicBezTo>
              </a:path>
              <a:path w="1217" h="1415">
                <a:moveTo>
                  <a:pt x="8359" y="7193"/>
                </a:moveTo>
                <a:cubicBezTo>
                  <a:pt x="8432" y="7157"/>
                  <a:pt x="8519" y="7094"/>
                  <a:pt x="8607" y="7119"/>
                </a:cubicBezTo>
                <a:cubicBezTo>
                  <a:pt x="8642" y="7129"/>
                  <a:pt x="8709" y="7170"/>
                  <a:pt x="8682" y="7218"/>
                </a:cubicBezTo>
                <a:cubicBezTo>
                  <a:pt x="8657" y="7262"/>
                  <a:pt x="8580" y="7326"/>
                  <a:pt x="8533" y="7342"/>
                </a:cubicBezTo>
                <a:cubicBezTo>
                  <a:pt x="8501" y="7353"/>
                  <a:pt x="8494" y="7360"/>
                  <a:pt x="8483" y="7392"/>
                </a:cubicBezTo>
                <a:cubicBezTo>
                  <a:pt x="8527" y="7425"/>
                  <a:pt x="8583" y="7432"/>
                  <a:pt x="8632" y="7466"/>
                </a:cubicBezTo>
                <a:cubicBezTo>
                  <a:pt x="8702" y="7514"/>
                  <a:pt x="8772" y="7552"/>
                  <a:pt x="8781" y="7640"/>
                </a:cubicBezTo>
                <a:cubicBezTo>
                  <a:pt x="8787" y="7699"/>
                  <a:pt x="8720" y="7699"/>
                  <a:pt x="8682" y="7714"/>
                </a:cubicBezTo>
                <a:cubicBezTo>
                  <a:pt x="8593" y="7750"/>
                  <a:pt x="8550" y="7746"/>
                  <a:pt x="8458" y="7764"/>
                </a:cubicBezTo>
                <a:cubicBezTo>
                  <a:pt x="8385" y="7789"/>
                  <a:pt x="8362" y="7797"/>
                  <a:pt x="8310" y="77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9760" y="3456000"/>
            <a:ext cx="509400" cy="374760"/>
          </a:xfrm>
          <a:custGeom>
            <a:avLst/>
            <a:gdLst/>
            <a:ahLst/>
            <a:rect l="l" t="t" r="r" b="b"/>
            <a:pathLst>
              <a:path w="1415" h="1043">
                <a:moveTo>
                  <a:pt x="1439" y="9599"/>
                </a:moveTo>
                <a:cubicBezTo>
                  <a:pt x="1439" y="9703"/>
                  <a:pt x="1425" y="9796"/>
                  <a:pt x="1414" y="9897"/>
                </a:cubicBezTo>
                <a:cubicBezTo>
                  <a:pt x="1390" y="10114"/>
                  <a:pt x="1414" y="10347"/>
                  <a:pt x="1414" y="10567"/>
                </a:cubicBezTo>
                <a:cubicBezTo>
                  <a:pt x="1435" y="10546"/>
                  <a:pt x="1447" y="10493"/>
                  <a:pt x="1463" y="10443"/>
                </a:cubicBezTo>
              </a:path>
              <a:path w="1415" h="1043">
                <a:moveTo>
                  <a:pt x="1910" y="9748"/>
                </a:moveTo>
                <a:cubicBezTo>
                  <a:pt x="1910" y="9832"/>
                  <a:pt x="1898" y="9914"/>
                  <a:pt x="1885" y="9996"/>
                </a:cubicBezTo>
                <a:cubicBezTo>
                  <a:pt x="1866" y="10111"/>
                  <a:pt x="1815" y="10225"/>
                  <a:pt x="1836" y="10344"/>
                </a:cubicBezTo>
                <a:cubicBezTo>
                  <a:pt x="1855" y="10451"/>
                  <a:pt x="1860" y="10492"/>
                  <a:pt x="1935" y="10567"/>
                </a:cubicBezTo>
                <a:cubicBezTo>
                  <a:pt x="2067" y="10699"/>
                  <a:pt x="2073" y="10607"/>
                  <a:pt x="2208" y="10517"/>
                </a:cubicBezTo>
                <a:cubicBezTo>
                  <a:pt x="2293" y="10460"/>
                  <a:pt x="2341" y="10374"/>
                  <a:pt x="2356" y="10269"/>
                </a:cubicBezTo>
                <a:cubicBezTo>
                  <a:pt x="2371" y="10163"/>
                  <a:pt x="2347" y="10009"/>
                  <a:pt x="2282" y="9922"/>
                </a:cubicBezTo>
                <a:cubicBezTo>
                  <a:pt x="2253" y="9882"/>
                  <a:pt x="2159" y="9826"/>
                  <a:pt x="2108" y="9823"/>
                </a:cubicBezTo>
                <a:cubicBezTo>
                  <a:pt x="2067" y="9820"/>
                  <a:pt x="2025" y="9823"/>
                  <a:pt x="1984" y="9823"/>
                </a:cubicBezTo>
              </a:path>
              <a:path w="1415" h="1043">
                <a:moveTo>
                  <a:pt x="2828" y="10517"/>
                </a:moveTo>
                <a:lnTo>
                  <a:pt x="2828" y="10517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74840" y="3303720"/>
            <a:ext cx="2894040" cy="965160"/>
          </a:xfrm>
          <a:custGeom>
            <a:avLst/>
            <a:gdLst/>
            <a:ahLst/>
            <a:rect l="l" t="t" r="r" b="b"/>
            <a:pathLst>
              <a:path w="8038" h="2680">
                <a:moveTo>
                  <a:pt x="4787" y="9178"/>
                </a:moveTo>
                <a:cubicBezTo>
                  <a:pt x="4724" y="9234"/>
                  <a:pt x="4647" y="9260"/>
                  <a:pt x="4589" y="9302"/>
                </a:cubicBezTo>
                <a:cubicBezTo>
                  <a:pt x="4484" y="9378"/>
                  <a:pt x="4374" y="9428"/>
                  <a:pt x="4266" y="9500"/>
                </a:cubicBezTo>
                <a:cubicBezTo>
                  <a:pt x="4175" y="9561"/>
                  <a:pt x="4083" y="9618"/>
                  <a:pt x="3994" y="9674"/>
                </a:cubicBezTo>
                <a:cubicBezTo>
                  <a:pt x="3944" y="9706"/>
                  <a:pt x="3836" y="9784"/>
                  <a:pt x="3820" y="9823"/>
                </a:cubicBezTo>
                <a:cubicBezTo>
                  <a:pt x="3801" y="9869"/>
                  <a:pt x="3846" y="9928"/>
                  <a:pt x="3870" y="9971"/>
                </a:cubicBezTo>
                <a:cubicBezTo>
                  <a:pt x="3933" y="10085"/>
                  <a:pt x="4048" y="10162"/>
                  <a:pt x="4118" y="10269"/>
                </a:cubicBezTo>
                <a:cubicBezTo>
                  <a:pt x="4213" y="10415"/>
                  <a:pt x="4288" y="10584"/>
                  <a:pt x="4366" y="10740"/>
                </a:cubicBezTo>
                <a:cubicBezTo>
                  <a:pt x="4437" y="10883"/>
                  <a:pt x="4513" y="11036"/>
                  <a:pt x="4564" y="11187"/>
                </a:cubicBezTo>
                <a:cubicBezTo>
                  <a:pt x="4598" y="11288"/>
                  <a:pt x="4617" y="11388"/>
                  <a:pt x="4663" y="11485"/>
                </a:cubicBezTo>
                <a:cubicBezTo>
                  <a:pt x="4687" y="11536"/>
                  <a:pt x="4683" y="11556"/>
                  <a:pt x="4688" y="11609"/>
                </a:cubicBezTo>
                <a:cubicBezTo>
                  <a:pt x="4692" y="11597"/>
                  <a:pt x="4722" y="11523"/>
                  <a:pt x="4738" y="11485"/>
                </a:cubicBezTo>
                <a:cubicBezTo>
                  <a:pt x="4746" y="11468"/>
                  <a:pt x="4754" y="11452"/>
                  <a:pt x="4762" y="11435"/>
                </a:cubicBezTo>
              </a:path>
              <a:path w="8038" h="2680">
                <a:moveTo>
                  <a:pt x="5333" y="9525"/>
                </a:moveTo>
                <a:cubicBezTo>
                  <a:pt x="5436" y="9291"/>
                  <a:pt x="5355" y="9450"/>
                  <a:pt x="5482" y="9376"/>
                </a:cubicBezTo>
                <a:cubicBezTo>
                  <a:pt x="5559" y="9331"/>
                  <a:pt x="5666" y="9365"/>
                  <a:pt x="5755" y="9451"/>
                </a:cubicBezTo>
                <a:cubicBezTo>
                  <a:pt x="5829" y="9522"/>
                  <a:pt x="5847" y="9652"/>
                  <a:pt x="5829" y="9748"/>
                </a:cubicBezTo>
                <a:cubicBezTo>
                  <a:pt x="5805" y="9878"/>
                  <a:pt x="5765" y="9927"/>
                  <a:pt x="5680" y="9996"/>
                </a:cubicBezTo>
                <a:cubicBezTo>
                  <a:pt x="5613" y="10050"/>
                  <a:pt x="5515" y="10097"/>
                  <a:pt x="5432" y="10120"/>
                </a:cubicBezTo>
                <a:cubicBezTo>
                  <a:pt x="5380" y="10135"/>
                  <a:pt x="5324" y="10100"/>
                  <a:pt x="5308" y="10071"/>
                </a:cubicBezTo>
                <a:cubicBezTo>
                  <a:pt x="5277" y="10016"/>
                  <a:pt x="5369" y="9941"/>
                  <a:pt x="5407" y="9922"/>
                </a:cubicBezTo>
                <a:cubicBezTo>
                  <a:pt x="5469" y="9891"/>
                  <a:pt x="5568" y="9952"/>
                  <a:pt x="5606" y="9996"/>
                </a:cubicBezTo>
                <a:cubicBezTo>
                  <a:pt x="5648" y="10044"/>
                  <a:pt x="5696" y="10088"/>
                  <a:pt x="5730" y="10145"/>
                </a:cubicBezTo>
                <a:cubicBezTo>
                  <a:pt x="5767" y="10206"/>
                  <a:pt x="5763" y="10195"/>
                  <a:pt x="5829" y="10195"/>
                </a:cubicBezTo>
              </a:path>
              <a:path w="8038" h="2680">
                <a:moveTo>
                  <a:pt x="6176" y="9550"/>
                </a:moveTo>
                <a:cubicBezTo>
                  <a:pt x="6153" y="9707"/>
                  <a:pt x="6146" y="9773"/>
                  <a:pt x="6152" y="9897"/>
                </a:cubicBezTo>
                <a:cubicBezTo>
                  <a:pt x="6156" y="9981"/>
                  <a:pt x="6160" y="10041"/>
                  <a:pt x="6176" y="10120"/>
                </a:cubicBezTo>
                <a:cubicBezTo>
                  <a:pt x="6176" y="10128"/>
                  <a:pt x="6176" y="10137"/>
                  <a:pt x="6176" y="10145"/>
                </a:cubicBezTo>
                <a:cubicBezTo>
                  <a:pt x="6149" y="10089"/>
                  <a:pt x="6152" y="10038"/>
                  <a:pt x="6152" y="9971"/>
                </a:cubicBezTo>
                <a:cubicBezTo>
                  <a:pt x="6152" y="9868"/>
                  <a:pt x="6164" y="9764"/>
                  <a:pt x="6176" y="9674"/>
                </a:cubicBezTo>
                <a:cubicBezTo>
                  <a:pt x="6189" y="9581"/>
                  <a:pt x="6217" y="9527"/>
                  <a:pt x="6300" y="9475"/>
                </a:cubicBezTo>
                <a:cubicBezTo>
                  <a:pt x="6410" y="9406"/>
                  <a:pt x="6548" y="9352"/>
                  <a:pt x="6672" y="9327"/>
                </a:cubicBezTo>
                <a:cubicBezTo>
                  <a:pt x="6785" y="9305"/>
                  <a:pt x="7030" y="9299"/>
                  <a:pt x="7069" y="9376"/>
                </a:cubicBezTo>
              </a:path>
              <a:path w="8038" h="2680">
                <a:moveTo>
                  <a:pt x="6672" y="9699"/>
                </a:moveTo>
                <a:cubicBezTo>
                  <a:pt x="6672" y="9884"/>
                  <a:pt x="6644" y="10373"/>
                  <a:pt x="6697" y="10195"/>
                </a:cubicBezTo>
                <a:cubicBezTo>
                  <a:pt x="6697" y="10150"/>
                  <a:pt x="6694" y="10137"/>
                  <a:pt x="6722" y="10120"/>
                </a:cubicBezTo>
              </a:path>
              <a:path w="8038" h="2680">
                <a:moveTo>
                  <a:pt x="6945" y="9599"/>
                </a:moveTo>
                <a:cubicBezTo>
                  <a:pt x="7011" y="9599"/>
                  <a:pt x="7199" y="9566"/>
                  <a:pt x="7243" y="9624"/>
                </a:cubicBezTo>
                <a:cubicBezTo>
                  <a:pt x="7277" y="9669"/>
                  <a:pt x="7308" y="9683"/>
                  <a:pt x="7293" y="9748"/>
                </a:cubicBezTo>
                <a:cubicBezTo>
                  <a:pt x="7277" y="9818"/>
                  <a:pt x="7203" y="9882"/>
                  <a:pt x="7144" y="9897"/>
                </a:cubicBezTo>
                <a:cubicBezTo>
                  <a:pt x="7099" y="9908"/>
                  <a:pt x="7080" y="9950"/>
                  <a:pt x="7045" y="9971"/>
                </a:cubicBezTo>
                <a:cubicBezTo>
                  <a:pt x="7104" y="9971"/>
                  <a:pt x="7257" y="9943"/>
                  <a:pt x="7293" y="9996"/>
                </a:cubicBezTo>
                <a:cubicBezTo>
                  <a:pt x="7330" y="10051"/>
                  <a:pt x="7342" y="10080"/>
                  <a:pt x="7342" y="10145"/>
                </a:cubicBezTo>
                <a:cubicBezTo>
                  <a:pt x="7342" y="10191"/>
                  <a:pt x="7295" y="10239"/>
                  <a:pt x="7243" y="10269"/>
                </a:cubicBezTo>
                <a:cubicBezTo>
                  <a:pt x="7157" y="10319"/>
                  <a:pt x="6871" y="10269"/>
                  <a:pt x="6772" y="10269"/>
                </a:cubicBezTo>
              </a:path>
              <a:path w="8038" h="2680">
                <a:moveTo>
                  <a:pt x="5507" y="10368"/>
                </a:moveTo>
                <a:cubicBezTo>
                  <a:pt x="5615" y="10450"/>
                  <a:pt x="5707" y="10440"/>
                  <a:pt x="5854" y="10443"/>
                </a:cubicBezTo>
                <a:cubicBezTo>
                  <a:pt x="6031" y="10447"/>
                  <a:pt x="6183" y="10472"/>
                  <a:pt x="6350" y="10492"/>
                </a:cubicBezTo>
                <a:cubicBezTo>
                  <a:pt x="6607" y="10522"/>
                  <a:pt x="6885" y="10492"/>
                  <a:pt x="7144" y="10492"/>
                </a:cubicBezTo>
                <a:cubicBezTo>
                  <a:pt x="7086" y="10492"/>
                  <a:pt x="7028" y="10492"/>
                  <a:pt x="6970" y="10492"/>
                </a:cubicBezTo>
              </a:path>
              <a:path w="8038" h="2680">
                <a:moveTo>
                  <a:pt x="6028" y="10964"/>
                </a:moveTo>
                <a:cubicBezTo>
                  <a:pt x="6003" y="11088"/>
                  <a:pt x="5947" y="11273"/>
                  <a:pt x="5978" y="11410"/>
                </a:cubicBezTo>
                <a:cubicBezTo>
                  <a:pt x="5991" y="11465"/>
                  <a:pt x="6006" y="11560"/>
                  <a:pt x="6028" y="11609"/>
                </a:cubicBezTo>
                <a:cubicBezTo>
                  <a:pt x="6050" y="11631"/>
                  <a:pt x="6058" y="11636"/>
                  <a:pt x="6052" y="11658"/>
                </a:cubicBezTo>
                <a:cubicBezTo>
                  <a:pt x="6084" y="11615"/>
                  <a:pt x="6085" y="11566"/>
                  <a:pt x="6102" y="11509"/>
                </a:cubicBezTo>
              </a:path>
              <a:path w="8038" h="2680">
                <a:moveTo>
                  <a:pt x="6251" y="11063"/>
                </a:moveTo>
                <a:cubicBezTo>
                  <a:pt x="6419" y="10983"/>
                  <a:pt x="6436" y="10966"/>
                  <a:pt x="6598" y="10988"/>
                </a:cubicBezTo>
                <a:cubicBezTo>
                  <a:pt x="6670" y="10998"/>
                  <a:pt x="6695" y="11000"/>
                  <a:pt x="6722" y="11063"/>
                </a:cubicBezTo>
                <a:cubicBezTo>
                  <a:pt x="6746" y="11117"/>
                  <a:pt x="6736" y="11201"/>
                  <a:pt x="6672" y="11237"/>
                </a:cubicBezTo>
                <a:cubicBezTo>
                  <a:pt x="6643" y="11253"/>
                  <a:pt x="6559" y="11277"/>
                  <a:pt x="6524" y="11286"/>
                </a:cubicBezTo>
                <a:cubicBezTo>
                  <a:pt x="6517" y="11288"/>
                  <a:pt x="6431" y="11286"/>
                  <a:pt x="6499" y="11286"/>
                </a:cubicBezTo>
                <a:cubicBezTo>
                  <a:pt x="6557" y="11286"/>
                  <a:pt x="6602" y="11302"/>
                  <a:pt x="6648" y="11311"/>
                </a:cubicBezTo>
                <a:cubicBezTo>
                  <a:pt x="6723" y="11326"/>
                  <a:pt x="6760" y="11353"/>
                  <a:pt x="6821" y="11410"/>
                </a:cubicBezTo>
                <a:cubicBezTo>
                  <a:pt x="6883" y="11467"/>
                  <a:pt x="6893" y="11553"/>
                  <a:pt x="6896" y="11633"/>
                </a:cubicBezTo>
                <a:cubicBezTo>
                  <a:pt x="6900" y="11731"/>
                  <a:pt x="6856" y="11760"/>
                  <a:pt x="6772" y="11807"/>
                </a:cubicBezTo>
                <a:cubicBezTo>
                  <a:pt x="6728" y="11832"/>
                  <a:pt x="6624" y="11868"/>
                  <a:pt x="6573" y="11857"/>
                </a:cubicBezTo>
                <a:cubicBezTo>
                  <a:pt x="6511" y="11843"/>
                  <a:pt x="6469" y="11828"/>
                  <a:pt x="6424" y="11782"/>
                </a:cubicBezTo>
                <a:cubicBezTo>
                  <a:pt x="6380" y="11737"/>
                  <a:pt x="6400" y="11687"/>
                  <a:pt x="6424" y="11633"/>
                </a:cubicBezTo>
                <a:cubicBezTo>
                  <a:pt x="6432" y="11617"/>
                  <a:pt x="6441" y="11600"/>
                  <a:pt x="6449" y="11584"/>
                </a:cubicBezTo>
              </a:path>
              <a:path w="8038" h="2680">
                <a:moveTo>
                  <a:pt x="7813" y="10443"/>
                </a:moveTo>
                <a:cubicBezTo>
                  <a:pt x="7807" y="10539"/>
                  <a:pt x="7773" y="10590"/>
                  <a:pt x="7764" y="10641"/>
                </a:cubicBezTo>
                <a:cubicBezTo>
                  <a:pt x="7758" y="10675"/>
                  <a:pt x="7750" y="10773"/>
                  <a:pt x="7764" y="10740"/>
                </a:cubicBezTo>
                <a:cubicBezTo>
                  <a:pt x="7764" y="10732"/>
                  <a:pt x="7764" y="10724"/>
                  <a:pt x="7764" y="10716"/>
                </a:cubicBezTo>
              </a:path>
              <a:path w="8038" h="2680">
                <a:moveTo>
                  <a:pt x="8062" y="9971"/>
                </a:moveTo>
                <a:cubicBezTo>
                  <a:pt x="8193" y="9971"/>
                  <a:pt x="8303" y="9987"/>
                  <a:pt x="8409" y="9922"/>
                </a:cubicBezTo>
                <a:cubicBezTo>
                  <a:pt x="8457" y="9898"/>
                  <a:pt x="8471" y="9889"/>
                  <a:pt x="8508" y="9897"/>
                </a:cubicBezTo>
              </a:path>
              <a:path w="8038" h="2680">
                <a:moveTo>
                  <a:pt x="8682" y="9599"/>
                </a:moveTo>
                <a:cubicBezTo>
                  <a:pt x="8770" y="9543"/>
                  <a:pt x="8847" y="9478"/>
                  <a:pt x="8954" y="9550"/>
                </a:cubicBezTo>
                <a:cubicBezTo>
                  <a:pt x="9014" y="9591"/>
                  <a:pt x="9078" y="9597"/>
                  <a:pt x="9103" y="9674"/>
                </a:cubicBezTo>
                <a:cubicBezTo>
                  <a:pt x="9126" y="9745"/>
                  <a:pt x="9073" y="9779"/>
                  <a:pt x="9029" y="9823"/>
                </a:cubicBezTo>
                <a:cubicBezTo>
                  <a:pt x="8965" y="9886"/>
                  <a:pt x="8919" y="9876"/>
                  <a:pt x="8855" y="9922"/>
                </a:cubicBezTo>
                <a:cubicBezTo>
                  <a:pt x="8809" y="9955"/>
                  <a:pt x="8753" y="9971"/>
                  <a:pt x="8781" y="9971"/>
                </a:cubicBezTo>
                <a:cubicBezTo>
                  <a:pt x="8851" y="9971"/>
                  <a:pt x="9002" y="9939"/>
                  <a:pt x="9054" y="9996"/>
                </a:cubicBezTo>
                <a:cubicBezTo>
                  <a:pt x="9096" y="10042"/>
                  <a:pt x="9103" y="10087"/>
                  <a:pt x="9103" y="10145"/>
                </a:cubicBezTo>
                <a:cubicBezTo>
                  <a:pt x="9103" y="10234"/>
                  <a:pt x="9081" y="10246"/>
                  <a:pt x="9029" y="10294"/>
                </a:cubicBezTo>
                <a:cubicBezTo>
                  <a:pt x="8970" y="10348"/>
                  <a:pt x="8911" y="10364"/>
                  <a:pt x="8830" y="10368"/>
                </a:cubicBezTo>
                <a:cubicBezTo>
                  <a:pt x="8769" y="10371"/>
                  <a:pt x="8756" y="10350"/>
                  <a:pt x="8706" y="10344"/>
                </a:cubicBezTo>
                <a:cubicBezTo>
                  <a:pt x="8647" y="10338"/>
                  <a:pt x="8742" y="10242"/>
                  <a:pt x="8756" y="10220"/>
                </a:cubicBezTo>
              </a:path>
              <a:path w="8038" h="2680">
                <a:moveTo>
                  <a:pt x="9327" y="9773"/>
                </a:moveTo>
                <a:cubicBezTo>
                  <a:pt x="9320" y="9877"/>
                  <a:pt x="9302" y="9943"/>
                  <a:pt x="9302" y="10046"/>
                </a:cubicBezTo>
                <a:cubicBezTo>
                  <a:pt x="9302" y="10125"/>
                  <a:pt x="9324" y="10191"/>
                  <a:pt x="9327" y="10269"/>
                </a:cubicBezTo>
                <a:cubicBezTo>
                  <a:pt x="9331" y="10381"/>
                  <a:pt x="9325" y="10315"/>
                  <a:pt x="9351" y="10368"/>
                </a:cubicBezTo>
                <a:cubicBezTo>
                  <a:pt x="9364" y="10342"/>
                  <a:pt x="9358" y="10271"/>
                  <a:pt x="9376" y="10220"/>
                </a:cubicBezTo>
                <a:cubicBezTo>
                  <a:pt x="9401" y="10150"/>
                  <a:pt x="9401" y="10079"/>
                  <a:pt x="9401" y="9996"/>
                </a:cubicBezTo>
                <a:cubicBezTo>
                  <a:pt x="9401" y="9867"/>
                  <a:pt x="9397" y="9800"/>
                  <a:pt x="9451" y="9674"/>
                </a:cubicBezTo>
                <a:cubicBezTo>
                  <a:pt x="9483" y="9599"/>
                  <a:pt x="9577" y="9565"/>
                  <a:pt x="9649" y="9525"/>
                </a:cubicBezTo>
                <a:cubicBezTo>
                  <a:pt x="9712" y="9490"/>
                  <a:pt x="9825" y="9485"/>
                  <a:pt x="9897" y="9475"/>
                </a:cubicBezTo>
                <a:cubicBezTo>
                  <a:pt x="9948" y="9468"/>
                  <a:pt x="10114" y="9450"/>
                  <a:pt x="10145" y="9500"/>
                </a:cubicBezTo>
                <a:cubicBezTo>
                  <a:pt x="10173" y="9500"/>
                  <a:pt x="10179" y="9502"/>
                  <a:pt x="10145" y="9525"/>
                </a:cubicBezTo>
              </a:path>
              <a:path w="8038" h="2680">
                <a:moveTo>
                  <a:pt x="9748" y="9897"/>
                </a:moveTo>
                <a:cubicBezTo>
                  <a:pt x="9748" y="10071"/>
                  <a:pt x="9748" y="10244"/>
                  <a:pt x="9748" y="10418"/>
                </a:cubicBezTo>
                <a:cubicBezTo>
                  <a:pt x="9769" y="10404"/>
                  <a:pt x="9787" y="10338"/>
                  <a:pt x="9798" y="10294"/>
                </a:cubicBezTo>
                <a:cubicBezTo>
                  <a:pt x="9798" y="10286"/>
                  <a:pt x="9798" y="10277"/>
                  <a:pt x="9798" y="10269"/>
                </a:cubicBezTo>
              </a:path>
              <a:path w="8038" h="2680">
                <a:moveTo>
                  <a:pt x="9872" y="9996"/>
                </a:moveTo>
                <a:cubicBezTo>
                  <a:pt x="9959" y="9928"/>
                  <a:pt x="10067" y="9789"/>
                  <a:pt x="10195" y="9823"/>
                </a:cubicBezTo>
                <a:cubicBezTo>
                  <a:pt x="10256" y="9840"/>
                  <a:pt x="10289" y="9855"/>
                  <a:pt x="10294" y="9922"/>
                </a:cubicBezTo>
                <a:cubicBezTo>
                  <a:pt x="10301" y="10024"/>
                  <a:pt x="10267" y="9999"/>
                  <a:pt x="10220" y="10046"/>
                </a:cubicBezTo>
                <a:cubicBezTo>
                  <a:pt x="10204" y="10062"/>
                  <a:pt x="10108" y="10130"/>
                  <a:pt x="10096" y="10145"/>
                </a:cubicBezTo>
                <a:cubicBezTo>
                  <a:pt x="10051" y="10201"/>
                  <a:pt x="10002" y="10195"/>
                  <a:pt x="10071" y="10195"/>
                </a:cubicBezTo>
                <a:cubicBezTo>
                  <a:pt x="10145" y="10195"/>
                  <a:pt x="10207" y="10208"/>
                  <a:pt x="10269" y="10220"/>
                </a:cubicBezTo>
                <a:cubicBezTo>
                  <a:pt x="10319" y="10230"/>
                  <a:pt x="10341" y="10250"/>
                  <a:pt x="10344" y="10294"/>
                </a:cubicBezTo>
                <a:cubicBezTo>
                  <a:pt x="10351" y="10389"/>
                  <a:pt x="10332" y="10381"/>
                  <a:pt x="10269" y="10418"/>
                </a:cubicBezTo>
                <a:cubicBezTo>
                  <a:pt x="10189" y="10465"/>
                  <a:pt x="10197" y="10492"/>
                  <a:pt x="10096" y="10492"/>
                </a:cubicBezTo>
                <a:cubicBezTo>
                  <a:pt x="9997" y="10492"/>
                  <a:pt x="9897" y="10492"/>
                  <a:pt x="9798" y="10492"/>
                </a:cubicBezTo>
              </a:path>
              <a:path w="8038" h="2680">
                <a:moveTo>
                  <a:pt x="8582" y="10592"/>
                </a:moveTo>
                <a:cubicBezTo>
                  <a:pt x="8820" y="10592"/>
                  <a:pt x="10032" y="10740"/>
                  <a:pt x="10145" y="10567"/>
                </a:cubicBezTo>
                <a:cubicBezTo>
                  <a:pt x="10110" y="10567"/>
                  <a:pt x="10097" y="10558"/>
                  <a:pt x="10096" y="10517"/>
                </a:cubicBezTo>
              </a:path>
              <a:path w="8038" h="2680">
                <a:moveTo>
                  <a:pt x="9153" y="10964"/>
                </a:moveTo>
                <a:cubicBezTo>
                  <a:pt x="9096" y="11149"/>
                  <a:pt x="9079" y="11193"/>
                  <a:pt x="9079" y="11361"/>
                </a:cubicBezTo>
                <a:cubicBezTo>
                  <a:pt x="9079" y="11380"/>
                  <a:pt x="9086" y="11509"/>
                  <a:pt x="9103" y="11509"/>
                </a:cubicBezTo>
                <a:cubicBezTo>
                  <a:pt x="9128" y="11509"/>
                  <a:pt x="9142" y="11429"/>
                  <a:pt x="9153" y="11410"/>
                </a:cubicBezTo>
              </a:path>
              <a:path w="8038" h="2680">
                <a:moveTo>
                  <a:pt x="9401" y="10964"/>
                </a:moveTo>
                <a:cubicBezTo>
                  <a:pt x="9473" y="10948"/>
                  <a:pt x="9599" y="10912"/>
                  <a:pt x="9674" y="10939"/>
                </a:cubicBezTo>
                <a:cubicBezTo>
                  <a:pt x="9708" y="10951"/>
                  <a:pt x="9765" y="11002"/>
                  <a:pt x="9773" y="11038"/>
                </a:cubicBezTo>
                <a:cubicBezTo>
                  <a:pt x="9786" y="11098"/>
                  <a:pt x="9736" y="11124"/>
                  <a:pt x="9699" y="11162"/>
                </a:cubicBezTo>
                <a:cubicBezTo>
                  <a:pt x="9668" y="11193"/>
                  <a:pt x="9595" y="11207"/>
                  <a:pt x="9550" y="11212"/>
                </a:cubicBezTo>
                <a:cubicBezTo>
                  <a:pt x="9517" y="11212"/>
                  <a:pt x="9500" y="11212"/>
                  <a:pt x="9475" y="11212"/>
                </a:cubicBezTo>
                <a:cubicBezTo>
                  <a:pt x="9420" y="11212"/>
                  <a:pt x="9515" y="11235"/>
                  <a:pt x="9525" y="11237"/>
                </a:cubicBezTo>
                <a:cubicBezTo>
                  <a:pt x="9635" y="11261"/>
                  <a:pt x="9657" y="11256"/>
                  <a:pt x="9748" y="11336"/>
                </a:cubicBezTo>
                <a:cubicBezTo>
                  <a:pt x="9799" y="11381"/>
                  <a:pt x="9857" y="11440"/>
                  <a:pt x="9872" y="11509"/>
                </a:cubicBezTo>
                <a:cubicBezTo>
                  <a:pt x="9884" y="11565"/>
                  <a:pt x="9844" y="11653"/>
                  <a:pt x="9798" y="11683"/>
                </a:cubicBezTo>
                <a:cubicBezTo>
                  <a:pt x="9691" y="11754"/>
                  <a:pt x="9655" y="11732"/>
                  <a:pt x="9550" y="11708"/>
                </a:cubicBezTo>
                <a:cubicBezTo>
                  <a:pt x="9496" y="11695"/>
                  <a:pt x="9479" y="11635"/>
                  <a:pt x="9475" y="11584"/>
                </a:cubicBezTo>
                <a:cubicBezTo>
                  <a:pt x="9475" y="11549"/>
                  <a:pt x="9480" y="11531"/>
                  <a:pt x="9500" y="11509"/>
                </a:cubicBezTo>
              </a:path>
              <a:path w="8038" h="2680">
                <a:moveTo>
                  <a:pt x="10939" y="10120"/>
                </a:moveTo>
                <a:cubicBezTo>
                  <a:pt x="11020" y="10178"/>
                  <a:pt x="11140" y="10234"/>
                  <a:pt x="11212" y="10294"/>
                </a:cubicBezTo>
                <a:cubicBezTo>
                  <a:pt x="11317" y="10381"/>
                  <a:pt x="11415" y="10503"/>
                  <a:pt x="11534" y="10567"/>
                </a:cubicBezTo>
                <a:cubicBezTo>
                  <a:pt x="11634" y="10621"/>
                  <a:pt x="11698" y="10669"/>
                  <a:pt x="11782" y="10740"/>
                </a:cubicBezTo>
                <a:cubicBezTo>
                  <a:pt x="11811" y="10764"/>
                  <a:pt x="11830" y="10775"/>
                  <a:pt x="11857" y="10790"/>
                </a:cubicBezTo>
                <a:cubicBezTo>
                  <a:pt x="11808" y="10796"/>
                  <a:pt x="11754" y="10800"/>
                  <a:pt x="11708" y="10815"/>
                </a:cubicBezTo>
                <a:cubicBezTo>
                  <a:pt x="11599" y="10852"/>
                  <a:pt x="11495" y="10940"/>
                  <a:pt x="11410" y="11013"/>
                </a:cubicBezTo>
                <a:cubicBezTo>
                  <a:pt x="11341" y="11073"/>
                  <a:pt x="11293" y="11145"/>
                  <a:pt x="11237" y="11212"/>
                </a:cubicBezTo>
                <a:cubicBezTo>
                  <a:pt x="11181" y="11279"/>
                  <a:pt x="11117" y="11341"/>
                  <a:pt x="11063" y="11410"/>
                </a:cubicBezTo>
                <a:cubicBezTo>
                  <a:pt x="11017" y="11479"/>
                  <a:pt x="11005" y="11499"/>
                  <a:pt x="10964" y="115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76200" y="4554360"/>
            <a:ext cx="2689200" cy="1044720"/>
          </a:xfrm>
          <a:custGeom>
            <a:avLst/>
            <a:gdLst/>
            <a:ahLst/>
            <a:rect l="l" t="t" r="r" b="b"/>
            <a:pathLst>
              <a:path w="7467" h="2904">
                <a:moveTo>
                  <a:pt x="4366" y="12650"/>
                </a:moveTo>
                <a:cubicBezTo>
                  <a:pt x="4289" y="12747"/>
                  <a:pt x="4207" y="12859"/>
                  <a:pt x="4118" y="12948"/>
                </a:cubicBezTo>
                <a:cubicBezTo>
                  <a:pt x="4031" y="13035"/>
                  <a:pt x="3936" y="13109"/>
                  <a:pt x="3845" y="13196"/>
                </a:cubicBezTo>
                <a:cubicBezTo>
                  <a:pt x="3766" y="13271"/>
                  <a:pt x="3675" y="13357"/>
                  <a:pt x="3597" y="13419"/>
                </a:cubicBezTo>
                <a:cubicBezTo>
                  <a:pt x="3561" y="13448"/>
                  <a:pt x="3567" y="13445"/>
                  <a:pt x="3547" y="13469"/>
                </a:cubicBezTo>
                <a:cubicBezTo>
                  <a:pt x="3555" y="13477"/>
                  <a:pt x="3593" y="13513"/>
                  <a:pt x="3597" y="13519"/>
                </a:cubicBezTo>
                <a:cubicBezTo>
                  <a:pt x="3622" y="13558"/>
                  <a:pt x="3647" y="13620"/>
                  <a:pt x="3671" y="13667"/>
                </a:cubicBezTo>
                <a:cubicBezTo>
                  <a:pt x="3719" y="13763"/>
                  <a:pt x="3803" y="13833"/>
                  <a:pt x="3870" y="13915"/>
                </a:cubicBezTo>
                <a:cubicBezTo>
                  <a:pt x="3963" y="14030"/>
                  <a:pt x="4043" y="14153"/>
                  <a:pt x="4142" y="14263"/>
                </a:cubicBezTo>
                <a:cubicBezTo>
                  <a:pt x="4234" y="14365"/>
                  <a:pt x="4333" y="14450"/>
                  <a:pt x="4415" y="14560"/>
                </a:cubicBezTo>
                <a:cubicBezTo>
                  <a:pt x="4458" y="14618"/>
                  <a:pt x="4505" y="14680"/>
                  <a:pt x="4539" y="14734"/>
                </a:cubicBezTo>
                <a:cubicBezTo>
                  <a:pt x="4558" y="14692"/>
                  <a:pt x="4571" y="14658"/>
                  <a:pt x="4589" y="14610"/>
                </a:cubicBezTo>
              </a:path>
              <a:path w="7467" h="2904">
                <a:moveTo>
                  <a:pt x="4688" y="12874"/>
                </a:moveTo>
                <a:cubicBezTo>
                  <a:pt x="4698" y="12844"/>
                  <a:pt x="4709" y="12833"/>
                  <a:pt x="4738" y="12799"/>
                </a:cubicBezTo>
                <a:cubicBezTo>
                  <a:pt x="4777" y="12754"/>
                  <a:pt x="4829" y="12753"/>
                  <a:pt x="4887" y="12750"/>
                </a:cubicBezTo>
                <a:cubicBezTo>
                  <a:pt x="4942" y="12747"/>
                  <a:pt x="4979" y="12748"/>
                  <a:pt x="5011" y="12799"/>
                </a:cubicBezTo>
                <a:cubicBezTo>
                  <a:pt x="5045" y="12852"/>
                  <a:pt x="5056" y="12989"/>
                  <a:pt x="5035" y="13047"/>
                </a:cubicBezTo>
                <a:cubicBezTo>
                  <a:pt x="5002" y="13136"/>
                  <a:pt x="4937" y="13258"/>
                  <a:pt x="4862" y="13320"/>
                </a:cubicBezTo>
                <a:cubicBezTo>
                  <a:pt x="4816" y="13358"/>
                  <a:pt x="4723" y="13424"/>
                  <a:pt x="4663" y="13444"/>
                </a:cubicBezTo>
                <a:cubicBezTo>
                  <a:pt x="4635" y="13453"/>
                  <a:pt x="4582" y="13424"/>
                  <a:pt x="4589" y="13395"/>
                </a:cubicBezTo>
                <a:cubicBezTo>
                  <a:pt x="4597" y="13357"/>
                  <a:pt x="4622" y="13297"/>
                  <a:pt x="4663" y="13271"/>
                </a:cubicBezTo>
                <a:cubicBezTo>
                  <a:pt x="4715" y="13238"/>
                  <a:pt x="4766" y="13232"/>
                  <a:pt x="4812" y="13271"/>
                </a:cubicBezTo>
                <a:cubicBezTo>
                  <a:pt x="4883" y="13332"/>
                  <a:pt x="4897" y="13387"/>
                  <a:pt x="4936" y="13469"/>
                </a:cubicBezTo>
                <a:cubicBezTo>
                  <a:pt x="4970" y="13542"/>
                  <a:pt x="5005" y="13572"/>
                  <a:pt x="5085" y="13593"/>
                </a:cubicBezTo>
                <a:cubicBezTo>
                  <a:pt x="5119" y="13602"/>
                  <a:pt x="5139" y="13564"/>
                  <a:pt x="5159" y="13543"/>
                </a:cubicBezTo>
              </a:path>
              <a:path w="7467" h="2904">
                <a:moveTo>
                  <a:pt x="5407" y="12998"/>
                </a:moveTo>
                <a:cubicBezTo>
                  <a:pt x="5332" y="13085"/>
                  <a:pt x="5181" y="13215"/>
                  <a:pt x="5159" y="13345"/>
                </a:cubicBezTo>
                <a:cubicBezTo>
                  <a:pt x="5145" y="13428"/>
                  <a:pt x="5194" y="13518"/>
                  <a:pt x="5259" y="13568"/>
                </a:cubicBezTo>
                <a:cubicBezTo>
                  <a:pt x="5329" y="13622"/>
                  <a:pt x="5402" y="13633"/>
                  <a:pt x="5482" y="13593"/>
                </a:cubicBezTo>
                <a:cubicBezTo>
                  <a:pt x="5543" y="13562"/>
                  <a:pt x="5595" y="13459"/>
                  <a:pt x="5606" y="13395"/>
                </a:cubicBezTo>
                <a:cubicBezTo>
                  <a:pt x="5623" y="13294"/>
                  <a:pt x="5570" y="13192"/>
                  <a:pt x="5507" y="13122"/>
                </a:cubicBezTo>
                <a:cubicBezTo>
                  <a:pt x="5453" y="13062"/>
                  <a:pt x="5363" y="13020"/>
                  <a:pt x="5333" y="12948"/>
                </a:cubicBezTo>
                <a:cubicBezTo>
                  <a:pt x="5333" y="12923"/>
                  <a:pt x="5333" y="12915"/>
                  <a:pt x="5333" y="12898"/>
                </a:cubicBezTo>
              </a:path>
              <a:path w="7467" h="2904">
                <a:moveTo>
                  <a:pt x="5829" y="13171"/>
                </a:moveTo>
                <a:cubicBezTo>
                  <a:pt x="5829" y="13303"/>
                  <a:pt x="5834" y="13420"/>
                  <a:pt x="5854" y="13543"/>
                </a:cubicBezTo>
                <a:cubicBezTo>
                  <a:pt x="5860" y="13582"/>
                  <a:pt x="5854" y="13627"/>
                  <a:pt x="5854" y="13667"/>
                </a:cubicBezTo>
                <a:cubicBezTo>
                  <a:pt x="5899" y="13653"/>
                  <a:pt x="5879" y="13596"/>
                  <a:pt x="5879" y="13543"/>
                </a:cubicBezTo>
                <a:cubicBezTo>
                  <a:pt x="5879" y="13374"/>
                  <a:pt x="5878" y="13211"/>
                  <a:pt x="5904" y="13047"/>
                </a:cubicBezTo>
                <a:cubicBezTo>
                  <a:pt x="5917" y="12967"/>
                  <a:pt x="5969" y="12936"/>
                  <a:pt x="6052" y="12923"/>
                </a:cubicBezTo>
                <a:cubicBezTo>
                  <a:pt x="6172" y="12904"/>
                  <a:pt x="6302" y="12923"/>
                  <a:pt x="6424" y="12923"/>
                </a:cubicBezTo>
              </a:path>
              <a:path w="7467" h="2904">
                <a:moveTo>
                  <a:pt x="6152" y="13271"/>
                </a:moveTo>
                <a:cubicBezTo>
                  <a:pt x="6141" y="13447"/>
                  <a:pt x="6152" y="13554"/>
                  <a:pt x="6152" y="13717"/>
                </a:cubicBezTo>
                <a:cubicBezTo>
                  <a:pt x="6152" y="13750"/>
                  <a:pt x="6152" y="13766"/>
                  <a:pt x="6152" y="13791"/>
                </a:cubicBezTo>
              </a:path>
              <a:path w="7467" h="2904">
                <a:moveTo>
                  <a:pt x="6325" y="13271"/>
                </a:moveTo>
                <a:cubicBezTo>
                  <a:pt x="6420" y="13239"/>
                  <a:pt x="6535" y="13177"/>
                  <a:pt x="6623" y="13271"/>
                </a:cubicBezTo>
                <a:cubicBezTo>
                  <a:pt x="6667" y="13318"/>
                  <a:pt x="6653" y="13396"/>
                  <a:pt x="6623" y="13444"/>
                </a:cubicBezTo>
                <a:cubicBezTo>
                  <a:pt x="6596" y="13487"/>
                  <a:pt x="6496" y="13529"/>
                  <a:pt x="6449" y="13543"/>
                </a:cubicBezTo>
                <a:cubicBezTo>
                  <a:pt x="6420" y="13552"/>
                  <a:pt x="6404" y="13561"/>
                  <a:pt x="6375" y="13568"/>
                </a:cubicBezTo>
                <a:cubicBezTo>
                  <a:pt x="6412" y="13596"/>
                  <a:pt x="6457" y="13618"/>
                  <a:pt x="6499" y="13643"/>
                </a:cubicBezTo>
                <a:cubicBezTo>
                  <a:pt x="6578" y="13690"/>
                  <a:pt x="6613" y="13749"/>
                  <a:pt x="6573" y="13841"/>
                </a:cubicBezTo>
                <a:cubicBezTo>
                  <a:pt x="6542" y="13911"/>
                  <a:pt x="6441" y="13930"/>
                  <a:pt x="6375" y="13940"/>
                </a:cubicBezTo>
                <a:cubicBezTo>
                  <a:pt x="6273" y="13955"/>
                  <a:pt x="6173" y="13918"/>
                  <a:pt x="6077" y="13891"/>
                </a:cubicBezTo>
              </a:path>
              <a:path w="7467" h="2904">
                <a:moveTo>
                  <a:pt x="4887" y="13742"/>
                </a:moveTo>
                <a:cubicBezTo>
                  <a:pt x="5052" y="13721"/>
                  <a:pt x="5237" y="13748"/>
                  <a:pt x="5407" y="13767"/>
                </a:cubicBezTo>
                <a:cubicBezTo>
                  <a:pt x="5581" y="13786"/>
                  <a:pt x="5753" y="13812"/>
                  <a:pt x="5928" y="13816"/>
                </a:cubicBezTo>
                <a:cubicBezTo>
                  <a:pt x="6053" y="13819"/>
                  <a:pt x="6191" y="13824"/>
                  <a:pt x="6300" y="13791"/>
                </a:cubicBezTo>
                <a:cubicBezTo>
                  <a:pt x="6350" y="13776"/>
                  <a:pt x="6303" y="13774"/>
                  <a:pt x="6276" y="13767"/>
                </a:cubicBezTo>
              </a:path>
              <a:path w="7467" h="2904">
                <a:moveTo>
                  <a:pt x="5482" y="14263"/>
                </a:moveTo>
                <a:cubicBezTo>
                  <a:pt x="5464" y="14392"/>
                  <a:pt x="5446" y="14511"/>
                  <a:pt x="5482" y="14635"/>
                </a:cubicBezTo>
                <a:cubicBezTo>
                  <a:pt x="5497" y="14687"/>
                  <a:pt x="5507" y="14722"/>
                  <a:pt x="5556" y="14734"/>
                </a:cubicBezTo>
              </a:path>
              <a:path w="7467" h="2904">
                <a:moveTo>
                  <a:pt x="5854" y="14213"/>
                </a:moveTo>
                <a:cubicBezTo>
                  <a:pt x="5960" y="14208"/>
                  <a:pt x="6137" y="14163"/>
                  <a:pt x="6176" y="14312"/>
                </a:cubicBezTo>
                <a:cubicBezTo>
                  <a:pt x="6195" y="14387"/>
                  <a:pt x="6160" y="14406"/>
                  <a:pt x="6102" y="14436"/>
                </a:cubicBezTo>
                <a:cubicBezTo>
                  <a:pt x="6047" y="14465"/>
                  <a:pt x="5978" y="14477"/>
                  <a:pt x="5928" y="14511"/>
                </a:cubicBezTo>
                <a:cubicBezTo>
                  <a:pt x="5920" y="14519"/>
                  <a:pt x="5912" y="14528"/>
                  <a:pt x="5904" y="14536"/>
                </a:cubicBezTo>
                <a:cubicBezTo>
                  <a:pt x="5936" y="14580"/>
                  <a:pt x="6000" y="14594"/>
                  <a:pt x="6028" y="14635"/>
                </a:cubicBezTo>
                <a:cubicBezTo>
                  <a:pt x="6097" y="14737"/>
                  <a:pt x="6161" y="14858"/>
                  <a:pt x="6176" y="14982"/>
                </a:cubicBezTo>
                <a:cubicBezTo>
                  <a:pt x="6185" y="15060"/>
                  <a:pt x="6128" y="15135"/>
                  <a:pt x="6052" y="15156"/>
                </a:cubicBezTo>
                <a:cubicBezTo>
                  <a:pt x="5992" y="15173"/>
                  <a:pt x="5912" y="15183"/>
                  <a:pt x="5854" y="15156"/>
                </a:cubicBezTo>
                <a:cubicBezTo>
                  <a:pt x="5809" y="15135"/>
                  <a:pt x="5791" y="15051"/>
                  <a:pt x="5804" y="15007"/>
                </a:cubicBezTo>
                <a:cubicBezTo>
                  <a:pt x="5812" y="14990"/>
                  <a:pt x="5821" y="14974"/>
                  <a:pt x="5829" y="14957"/>
                </a:cubicBezTo>
              </a:path>
              <a:path w="7467" h="2904">
                <a:moveTo>
                  <a:pt x="6970" y="14064"/>
                </a:moveTo>
                <a:cubicBezTo>
                  <a:pt x="6962" y="14139"/>
                  <a:pt x="6903" y="14372"/>
                  <a:pt x="6921" y="14461"/>
                </a:cubicBezTo>
                <a:cubicBezTo>
                  <a:pt x="6930" y="14507"/>
                  <a:pt x="6938" y="14574"/>
                  <a:pt x="6970" y="14585"/>
                </a:cubicBezTo>
              </a:path>
              <a:path w="7467" h="2904">
                <a:moveTo>
                  <a:pt x="7218" y="13692"/>
                </a:moveTo>
                <a:cubicBezTo>
                  <a:pt x="7246" y="13692"/>
                  <a:pt x="7707" y="13723"/>
                  <a:pt x="7714" y="13667"/>
                </a:cubicBezTo>
                <a:cubicBezTo>
                  <a:pt x="7714" y="13659"/>
                  <a:pt x="7714" y="13651"/>
                  <a:pt x="7714" y="13643"/>
                </a:cubicBezTo>
              </a:path>
              <a:path w="7467" h="2904">
                <a:moveTo>
                  <a:pt x="8012" y="13246"/>
                </a:moveTo>
                <a:cubicBezTo>
                  <a:pt x="8079" y="13227"/>
                  <a:pt x="8112" y="13239"/>
                  <a:pt x="8186" y="13271"/>
                </a:cubicBezTo>
                <a:cubicBezTo>
                  <a:pt x="8263" y="13305"/>
                  <a:pt x="8308" y="13334"/>
                  <a:pt x="8334" y="13419"/>
                </a:cubicBezTo>
                <a:cubicBezTo>
                  <a:pt x="8368" y="13530"/>
                  <a:pt x="8240" y="13573"/>
                  <a:pt x="8161" y="13618"/>
                </a:cubicBezTo>
                <a:cubicBezTo>
                  <a:pt x="8101" y="13652"/>
                  <a:pt x="8041" y="13674"/>
                  <a:pt x="7987" y="13717"/>
                </a:cubicBezTo>
                <a:cubicBezTo>
                  <a:pt x="8026" y="13730"/>
                  <a:pt x="8028" y="13725"/>
                  <a:pt x="8086" y="13742"/>
                </a:cubicBezTo>
                <a:cubicBezTo>
                  <a:pt x="8140" y="13758"/>
                  <a:pt x="8243" y="13771"/>
                  <a:pt x="8285" y="13816"/>
                </a:cubicBezTo>
                <a:cubicBezTo>
                  <a:pt x="8333" y="13868"/>
                  <a:pt x="8365" y="13956"/>
                  <a:pt x="8334" y="14015"/>
                </a:cubicBezTo>
                <a:cubicBezTo>
                  <a:pt x="8304" y="14071"/>
                  <a:pt x="8253" y="14124"/>
                  <a:pt x="8186" y="14139"/>
                </a:cubicBezTo>
                <a:cubicBezTo>
                  <a:pt x="8121" y="14153"/>
                  <a:pt x="8037" y="14147"/>
                  <a:pt x="7987" y="14114"/>
                </a:cubicBezTo>
                <a:cubicBezTo>
                  <a:pt x="7894" y="14053"/>
                  <a:pt x="7913" y="14039"/>
                  <a:pt x="7913" y="13940"/>
                </a:cubicBezTo>
              </a:path>
              <a:path w="7467" h="2904">
                <a:moveTo>
                  <a:pt x="8458" y="13494"/>
                </a:moveTo>
                <a:cubicBezTo>
                  <a:pt x="8407" y="13640"/>
                  <a:pt x="8374" y="13701"/>
                  <a:pt x="8384" y="13841"/>
                </a:cubicBezTo>
                <a:cubicBezTo>
                  <a:pt x="8392" y="13951"/>
                  <a:pt x="8455" y="13987"/>
                  <a:pt x="8533" y="14064"/>
                </a:cubicBezTo>
                <a:cubicBezTo>
                  <a:pt x="8578" y="14109"/>
                  <a:pt x="8663" y="14085"/>
                  <a:pt x="8706" y="14039"/>
                </a:cubicBezTo>
                <a:cubicBezTo>
                  <a:pt x="8765" y="13975"/>
                  <a:pt x="8817" y="13880"/>
                  <a:pt x="8830" y="13791"/>
                </a:cubicBezTo>
                <a:cubicBezTo>
                  <a:pt x="8846" y="13683"/>
                  <a:pt x="8767" y="13498"/>
                  <a:pt x="8706" y="13419"/>
                </a:cubicBezTo>
                <a:cubicBezTo>
                  <a:pt x="8682" y="13387"/>
                  <a:pt x="8578" y="13372"/>
                  <a:pt x="8632" y="13345"/>
                </a:cubicBezTo>
              </a:path>
              <a:path w="7467" h="2904">
                <a:moveTo>
                  <a:pt x="9054" y="13717"/>
                </a:moveTo>
                <a:cubicBezTo>
                  <a:pt x="9054" y="13907"/>
                  <a:pt x="9054" y="14428"/>
                  <a:pt x="9054" y="14238"/>
                </a:cubicBezTo>
                <a:cubicBezTo>
                  <a:pt x="9079" y="14172"/>
                  <a:pt x="9095" y="14086"/>
                  <a:pt x="9103" y="14015"/>
                </a:cubicBezTo>
                <a:cubicBezTo>
                  <a:pt x="9123" y="13837"/>
                  <a:pt x="9063" y="13639"/>
                  <a:pt x="9128" y="13469"/>
                </a:cubicBezTo>
                <a:cubicBezTo>
                  <a:pt x="9151" y="13410"/>
                  <a:pt x="9183" y="13336"/>
                  <a:pt x="9252" y="13320"/>
                </a:cubicBezTo>
                <a:cubicBezTo>
                  <a:pt x="9393" y="13287"/>
                  <a:pt x="9577" y="13320"/>
                  <a:pt x="9723" y="13320"/>
                </a:cubicBezTo>
              </a:path>
              <a:path w="7467" h="2904">
                <a:moveTo>
                  <a:pt x="9500" y="13593"/>
                </a:moveTo>
                <a:cubicBezTo>
                  <a:pt x="9485" y="13710"/>
                  <a:pt x="9410" y="13765"/>
                  <a:pt x="9376" y="13891"/>
                </a:cubicBezTo>
                <a:cubicBezTo>
                  <a:pt x="9360" y="13951"/>
                  <a:pt x="9380" y="14036"/>
                  <a:pt x="9401" y="14089"/>
                </a:cubicBezTo>
                <a:cubicBezTo>
                  <a:pt x="9435" y="14173"/>
                  <a:pt x="9441" y="14141"/>
                  <a:pt x="9475" y="14089"/>
                </a:cubicBezTo>
              </a:path>
              <a:path w="7467" h="2904">
                <a:moveTo>
                  <a:pt x="9550" y="13643"/>
                </a:moveTo>
                <a:cubicBezTo>
                  <a:pt x="9634" y="13597"/>
                  <a:pt x="9682" y="13567"/>
                  <a:pt x="9773" y="13618"/>
                </a:cubicBezTo>
                <a:cubicBezTo>
                  <a:pt x="9830" y="13650"/>
                  <a:pt x="9952" y="13725"/>
                  <a:pt x="9971" y="13791"/>
                </a:cubicBezTo>
                <a:cubicBezTo>
                  <a:pt x="9986" y="13843"/>
                  <a:pt x="9944" y="13888"/>
                  <a:pt x="9897" y="13891"/>
                </a:cubicBezTo>
                <a:cubicBezTo>
                  <a:pt x="9836" y="13895"/>
                  <a:pt x="9804" y="13872"/>
                  <a:pt x="9748" y="13866"/>
                </a:cubicBezTo>
                <a:cubicBezTo>
                  <a:pt x="9740" y="13866"/>
                  <a:pt x="9731" y="13866"/>
                  <a:pt x="9723" y="13866"/>
                </a:cubicBezTo>
                <a:cubicBezTo>
                  <a:pt x="9751" y="13935"/>
                  <a:pt x="9816" y="13946"/>
                  <a:pt x="9847" y="14015"/>
                </a:cubicBezTo>
                <a:cubicBezTo>
                  <a:pt x="9888" y="14105"/>
                  <a:pt x="9879" y="14155"/>
                  <a:pt x="9798" y="14213"/>
                </a:cubicBezTo>
                <a:cubicBezTo>
                  <a:pt x="9742" y="14253"/>
                  <a:pt x="9641" y="14260"/>
                  <a:pt x="9575" y="14263"/>
                </a:cubicBezTo>
                <a:cubicBezTo>
                  <a:pt x="9507" y="14263"/>
                  <a:pt x="9488" y="14266"/>
                  <a:pt x="9451" y="14238"/>
                </a:cubicBezTo>
              </a:path>
              <a:path w="7467" h="2904">
                <a:moveTo>
                  <a:pt x="8235" y="14163"/>
                </a:moveTo>
                <a:cubicBezTo>
                  <a:pt x="8219" y="14163"/>
                  <a:pt x="8202" y="14163"/>
                  <a:pt x="8186" y="14163"/>
                </a:cubicBezTo>
                <a:cubicBezTo>
                  <a:pt x="8293" y="14225"/>
                  <a:pt x="8458" y="14231"/>
                  <a:pt x="8582" y="14238"/>
                </a:cubicBezTo>
                <a:cubicBezTo>
                  <a:pt x="8805" y="14251"/>
                  <a:pt x="9030" y="14249"/>
                  <a:pt x="9252" y="14263"/>
                </a:cubicBezTo>
                <a:cubicBezTo>
                  <a:pt x="9312" y="14267"/>
                  <a:pt x="9664" y="14309"/>
                  <a:pt x="9699" y="14238"/>
                </a:cubicBezTo>
                <a:cubicBezTo>
                  <a:pt x="9699" y="14230"/>
                  <a:pt x="9699" y="14221"/>
                  <a:pt x="9699" y="14213"/>
                </a:cubicBezTo>
              </a:path>
              <a:path w="7467" h="2904">
                <a:moveTo>
                  <a:pt x="8880" y="14635"/>
                </a:moveTo>
                <a:cubicBezTo>
                  <a:pt x="8835" y="14797"/>
                  <a:pt x="8806" y="14916"/>
                  <a:pt x="8806" y="15081"/>
                </a:cubicBezTo>
                <a:cubicBezTo>
                  <a:pt x="8806" y="15159"/>
                  <a:pt x="8814" y="15214"/>
                  <a:pt x="8830" y="15280"/>
                </a:cubicBezTo>
              </a:path>
              <a:path w="7467" h="2904">
                <a:moveTo>
                  <a:pt x="9079" y="14684"/>
                </a:moveTo>
                <a:cubicBezTo>
                  <a:pt x="9209" y="14667"/>
                  <a:pt x="9274" y="14668"/>
                  <a:pt x="9376" y="14759"/>
                </a:cubicBezTo>
                <a:cubicBezTo>
                  <a:pt x="9424" y="14802"/>
                  <a:pt x="9493" y="14849"/>
                  <a:pt x="9451" y="14908"/>
                </a:cubicBezTo>
                <a:cubicBezTo>
                  <a:pt x="9420" y="14951"/>
                  <a:pt x="9348" y="14932"/>
                  <a:pt x="9302" y="14932"/>
                </a:cubicBezTo>
                <a:cubicBezTo>
                  <a:pt x="9269" y="14932"/>
                  <a:pt x="9236" y="14932"/>
                  <a:pt x="9203" y="14932"/>
                </a:cubicBezTo>
                <a:cubicBezTo>
                  <a:pt x="9203" y="15021"/>
                  <a:pt x="9253" y="15078"/>
                  <a:pt x="9302" y="15156"/>
                </a:cubicBezTo>
                <a:cubicBezTo>
                  <a:pt x="9366" y="15258"/>
                  <a:pt x="9413" y="15362"/>
                  <a:pt x="9376" y="15478"/>
                </a:cubicBezTo>
                <a:cubicBezTo>
                  <a:pt x="9353" y="15550"/>
                  <a:pt x="9319" y="15537"/>
                  <a:pt x="9277" y="15528"/>
                </a:cubicBezTo>
                <a:cubicBezTo>
                  <a:pt x="9187" y="15508"/>
                  <a:pt x="9217" y="15394"/>
                  <a:pt x="9227" y="15329"/>
                </a:cubicBezTo>
              </a:path>
              <a:path w="7467" h="2904">
                <a:moveTo>
                  <a:pt x="10220" y="13791"/>
                </a:moveTo>
                <a:cubicBezTo>
                  <a:pt x="10368" y="13896"/>
                  <a:pt x="10489" y="13987"/>
                  <a:pt x="10616" y="14114"/>
                </a:cubicBezTo>
                <a:cubicBezTo>
                  <a:pt x="10729" y="14227"/>
                  <a:pt x="10836" y="14340"/>
                  <a:pt x="10939" y="14461"/>
                </a:cubicBezTo>
                <a:cubicBezTo>
                  <a:pt x="10962" y="14488"/>
                  <a:pt x="10990" y="14510"/>
                  <a:pt x="11013" y="14536"/>
                </a:cubicBezTo>
                <a:cubicBezTo>
                  <a:pt x="10962" y="14561"/>
                  <a:pt x="10890" y="14564"/>
                  <a:pt x="10840" y="14585"/>
                </a:cubicBezTo>
                <a:cubicBezTo>
                  <a:pt x="10691" y="14648"/>
                  <a:pt x="10560" y="14747"/>
                  <a:pt x="10468" y="14883"/>
                </a:cubicBezTo>
                <a:cubicBezTo>
                  <a:pt x="10380" y="15013"/>
                  <a:pt x="10318" y="15167"/>
                  <a:pt x="10244" y="15304"/>
                </a:cubicBezTo>
                <a:cubicBezTo>
                  <a:pt x="10218" y="15359"/>
                  <a:pt x="10206" y="15379"/>
                  <a:pt x="10170" y="154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00120" y="5670720"/>
            <a:ext cx="1857600" cy="874440"/>
          </a:xfrm>
          <a:custGeom>
            <a:avLst/>
            <a:gdLst/>
            <a:ahLst/>
            <a:rect l="l" t="t" r="r" b="b"/>
            <a:pathLst>
              <a:path w="5161" h="2432">
                <a:moveTo>
                  <a:pt x="4167" y="15900"/>
                </a:moveTo>
                <a:cubicBezTo>
                  <a:pt x="4202" y="15822"/>
                  <a:pt x="4224" y="15804"/>
                  <a:pt x="4316" y="15776"/>
                </a:cubicBezTo>
                <a:cubicBezTo>
                  <a:pt x="4395" y="15752"/>
                  <a:pt x="4440" y="15743"/>
                  <a:pt x="4514" y="15776"/>
                </a:cubicBezTo>
                <a:cubicBezTo>
                  <a:pt x="4584" y="15807"/>
                  <a:pt x="4627" y="15898"/>
                  <a:pt x="4638" y="15974"/>
                </a:cubicBezTo>
                <a:cubicBezTo>
                  <a:pt x="4665" y="16154"/>
                  <a:pt x="4555" y="16281"/>
                  <a:pt x="4440" y="16396"/>
                </a:cubicBezTo>
                <a:cubicBezTo>
                  <a:pt x="4399" y="16437"/>
                  <a:pt x="4335" y="16498"/>
                  <a:pt x="4266" y="16470"/>
                </a:cubicBezTo>
                <a:cubicBezTo>
                  <a:pt x="4225" y="16453"/>
                  <a:pt x="4219" y="16356"/>
                  <a:pt x="4217" y="16321"/>
                </a:cubicBezTo>
                <a:cubicBezTo>
                  <a:pt x="4213" y="16259"/>
                  <a:pt x="4220" y="16230"/>
                  <a:pt x="4242" y="16173"/>
                </a:cubicBezTo>
                <a:cubicBezTo>
                  <a:pt x="4298" y="16192"/>
                  <a:pt x="4275" y="16264"/>
                  <a:pt x="4291" y="16321"/>
                </a:cubicBezTo>
                <a:cubicBezTo>
                  <a:pt x="4307" y="16376"/>
                  <a:pt x="4384" y="16519"/>
                  <a:pt x="4440" y="16545"/>
                </a:cubicBezTo>
                <a:cubicBezTo>
                  <a:pt x="4493" y="16570"/>
                  <a:pt x="4567" y="16536"/>
                  <a:pt x="4614" y="16520"/>
                </a:cubicBezTo>
              </a:path>
              <a:path w="5161" h="2432">
                <a:moveTo>
                  <a:pt x="4787" y="15850"/>
                </a:moveTo>
                <a:cubicBezTo>
                  <a:pt x="4720" y="15950"/>
                  <a:pt x="4668" y="16025"/>
                  <a:pt x="4663" y="16148"/>
                </a:cubicBezTo>
                <a:cubicBezTo>
                  <a:pt x="4657" y="16283"/>
                  <a:pt x="4727" y="16311"/>
                  <a:pt x="4837" y="16371"/>
                </a:cubicBezTo>
                <a:cubicBezTo>
                  <a:pt x="4854" y="16379"/>
                  <a:pt x="4870" y="16388"/>
                  <a:pt x="4887" y="16396"/>
                </a:cubicBezTo>
                <a:cubicBezTo>
                  <a:pt x="4977" y="16259"/>
                  <a:pt x="4997" y="16214"/>
                  <a:pt x="4986" y="16073"/>
                </a:cubicBezTo>
                <a:cubicBezTo>
                  <a:pt x="4979" y="15974"/>
                  <a:pt x="4947" y="15929"/>
                  <a:pt x="4887" y="15850"/>
                </a:cubicBezTo>
                <a:cubicBezTo>
                  <a:pt x="4862" y="15817"/>
                  <a:pt x="4847" y="15815"/>
                  <a:pt x="4837" y="15776"/>
                </a:cubicBezTo>
              </a:path>
              <a:path w="5161" h="2432">
                <a:moveTo>
                  <a:pt x="5085" y="16123"/>
                </a:moveTo>
                <a:cubicBezTo>
                  <a:pt x="5120" y="16261"/>
                  <a:pt x="5124" y="16410"/>
                  <a:pt x="5159" y="16545"/>
                </a:cubicBezTo>
                <a:cubicBezTo>
                  <a:pt x="5167" y="16561"/>
                  <a:pt x="5176" y="16578"/>
                  <a:pt x="5184" y="16594"/>
                </a:cubicBezTo>
                <a:cubicBezTo>
                  <a:pt x="5184" y="16668"/>
                  <a:pt x="5184" y="16470"/>
                  <a:pt x="5184" y="16470"/>
                </a:cubicBezTo>
                <a:cubicBezTo>
                  <a:pt x="5184" y="16362"/>
                  <a:pt x="5139" y="16259"/>
                  <a:pt x="5159" y="16148"/>
                </a:cubicBezTo>
                <a:cubicBezTo>
                  <a:pt x="5168" y="16100"/>
                  <a:pt x="5179" y="15935"/>
                  <a:pt x="5209" y="15900"/>
                </a:cubicBezTo>
                <a:cubicBezTo>
                  <a:pt x="5266" y="15833"/>
                  <a:pt x="5340" y="15844"/>
                  <a:pt x="5407" y="15850"/>
                </a:cubicBezTo>
                <a:cubicBezTo>
                  <a:pt x="5516" y="15859"/>
                  <a:pt x="5577" y="15862"/>
                  <a:pt x="5680" y="15900"/>
                </a:cubicBezTo>
              </a:path>
              <a:path w="5161" h="2432">
                <a:moveTo>
                  <a:pt x="5457" y="16197"/>
                </a:moveTo>
                <a:cubicBezTo>
                  <a:pt x="5405" y="16390"/>
                  <a:pt x="5383" y="16465"/>
                  <a:pt x="5383" y="16644"/>
                </a:cubicBezTo>
                <a:cubicBezTo>
                  <a:pt x="5383" y="16762"/>
                  <a:pt x="5432" y="16635"/>
                  <a:pt x="5457" y="16594"/>
                </a:cubicBezTo>
              </a:path>
              <a:path w="5161" h="2432">
                <a:moveTo>
                  <a:pt x="5655" y="16173"/>
                </a:moveTo>
                <a:cubicBezTo>
                  <a:pt x="5741" y="16208"/>
                  <a:pt x="5841" y="16228"/>
                  <a:pt x="5879" y="16321"/>
                </a:cubicBezTo>
                <a:cubicBezTo>
                  <a:pt x="5899" y="16371"/>
                  <a:pt x="5847" y="16411"/>
                  <a:pt x="5804" y="16421"/>
                </a:cubicBezTo>
                <a:cubicBezTo>
                  <a:pt x="5765" y="16430"/>
                  <a:pt x="5690" y="16427"/>
                  <a:pt x="5655" y="16446"/>
                </a:cubicBezTo>
                <a:cubicBezTo>
                  <a:pt x="5602" y="16475"/>
                  <a:pt x="5631" y="16597"/>
                  <a:pt x="5631" y="16644"/>
                </a:cubicBezTo>
                <a:cubicBezTo>
                  <a:pt x="5631" y="16713"/>
                  <a:pt x="5640" y="16792"/>
                  <a:pt x="5581" y="16842"/>
                </a:cubicBezTo>
                <a:cubicBezTo>
                  <a:pt x="5534" y="16882"/>
                  <a:pt x="5445" y="16909"/>
                  <a:pt x="5383" y="16892"/>
                </a:cubicBezTo>
                <a:cubicBezTo>
                  <a:pt x="5315" y="16873"/>
                  <a:pt x="5287" y="16830"/>
                  <a:pt x="5283" y="16768"/>
                </a:cubicBezTo>
                <a:cubicBezTo>
                  <a:pt x="5283" y="16751"/>
                  <a:pt x="5283" y="16735"/>
                  <a:pt x="5283" y="16718"/>
                </a:cubicBezTo>
              </a:path>
              <a:path w="5161" h="2432">
                <a:moveTo>
                  <a:pt x="5730" y="16793"/>
                </a:moveTo>
                <a:cubicBezTo>
                  <a:pt x="5453" y="16809"/>
                  <a:pt x="5187" y="16818"/>
                  <a:pt x="4911" y="16818"/>
                </a:cubicBezTo>
                <a:cubicBezTo>
                  <a:pt x="4754" y="16818"/>
                  <a:pt x="4592" y="16800"/>
                  <a:pt x="4440" y="16842"/>
                </a:cubicBezTo>
                <a:cubicBezTo>
                  <a:pt x="4385" y="16857"/>
                  <a:pt x="4281" y="16857"/>
                  <a:pt x="4242" y="16892"/>
                </a:cubicBezTo>
                <a:cubicBezTo>
                  <a:pt x="4242" y="16900"/>
                  <a:pt x="4242" y="16909"/>
                  <a:pt x="4242" y="16917"/>
                </a:cubicBezTo>
              </a:path>
              <a:path w="5161" h="2432">
                <a:moveTo>
                  <a:pt x="4986" y="17214"/>
                </a:moveTo>
                <a:cubicBezTo>
                  <a:pt x="4934" y="17391"/>
                  <a:pt x="4885" y="17557"/>
                  <a:pt x="4862" y="17735"/>
                </a:cubicBezTo>
                <a:cubicBezTo>
                  <a:pt x="4862" y="17780"/>
                  <a:pt x="4859" y="17793"/>
                  <a:pt x="4887" y="17810"/>
                </a:cubicBezTo>
              </a:path>
              <a:path w="5161" h="2432">
                <a:moveTo>
                  <a:pt x="5159" y="17214"/>
                </a:moveTo>
                <a:cubicBezTo>
                  <a:pt x="5244" y="17271"/>
                  <a:pt x="5369" y="17311"/>
                  <a:pt x="5407" y="17413"/>
                </a:cubicBezTo>
                <a:cubicBezTo>
                  <a:pt x="5419" y="17446"/>
                  <a:pt x="5392" y="17502"/>
                  <a:pt x="5358" y="17512"/>
                </a:cubicBezTo>
                <a:cubicBezTo>
                  <a:pt x="5326" y="17521"/>
                  <a:pt x="5269" y="17512"/>
                  <a:pt x="5234" y="17512"/>
                </a:cubicBezTo>
                <a:cubicBezTo>
                  <a:pt x="5211" y="17559"/>
                  <a:pt x="5237" y="17597"/>
                  <a:pt x="5259" y="17661"/>
                </a:cubicBezTo>
                <a:cubicBezTo>
                  <a:pt x="5290" y="17752"/>
                  <a:pt x="5335" y="17816"/>
                  <a:pt x="5283" y="17909"/>
                </a:cubicBezTo>
                <a:cubicBezTo>
                  <a:pt x="5256" y="17958"/>
                  <a:pt x="5187" y="17979"/>
                  <a:pt x="5135" y="17959"/>
                </a:cubicBezTo>
                <a:cubicBezTo>
                  <a:pt x="5067" y="17933"/>
                  <a:pt x="5046" y="17850"/>
                  <a:pt x="5060" y="17785"/>
                </a:cubicBezTo>
                <a:cubicBezTo>
                  <a:pt x="5068" y="17760"/>
                  <a:pt x="5077" y="17736"/>
                  <a:pt x="5085" y="17711"/>
                </a:cubicBezTo>
              </a:path>
              <a:path w="5161" h="2432">
                <a:moveTo>
                  <a:pt x="5879" y="17041"/>
                </a:moveTo>
                <a:cubicBezTo>
                  <a:pt x="5872" y="17161"/>
                  <a:pt x="5844" y="17249"/>
                  <a:pt x="5879" y="17363"/>
                </a:cubicBezTo>
                <a:cubicBezTo>
                  <a:pt x="5904" y="17444"/>
                  <a:pt x="5956" y="17566"/>
                  <a:pt x="6052" y="17587"/>
                </a:cubicBezTo>
                <a:cubicBezTo>
                  <a:pt x="6077" y="17587"/>
                  <a:pt x="6102" y="17587"/>
                  <a:pt x="6127" y="17587"/>
                </a:cubicBezTo>
              </a:path>
              <a:path w="5161" h="2432">
                <a:moveTo>
                  <a:pt x="6028" y="16570"/>
                </a:moveTo>
                <a:cubicBezTo>
                  <a:pt x="6003" y="16594"/>
                  <a:pt x="5995" y="16602"/>
                  <a:pt x="6028" y="16619"/>
                </a:cubicBezTo>
              </a:path>
              <a:path w="5161" h="2432">
                <a:moveTo>
                  <a:pt x="6449" y="16892"/>
                </a:moveTo>
                <a:cubicBezTo>
                  <a:pt x="6561" y="16886"/>
                  <a:pt x="6660" y="16867"/>
                  <a:pt x="6772" y="16867"/>
                </a:cubicBezTo>
                <a:cubicBezTo>
                  <a:pt x="6846" y="16867"/>
                  <a:pt x="6921" y="16867"/>
                  <a:pt x="6995" y="16867"/>
                </a:cubicBezTo>
                <a:cubicBezTo>
                  <a:pt x="6995" y="16823"/>
                  <a:pt x="7010" y="16807"/>
                  <a:pt x="7020" y="16768"/>
                </a:cubicBezTo>
              </a:path>
              <a:path w="5161" h="2432">
                <a:moveTo>
                  <a:pt x="7243" y="16222"/>
                </a:moveTo>
                <a:cubicBezTo>
                  <a:pt x="7356" y="16209"/>
                  <a:pt x="7440" y="16198"/>
                  <a:pt x="7541" y="16272"/>
                </a:cubicBezTo>
                <a:cubicBezTo>
                  <a:pt x="7559" y="16285"/>
                  <a:pt x="7654" y="16385"/>
                  <a:pt x="7615" y="16421"/>
                </a:cubicBezTo>
                <a:cubicBezTo>
                  <a:pt x="7552" y="16480"/>
                  <a:pt x="7473" y="16490"/>
                  <a:pt x="7392" y="16495"/>
                </a:cubicBezTo>
                <a:cubicBezTo>
                  <a:pt x="7367" y="16495"/>
                  <a:pt x="7359" y="16495"/>
                  <a:pt x="7342" y="16495"/>
                </a:cubicBezTo>
                <a:cubicBezTo>
                  <a:pt x="7383" y="16536"/>
                  <a:pt x="7414" y="16566"/>
                  <a:pt x="7466" y="16594"/>
                </a:cubicBezTo>
                <a:cubicBezTo>
                  <a:pt x="7525" y="16625"/>
                  <a:pt x="7575" y="16699"/>
                  <a:pt x="7590" y="16768"/>
                </a:cubicBezTo>
                <a:cubicBezTo>
                  <a:pt x="7598" y="16806"/>
                  <a:pt x="7558" y="16880"/>
                  <a:pt x="7516" y="16892"/>
                </a:cubicBezTo>
                <a:cubicBezTo>
                  <a:pt x="7443" y="16913"/>
                  <a:pt x="7379" y="16873"/>
                  <a:pt x="7317" y="16842"/>
                </a:cubicBezTo>
                <a:cubicBezTo>
                  <a:pt x="7251" y="16809"/>
                  <a:pt x="7222" y="16791"/>
                  <a:pt x="7218" y="16718"/>
                </a:cubicBezTo>
                <a:cubicBezTo>
                  <a:pt x="7215" y="16665"/>
                  <a:pt x="7236" y="16622"/>
                  <a:pt x="7243" y="16570"/>
                </a:cubicBezTo>
              </a:path>
              <a:path w="5161" h="2432">
                <a:moveTo>
                  <a:pt x="7813" y="16346"/>
                </a:moveTo>
                <a:cubicBezTo>
                  <a:pt x="7769" y="16416"/>
                  <a:pt x="7686" y="16532"/>
                  <a:pt x="7689" y="16619"/>
                </a:cubicBezTo>
                <a:cubicBezTo>
                  <a:pt x="7692" y="16691"/>
                  <a:pt x="7717" y="16806"/>
                  <a:pt x="7764" y="16867"/>
                </a:cubicBezTo>
                <a:cubicBezTo>
                  <a:pt x="7822" y="16942"/>
                  <a:pt x="7893" y="16939"/>
                  <a:pt x="7938" y="16867"/>
                </a:cubicBezTo>
                <a:cubicBezTo>
                  <a:pt x="8005" y="16759"/>
                  <a:pt x="8033" y="16705"/>
                  <a:pt x="8037" y="16570"/>
                </a:cubicBezTo>
                <a:cubicBezTo>
                  <a:pt x="8040" y="16477"/>
                  <a:pt x="7990" y="16329"/>
                  <a:pt x="7938" y="16247"/>
                </a:cubicBezTo>
                <a:cubicBezTo>
                  <a:pt x="7906" y="16197"/>
                  <a:pt x="7846" y="16193"/>
                  <a:pt x="7888" y="16173"/>
                </a:cubicBezTo>
              </a:path>
              <a:path w="5161" h="2432">
                <a:moveTo>
                  <a:pt x="8161" y="16545"/>
                </a:moveTo>
                <a:cubicBezTo>
                  <a:pt x="8173" y="16671"/>
                  <a:pt x="8143" y="16803"/>
                  <a:pt x="8161" y="16917"/>
                </a:cubicBezTo>
                <a:cubicBezTo>
                  <a:pt x="8169" y="16925"/>
                  <a:pt x="8178" y="16934"/>
                  <a:pt x="8186" y="16942"/>
                </a:cubicBezTo>
                <a:cubicBezTo>
                  <a:pt x="8166" y="16864"/>
                  <a:pt x="8186" y="16787"/>
                  <a:pt x="8186" y="16694"/>
                </a:cubicBezTo>
                <a:cubicBezTo>
                  <a:pt x="8186" y="16567"/>
                  <a:pt x="8218" y="16468"/>
                  <a:pt x="8235" y="16346"/>
                </a:cubicBezTo>
                <a:cubicBezTo>
                  <a:pt x="8248" y="16258"/>
                  <a:pt x="8247" y="16180"/>
                  <a:pt x="8359" y="16173"/>
                </a:cubicBezTo>
                <a:cubicBezTo>
                  <a:pt x="8441" y="16168"/>
                  <a:pt x="8514" y="16233"/>
                  <a:pt x="8582" y="16247"/>
                </a:cubicBezTo>
                <a:cubicBezTo>
                  <a:pt x="8599" y="16247"/>
                  <a:pt x="8615" y="16247"/>
                  <a:pt x="8632" y="16247"/>
                </a:cubicBezTo>
              </a:path>
              <a:path w="5161" h="2432">
                <a:moveTo>
                  <a:pt x="8384" y="16694"/>
                </a:moveTo>
                <a:cubicBezTo>
                  <a:pt x="8384" y="16810"/>
                  <a:pt x="8374" y="16848"/>
                  <a:pt x="8409" y="16942"/>
                </a:cubicBezTo>
              </a:path>
              <a:path w="5161" h="2432">
                <a:moveTo>
                  <a:pt x="8657" y="16495"/>
                </a:moveTo>
                <a:cubicBezTo>
                  <a:pt x="8712" y="16545"/>
                  <a:pt x="8806" y="16593"/>
                  <a:pt x="8830" y="16669"/>
                </a:cubicBezTo>
                <a:cubicBezTo>
                  <a:pt x="8830" y="16677"/>
                  <a:pt x="8830" y="16686"/>
                  <a:pt x="8830" y="16694"/>
                </a:cubicBezTo>
                <a:cubicBezTo>
                  <a:pt x="8792" y="16723"/>
                  <a:pt x="8734" y="16732"/>
                  <a:pt x="8682" y="16718"/>
                </a:cubicBezTo>
                <a:cubicBezTo>
                  <a:pt x="8612" y="16699"/>
                  <a:pt x="8637" y="16679"/>
                  <a:pt x="8582" y="16718"/>
                </a:cubicBezTo>
                <a:cubicBezTo>
                  <a:pt x="8594" y="16777"/>
                  <a:pt x="8631" y="16836"/>
                  <a:pt x="8657" y="16892"/>
                </a:cubicBezTo>
                <a:cubicBezTo>
                  <a:pt x="8681" y="16946"/>
                  <a:pt x="8713" y="17022"/>
                  <a:pt x="8682" y="17066"/>
                </a:cubicBezTo>
                <a:cubicBezTo>
                  <a:pt x="8656" y="17103"/>
                  <a:pt x="8550" y="17101"/>
                  <a:pt x="8508" y="17090"/>
                </a:cubicBezTo>
                <a:cubicBezTo>
                  <a:pt x="8443" y="17073"/>
                  <a:pt x="8391" y="17014"/>
                  <a:pt x="8334" y="16991"/>
                </a:cubicBezTo>
                <a:cubicBezTo>
                  <a:pt x="8301" y="16977"/>
                  <a:pt x="8296" y="16955"/>
                  <a:pt x="8334" y="16942"/>
                </a:cubicBezTo>
              </a:path>
              <a:path w="5161" h="2432">
                <a:moveTo>
                  <a:pt x="8682" y="16942"/>
                </a:moveTo>
                <a:cubicBezTo>
                  <a:pt x="8545" y="16995"/>
                  <a:pt x="8416" y="17049"/>
                  <a:pt x="8285" y="17115"/>
                </a:cubicBezTo>
                <a:cubicBezTo>
                  <a:pt x="8154" y="17181"/>
                  <a:pt x="8017" y="17215"/>
                  <a:pt x="7888" y="17289"/>
                </a:cubicBezTo>
                <a:cubicBezTo>
                  <a:pt x="7789" y="17346"/>
                  <a:pt x="7702" y="17373"/>
                  <a:pt x="7590" y="17388"/>
                </a:cubicBezTo>
                <a:cubicBezTo>
                  <a:pt x="7529" y="17396"/>
                  <a:pt x="7514" y="17403"/>
                  <a:pt x="7541" y="17363"/>
                </a:cubicBezTo>
              </a:path>
              <a:path w="5161" h="2432">
                <a:moveTo>
                  <a:pt x="8012" y="17587"/>
                </a:moveTo>
                <a:cubicBezTo>
                  <a:pt x="8008" y="17737"/>
                  <a:pt x="7920" y="17899"/>
                  <a:pt x="7987" y="18033"/>
                </a:cubicBezTo>
                <a:cubicBezTo>
                  <a:pt x="7995" y="18041"/>
                  <a:pt x="8004" y="18050"/>
                  <a:pt x="8012" y="18058"/>
                </a:cubicBezTo>
              </a:path>
              <a:path w="5161" h="2432">
                <a:moveTo>
                  <a:pt x="8186" y="17537"/>
                </a:moveTo>
                <a:cubicBezTo>
                  <a:pt x="8296" y="17517"/>
                  <a:pt x="8323" y="17532"/>
                  <a:pt x="8409" y="17611"/>
                </a:cubicBezTo>
                <a:cubicBezTo>
                  <a:pt x="8449" y="17648"/>
                  <a:pt x="8458" y="17683"/>
                  <a:pt x="8458" y="17735"/>
                </a:cubicBezTo>
                <a:cubicBezTo>
                  <a:pt x="8458" y="17743"/>
                  <a:pt x="8458" y="17752"/>
                  <a:pt x="8458" y="17760"/>
                </a:cubicBezTo>
                <a:cubicBezTo>
                  <a:pt x="8410" y="17760"/>
                  <a:pt x="8291" y="17738"/>
                  <a:pt x="8285" y="17785"/>
                </a:cubicBezTo>
                <a:cubicBezTo>
                  <a:pt x="8275" y="17867"/>
                  <a:pt x="8346" y="17989"/>
                  <a:pt x="8359" y="18058"/>
                </a:cubicBezTo>
                <a:cubicBezTo>
                  <a:pt x="8375" y="18143"/>
                  <a:pt x="8336" y="18182"/>
                  <a:pt x="8260" y="18182"/>
                </a:cubicBezTo>
                <a:cubicBezTo>
                  <a:pt x="8188" y="18182"/>
                  <a:pt x="8164" y="18146"/>
                  <a:pt x="8161" y="18083"/>
                </a:cubicBezTo>
                <a:cubicBezTo>
                  <a:pt x="8156" y="17976"/>
                  <a:pt x="8209" y="17876"/>
                  <a:pt x="8260" y="17785"/>
                </a:cubicBezTo>
                <a:cubicBezTo>
                  <a:pt x="8277" y="17760"/>
                  <a:pt x="8293" y="17736"/>
                  <a:pt x="8310" y="17711"/>
                </a:cubicBezTo>
              </a:path>
              <a:path w="5161" h="2432">
                <a:moveTo>
                  <a:pt x="9178" y="17090"/>
                </a:moveTo>
                <a:cubicBezTo>
                  <a:pt x="9229" y="17276"/>
                  <a:pt x="9273" y="17440"/>
                  <a:pt x="9252" y="17636"/>
                </a:cubicBezTo>
                <a:cubicBezTo>
                  <a:pt x="9236" y="17785"/>
                  <a:pt x="9221" y="17902"/>
                  <a:pt x="9153" y="18033"/>
                </a:cubicBezTo>
                <a:cubicBezTo>
                  <a:pt x="9130" y="18078"/>
                  <a:pt x="9113" y="18097"/>
                  <a:pt x="9079" y="18132"/>
                </a:cubicBezTo>
                <a:cubicBezTo>
                  <a:pt x="9022" y="18061"/>
                  <a:pt x="9006" y="18000"/>
                  <a:pt x="9004" y="17909"/>
                </a:cubicBezTo>
                <a:cubicBezTo>
                  <a:pt x="9001" y="17798"/>
                  <a:pt x="9022" y="17697"/>
                  <a:pt x="9029" y="17587"/>
                </a:cubicBezTo>
              </a:path>
              <a:path w="5161" h="2432">
                <a:moveTo>
                  <a:pt x="9327" y="16446"/>
                </a:moveTo>
                <a:cubicBezTo>
                  <a:pt x="9327" y="16471"/>
                  <a:pt x="9327" y="16495"/>
                  <a:pt x="9327" y="165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he direction angle is calculated by </a:t>
            </a:r>
            <a:r>
              <a:rPr b="0" lang="en-US" sz="5500" spc="-1" strike="noStrike">
                <a:solidFill>
                  <a:srgbClr val="dfd293"/>
                </a:solidFill>
                <a:latin typeface="Arial"/>
              </a:rPr>
              <a:t>Tan </a:t>
            </a:r>
            <a:r>
              <a:rPr b="0" lang="el-GR" sz="5500" spc="-1" strike="noStrike">
                <a:solidFill>
                  <a:srgbClr val="dfd293"/>
                </a:solidFill>
                <a:latin typeface="Arial"/>
                <a:ea typeface="Arial"/>
              </a:rPr>
              <a:t>Θ</a:t>
            </a:r>
            <a:r>
              <a:rPr b="0" lang="en-US" sz="5500" spc="-1" strike="noStrike">
                <a:solidFill>
                  <a:srgbClr val="dfd293"/>
                </a:solidFill>
                <a:latin typeface="Arial"/>
                <a:ea typeface="Arial"/>
              </a:rPr>
              <a:t> =y/x </a:t>
            </a:r>
            <a:endParaRPr b="0" lang="en-US" sz="55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17760" y="3759120"/>
            <a:ext cx="2179440" cy="893880"/>
          </a:xfrm>
          <a:custGeom>
            <a:avLst/>
            <a:gdLst/>
            <a:ahLst/>
            <a:rect l="l" t="t" r="r" b="b"/>
            <a:pathLst>
              <a:path w="6053" h="2481">
                <a:moveTo>
                  <a:pt x="4837" y="10567"/>
                </a:moveTo>
                <a:cubicBezTo>
                  <a:pt x="4869" y="10642"/>
                  <a:pt x="4884" y="10750"/>
                  <a:pt x="4887" y="10840"/>
                </a:cubicBezTo>
                <a:cubicBezTo>
                  <a:pt x="4892" y="10990"/>
                  <a:pt x="4911" y="11134"/>
                  <a:pt x="4911" y="11286"/>
                </a:cubicBezTo>
                <a:cubicBezTo>
                  <a:pt x="4911" y="11471"/>
                  <a:pt x="4920" y="11652"/>
                  <a:pt x="4936" y="11832"/>
                </a:cubicBezTo>
                <a:cubicBezTo>
                  <a:pt x="4945" y="11929"/>
                  <a:pt x="4965" y="11990"/>
                  <a:pt x="4986" y="12080"/>
                </a:cubicBezTo>
                <a:cubicBezTo>
                  <a:pt x="4986" y="12088"/>
                  <a:pt x="4986" y="12097"/>
                  <a:pt x="4986" y="12105"/>
                </a:cubicBezTo>
              </a:path>
              <a:path w="6053" h="2481">
                <a:moveTo>
                  <a:pt x="4217" y="11286"/>
                </a:moveTo>
                <a:cubicBezTo>
                  <a:pt x="4295" y="11247"/>
                  <a:pt x="4422" y="11254"/>
                  <a:pt x="4514" y="11261"/>
                </a:cubicBezTo>
                <a:cubicBezTo>
                  <a:pt x="4704" y="11282"/>
                  <a:pt x="4745" y="11291"/>
                  <a:pt x="4862" y="11286"/>
                </a:cubicBezTo>
              </a:path>
              <a:path w="6053" h="2481">
                <a:moveTo>
                  <a:pt x="5655" y="11609"/>
                </a:moveTo>
                <a:cubicBezTo>
                  <a:pt x="5655" y="11665"/>
                  <a:pt x="5633" y="11569"/>
                  <a:pt x="5631" y="11559"/>
                </a:cubicBezTo>
                <a:cubicBezTo>
                  <a:pt x="5618" y="11497"/>
                  <a:pt x="5602" y="11462"/>
                  <a:pt x="5556" y="11410"/>
                </a:cubicBezTo>
                <a:cubicBezTo>
                  <a:pt x="5516" y="11365"/>
                  <a:pt x="5481" y="11387"/>
                  <a:pt x="5432" y="11410"/>
                </a:cubicBezTo>
                <a:cubicBezTo>
                  <a:pt x="5334" y="11456"/>
                  <a:pt x="5319" y="11493"/>
                  <a:pt x="5259" y="11584"/>
                </a:cubicBezTo>
                <a:cubicBezTo>
                  <a:pt x="5201" y="11673"/>
                  <a:pt x="5163" y="11774"/>
                  <a:pt x="5159" y="11881"/>
                </a:cubicBezTo>
                <a:cubicBezTo>
                  <a:pt x="5157" y="11931"/>
                  <a:pt x="5179" y="12034"/>
                  <a:pt x="5259" y="12030"/>
                </a:cubicBezTo>
                <a:cubicBezTo>
                  <a:pt x="5331" y="12027"/>
                  <a:pt x="5494" y="11944"/>
                  <a:pt x="5531" y="11881"/>
                </a:cubicBezTo>
                <a:cubicBezTo>
                  <a:pt x="5568" y="11819"/>
                  <a:pt x="5637" y="11701"/>
                  <a:pt x="5655" y="11633"/>
                </a:cubicBezTo>
                <a:cubicBezTo>
                  <a:pt x="5655" y="11589"/>
                  <a:pt x="5652" y="11575"/>
                  <a:pt x="5680" y="11559"/>
                </a:cubicBezTo>
                <a:cubicBezTo>
                  <a:pt x="5670" y="11645"/>
                  <a:pt x="5655" y="11718"/>
                  <a:pt x="5655" y="11807"/>
                </a:cubicBezTo>
                <a:cubicBezTo>
                  <a:pt x="5655" y="11894"/>
                  <a:pt x="5670" y="11965"/>
                  <a:pt x="5730" y="12030"/>
                </a:cubicBezTo>
                <a:cubicBezTo>
                  <a:pt x="5781" y="12085"/>
                  <a:pt x="5846" y="12107"/>
                  <a:pt x="5904" y="12080"/>
                </a:cubicBezTo>
                <a:cubicBezTo>
                  <a:pt x="5953" y="12055"/>
                  <a:pt x="5970" y="12046"/>
                  <a:pt x="6003" y="12030"/>
                </a:cubicBezTo>
              </a:path>
              <a:path w="6053" h="2481">
                <a:moveTo>
                  <a:pt x="5978" y="11534"/>
                </a:moveTo>
                <a:cubicBezTo>
                  <a:pt x="5978" y="11648"/>
                  <a:pt x="5991" y="11747"/>
                  <a:pt x="6003" y="11857"/>
                </a:cubicBezTo>
                <a:cubicBezTo>
                  <a:pt x="6010" y="11921"/>
                  <a:pt x="6019" y="11999"/>
                  <a:pt x="6052" y="12055"/>
                </a:cubicBezTo>
                <a:cubicBezTo>
                  <a:pt x="6075" y="12078"/>
                  <a:pt x="6083" y="12082"/>
                  <a:pt x="6077" y="12105"/>
                </a:cubicBezTo>
                <a:cubicBezTo>
                  <a:pt x="6088" y="12048"/>
                  <a:pt x="6120" y="11987"/>
                  <a:pt x="6127" y="11931"/>
                </a:cubicBezTo>
                <a:cubicBezTo>
                  <a:pt x="6140" y="11833"/>
                  <a:pt x="6144" y="11729"/>
                  <a:pt x="6176" y="11633"/>
                </a:cubicBezTo>
                <a:cubicBezTo>
                  <a:pt x="6195" y="11575"/>
                  <a:pt x="6244" y="11488"/>
                  <a:pt x="6300" y="11460"/>
                </a:cubicBezTo>
                <a:cubicBezTo>
                  <a:pt x="6357" y="11431"/>
                  <a:pt x="6402" y="11496"/>
                  <a:pt x="6424" y="11534"/>
                </a:cubicBezTo>
                <a:cubicBezTo>
                  <a:pt x="6473" y="11617"/>
                  <a:pt x="6472" y="11692"/>
                  <a:pt x="6499" y="11782"/>
                </a:cubicBezTo>
                <a:cubicBezTo>
                  <a:pt x="6522" y="11858"/>
                  <a:pt x="6545" y="11913"/>
                  <a:pt x="6573" y="11981"/>
                </a:cubicBezTo>
                <a:cubicBezTo>
                  <a:pt x="6578" y="11994"/>
                  <a:pt x="6595" y="12081"/>
                  <a:pt x="6598" y="12005"/>
                </a:cubicBezTo>
                <a:cubicBezTo>
                  <a:pt x="6598" y="11964"/>
                  <a:pt x="6598" y="11922"/>
                  <a:pt x="6598" y="11881"/>
                </a:cubicBezTo>
              </a:path>
              <a:path w="6053" h="2481">
                <a:moveTo>
                  <a:pt x="6672" y="11261"/>
                </a:moveTo>
                <a:cubicBezTo>
                  <a:pt x="6795" y="11233"/>
                  <a:pt x="6882" y="11211"/>
                  <a:pt x="6995" y="11162"/>
                </a:cubicBezTo>
              </a:path>
              <a:path w="6053" h="2481">
                <a:moveTo>
                  <a:pt x="7342" y="10765"/>
                </a:moveTo>
                <a:cubicBezTo>
                  <a:pt x="7342" y="10881"/>
                  <a:pt x="7342" y="10996"/>
                  <a:pt x="7342" y="11112"/>
                </a:cubicBezTo>
              </a:path>
              <a:path w="6053" h="2481">
                <a:moveTo>
                  <a:pt x="8037" y="10443"/>
                </a:moveTo>
                <a:cubicBezTo>
                  <a:pt x="7998" y="10550"/>
                  <a:pt x="7940" y="10639"/>
                  <a:pt x="7888" y="10740"/>
                </a:cubicBezTo>
                <a:cubicBezTo>
                  <a:pt x="7810" y="10890"/>
                  <a:pt x="7744" y="11031"/>
                  <a:pt x="7689" y="11187"/>
                </a:cubicBezTo>
                <a:cubicBezTo>
                  <a:pt x="7619" y="11384"/>
                  <a:pt x="7587" y="11626"/>
                  <a:pt x="7640" y="11832"/>
                </a:cubicBezTo>
                <a:cubicBezTo>
                  <a:pt x="7673" y="11960"/>
                  <a:pt x="7779" y="12129"/>
                  <a:pt x="7863" y="12229"/>
                </a:cubicBezTo>
                <a:cubicBezTo>
                  <a:pt x="7920" y="12297"/>
                  <a:pt x="7998" y="12356"/>
                  <a:pt x="8062" y="12402"/>
                </a:cubicBezTo>
              </a:path>
              <a:path w="6053" h="2481">
                <a:moveTo>
                  <a:pt x="8384" y="10889"/>
                </a:moveTo>
                <a:cubicBezTo>
                  <a:pt x="8398" y="10947"/>
                  <a:pt x="8396" y="10997"/>
                  <a:pt x="8409" y="11063"/>
                </a:cubicBezTo>
                <a:cubicBezTo>
                  <a:pt x="8431" y="11176"/>
                  <a:pt x="8480" y="11233"/>
                  <a:pt x="8558" y="11311"/>
                </a:cubicBezTo>
                <a:cubicBezTo>
                  <a:pt x="8640" y="11394"/>
                  <a:pt x="8666" y="11424"/>
                  <a:pt x="8781" y="11435"/>
                </a:cubicBezTo>
              </a:path>
              <a:path w="6053" h="2481">
                <a:moveTo>
                  <a:pt x="8855" y="10641"/>
                </a:moveTo>
                <a:cubicBezTo>
                  <a:pt x="8806" y="10761"/>
                  <a:pt x="8742" y="10890"/>
                  <a:pt x="8706" y="11013"/>
                </a:cubicBezTo>
                <a:cubicBezTo>
                  <a:pt x="8662" y="11165"/>
                  <a:pt x="8607" y="11310"/>
                  <a:pt x="8558" y="11460"/>
                </a:cubicBezTo>
                <a:cubicBezTo>
                  <a:pt x="8526" y="11560"/>
                  <a:pt x="8479" y="11681"/>
                  <a:pt x="8458" y="11782"/>
                </a:cubicBezTo>
                <a:cubicBezTo>
                  <a:pt x="8440" y="11865"/>
                  <a:pt x="8448" y="11854"/>
                  <a:pt x="8483" y="11807"/>
                </a:cubicBezTo>
              </a:path>
              <a:path w="6053" h="2481">
                <a:moveTo>
                  <a:pt x="9277" y="10641"/>
                </a:moveTo>
                <a:cubicBezTo>
                  <a:pt x="9193" y="10846"/>
                  <a:pt x="9090" y="11034"/>
                  <a:pt x="9004" y="11237"/>
                </a:cubicBezTo>
                <a:cubicBezTo>
                  <a:pt x="8933" y="11405"/>
                  <a:pt x="8855" y="11582"/>
                  <a:pt x="8806" y="11757"/>
                </a:cubicBezTo>
                <a:cubicBezTo>
                  <a:pt x="8767" y="11895"/>
                  <a:pt x="8760" y="12041"/>
                  <a:pt x="8731" y="12179"/>
                </a:cubicBezTo>
                <a:cubicBezTo>
                  <a:pt x="8719" y="12236"/>
                  <a:pt x="8681" y="12318"/>
                  <a:pt x="8706" y="12303"/>
                </a:cubicBezTo>
                <a:cubicBezTo>
                  <a:pt x="8714" y="12295"/>
                  <a:pt x="8723" y="12286"/>
                  <a:pt x="8731" y="12278"/>
                </a:cubicBezTo>
              </a:path>
              <a:path w="6053" h="2481">
                <a:moveTo>
                  <a:pt x="9203" y="11782"/>
                </a:moveTo>
                <a:cubicBezTo>
                  <a:pt x="9364" y="11962"/>
                  <a:pt x="9467" y="12092"/>
                  <a:pt x="9674" y="12204"/>
                </a:cubicBezTo>
                <a:cubicBezTo>
                  <a:pt x="9729" y="12234"/>
                  <a:pt x="9762" y="12229"/>
                  <a:pt x="9823" y="12229"/>
                </a:cubicBezTo>
              </a:path>
              <a:path w="6053" h="2481">
                <a:moveTo>
                  <a:pt x="9674" y="11757"/>
                </a:moveTo>
                <a:cubicBezTo>
                  <a:pt x="9518" y="11934"/>
                  <a:pt x="9347" y="12111"/>
                  <a:pt x="9252" y="12328"/>
                </a:cubicBezTo>
                <a:cubicBezTo>
                  <a:pt x="9217" y="12409"/>
                  <a:pt x="9178" y="12665"/>
                  <a:pt x="9178" y="12576"/>
                </a:cubicBezTo>
                <a:cubicBezTo>
                  <a:pt x="9178" y="12568"/>
                  <a:pt x="9178" y="12559"/>
                  <a:pt x="9178" y="12551"/>
                </a:cubicBezTo>
              </a:path>
              <a:path w="6053" h="2481">
                <a:moveTo>
                  <a:pt x="9723" y="10443"/>
                </a:moveTo>
                <a:cubicBezTo>
                  <a:pt x="9872" y="10566"/>
                  <a:pt x="9988" y="10735"/>
                  <a:pt x="10071" y="10914"/>
                </a:cubicBezTo>
                <a:cubicBezTo>
                  <a:pt x="10177" y="11143"/>
                  <a:pt x="10250" y="11431"/>
                  <a:pt x="10269" y="11683"/>
                </a:cubicBezTo>
                <a:cubicBezTo>
                  <a:pt x="10291" y="11973"/>
                  <a:pt x="10198" y="12236"/>
                  <a:pt x="10096" y="12502"/>
                </a:cubicBezTo>
                <a:cubicBezTo>
                  <a:pt x="10014" y="12714"/>
                  <a:pt x="9920" y="12788"/>
                  <a:pt x="9748" y="129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Find the direction angle for             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= 3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+ 3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j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35080" y="2062080"/>
            <a:ext cx="1706760" cy="669960"/>
          </a:xfrm>
          <a:custGeom>
            <a:avLst/>
            <a:gdLst/>
            <a:ahLst/>
            <a:rect l="l" t="t" r="r" b="b"/>
            <a:pathLst>
              <a:path w="4739" h="1861">
                <a:moveTo>
                  <a:pt x="6821" y="5730"/>
                </a:moveTo>
                <a:cubicBezTo>
                  <a:pt x="6804" y="5790"/>
                  <a:pt x="6786" y="5811"/>
                  <a:pt x="6722" y="5854"/>
                </a:cubicBezTo>
                <a:cubicBezTo>
                  <a:pt x="6636" y="5911"/>
                  <a:pt x="6531" y="5965"/>
                  <a:pt x="6449" y="6028"/>
                </a:cubicBezTo>
                <a:cubicBezTo>
                  <a:pt x="6329" y="6120"/>
                  <a:pt x="6196" y="6189"/>
                  <a:pt x="6077" y="6276"/>
                </a:cubicBezTo>
                <a:cubicBezTo>
                  <a:pt x="5971" y="6353"/>
                  <a:pt x="5880" y="6439"/>
                  <a:pt x="5779" y="6524"/>
                </a:cubicBezTo>
                <a:cubicBezTo>
                  <a:pt x="5683" y="6605"/>
                  <a:pt x="5655" y="6585"/>
                  <a:pt x="5655" y="6697"/>
                </a:cubicBezTo>
                <a:cubicBezTo>
                  <a:pt x="5655" y="6758"/>
                  <a:pt x="5717" y="6764"/>
                  <a:pt x="5755" y="6796"/>
                </a:cubicBezTo>
                <a:cubicBezTo>
                  <a:pt x="5874" y="6895"/>
                  <a:pt x="5993" y="6963"/>
                  <a:pt x="6127" y="7045"/>
                </a:cubicBezTo>
                <a:cubicBezTo>
                  <a:pt x="6228" y="7107"/>
                  <a:pt x="6331" y="7193"/>
                  <a:pt x="6424" y="7268"/>
                </a:cubicBezTo>
                <a:cubicBezTo>
                  <a:pt x="6498" y="7328"/>
                  <a:pt x="6522" y="7392"/>
                  <a:pt x="6573" y="7466"/>
                </a:cubicBezTo>
                <a:cubicBezTo>
                  <a:pt x="6596" y="7500"/>
                  <a:pt x="6583" y="7514"/>
                  <a:pt x="6598" y="7491"/>
                </a:cubicBezTo>
                <a:cubicBezTo>
                  <a:pt x="6606" y="7474"/>
                  <a:pt x="6615" y="7458"/>
                  <a:pt x="6623" y="7441"/>
                </a:cubicBezTo>
              </a:path>
              <a:path w="4739" h="1861">
                <a:moveTo>
                  <a:pt x="7119" y="6325"/>
                </a:moveTo>
                <a:cubicBezTo>
                  <a:pt x="7196" y="6248"/>
                  <a:pt x="7254" y="6173"/>
                  <a:pt x="7367" y="6152"/>
                </a:cubicBezTo>
                <a:cubicBezTo>
                  <a:pt x="7439" y="6139"/>
                  <a:pt x="7548" y="6114"/>
                  <a:pt x="7615" y="6152"/>
                </a:cubicBezTo>
                <a:cubicBezTo>
                  <a:pt x="7683" y="6191"/>
                  <a:pt x="7753" y="6292"/>
                  <a:pt x="7714" y="6375"/>
                </a:cubicBezTo>
                <a:cubicBezTo>
                  <a:pt x="7679" y="6450"/>
                  <a:pt x="7556" y="6528"/>
                  <a:pt x="7491" y="6573"/>
                </a:cubicBezTo>
                <a:cubicBezTo>
                  <a:pt x="7408" y="6631"/>
                  <a:pt x="7331" y="6680"/>
                  <a:pt x="7243" y="6722"/>
                </a:cubicBezTo>
                <a:cubicBezTo>
                  <a:pt x="7215" y="6722"/>
                  <a:pt x="7204" y="6724"/>
                  <a:pt x="7193" y="6747"/>
                </a:cubicBezTo>
                <a:cubicBezTo>
                  <a:pt x="7276" y="6747"/>
                  <a:pt x="7367" y="6731"/>
                  <a:pt x="7441" y="6772"/>
                </a:cubicBezTo>
                <a:cubicBezTo>
                  <a:pt x="7549" y="6832"/>
                  <a:pt x="7557" y="6895"/>
                  <a:pt x="7590" y="6995"/>
                </a:cubicBezTo>
                <a:cubicBezTo>
                  <a:pt x="7619" y="7083"/>
                  <a:pt x="7581" y="7146"/>
                  <a:pt x="7516" y="7218"/>
                </a:cubicBezTo>
                <a:cubicBezTo>
                  <a:pt x="7437" y="7307"/>
                  <a:pt x="7252" y="7345"/>
                  <a:pt x="7144" y="7367"/>
                </a:cubicBezTo>
                <a:cubicBezTo>
                  <a:pt x="7119" y="7367"/>
                  <a:pt x="7111" y="7367"/>
                  <a:pt x="7094" y="7367"/>
                </a:cubicBezTo>
                <a:cubicBezTo>
                  <a:pt x="7072" y="7323"/>
                  <a:pt x="7095" y="7305"/>
                  <a:pt x="7144" y="7268"/>
                </a:cubicBezTo>
                <a:cubicBezTo>
                  <a:pt x="7218" y="7218"/>
                  <a:pt x="7243" y="7201"/>
                  <a:pt x="7293" y="7169"/>
                </a:cubicBezTo>
              </a:path>
              <a:path w="4739" h="1861">
                <a:moveTo>
                  <a:pt x="7938" y="7144"/>
                </a:moveTo>
                <a:cubicBezTo>
                  <a:pt x="7932" y="7259"/>
                  <a:pt x="7922" y="7339"/>
                  <a:pt x="7888" y="7441"/>
                </a:cubicBezTo>
                <a:cubicBezTo>
                  <a:pt x="7869" y="7498"/>
                  <a:pt x="7838" y="7529"/>
                  <a:pt x="7838" y="7590"/>
                </a:cubicBezTo>
                <a:cubicBezTo>
                  <a:pt x="7860" y="7553"/>
                  <a:pt x="7866" y="7528"/>
                  <a:pt x="7888" y="7491"/>
                </a:cubicBezTo>
              </a:path>
              <a:path w="4739" h="1861">
                <a:moveTo>
                  <a:pt x="8310" y="6424"/>
                </a:moveTo>
                <a:cubicBezTo>
                  <a:pt x="8421" y="6298"/>
                  <a:pt x="8478" y="6229"/>
                  <a:pt x="8632" y="6176"/>
                </a:cubicBezTo>
                <a:cubicBezTo>
                  <a:pt x="8717" y="6147"/>
                  <a:pt x="8823" y="6130"/>
                  <a:pt x="8905" y="6176"/>
                </a:cubicBezTo>
                <a:cubicBezTo>
                  <a:pt x="8976" y="6216"/>
                  <a:pt x="8955" y="6294"/>
                  <a:pt x="8930" y="6350"/>
                </a:cubicBezTo>
                <a:cubicBezTo>
                  <a:pt x="8892" y="6436"/>
                  <a:pt x="8809" y="6500"/>
                  <a:pt x="8731" y="6548"/>
                </a:cubicBezTo>
                <a:cubicBezTo>
                  <a:pt x="8675" y="6583"/>
                  <a:pt x="8629" y="6601"/>
                  <a:pt x="8582" y="6648"/>
                </a:cubicBezTo>
                <a:cubicBezTo>
                  <a:pt x="8574" y="6656"/>
                  <a:pt x="8566" y="6664"/>
                  <a:pt x="8558" y="6672"/>
                </a:cubicBezTo>
                <a:cubicBezTo>
                  <a:pt x="8625" y="6686"/>
                  <a:pt x="8677" y="6675"/>
                  <a:pt x="8756" y="6672"/>
                </a:cubicBezTo>
                <a:cubicBezTo>
                  <a:pt x="8821" y="6669"/>
                  <a:pt x="8930" y="6696"/>
                  <a:pt x="8979" y="6747"/>
                </a:cubicBezTo>
                <a:cubicBezTo>
                  <a:pt x="9079" y="6851"/>
                  <a:pt x="9054" y="6937"/>
                  <a:pt x="9054" y="7069"/>
                </a:cubicBezTo>
                <a:cubicBezTo>
                  <a:pt x="9054" y="7172"/>
                  <a:pt x="9021" y="7209"/>
                  <a:pt x="8954" y="7268"/>
                </a:cubicBezTo>
                <a:cubicBezTo>
                  <a:pt x="8870" y="7342"/>
                  <a:pt x="8842" y="7342"/>
                  <a:pt x="8731" y="7342"/>
                </a:cubicBezTo>
                <a:cubicBezTo>
                  <a:pt x="8690" y="7342"/>
                  <a:pt x="8623" y="7347"/>
                  <a:pt x="8607" y="7293"/>
                </a:cubicBezTo>
                <a:cubicBezTo>
                  <a:pt x="8607" y="7243"/>
                  <a:pt x="8607" y="7226"/>
                  <a:pt x="8607" y="7193"/>
                </a:cubicBezTo>
              </a:path>
              <a:path w="4739" h="1861">
                <a:moveTo>
                  <a:pt x="9426" y="5953"/>
                </a:moveTo>
                <a:cubicBezTo>
                  <a:pt x="9526" y="5936"/>
                  <a:pt x="9549" y="5924"/>
                  <a:pt x="9649" y="5978"/>
                </a:cubicBezTo>
                <a:cubicBezTo>
                  <a:pt x="9763" y="6040"/>
                  <a:pt x="9853" y="6102"/>
                  <a:pt x="9971" y="6152"/>
                </a:cubicBezTo>
                <a:cubicBezTo>
                  <a:pt x="10079" y="6198"/>
                  <a:pt x="10188" y="6250"/>
                  <a:pt x="10294" y="6300"/>
                </a:cubicBezTo>
                <a:cubicBezTo>
                  <a:pt x="10344" y="6325"/>
                  <a:pt x="10360" y="6333"/>
                  <a:pt x="10393" y="6350"/>
                </a:cubicBezTo>
                <a:cubicBezTo>
                  <a:pt x="10335" y="6408"/>
                  <a:pt x="10275" y="6453"/>
                  <a:pt x="10195" y="6499"/>
                </a:cubicBezTo>
                <a:cubicBezTo>
                  <a:pt x="10069" y="6571"/>
                  <a:pt x="9934" y="6653"/>
                  <a:pt x="9823" y="6747"/>
                </a:cubicBezTo>
                <a:cubicBezTo>
                  <a:pt x="9736" y="6821"/>
                  <a:pt x="9664" y="6926"/>
                  <a:pt x="9599" y="7020"/>
                </a:cubicBezTo>
                <a:cubicBezTo>
                  <a:pt x="9559" y="7077"/>
                  <a:pt x="9525" y="7196"/>
                  <a:pt x="9475" y="7243"/>
                </a:cubicBezTo>
                <a:cubicBezTo>
                  <a:pt x="9459" y="7251"/>
                  <a:pt x="9442" y="7260"/>
                  <a:pt x="9426" y="72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3276720"/>
            <a:ext cx="785880" cy="312480"/>
          </a:xfrm>
          <a:custGeom>
            <a:avLst/>
            <a:gdLst/>
            <a:ahLst/>
            <a:rect l="l" t="t" r="r" b="b"/>
            <a:pathLst>
              <a:path w="2183" h="869">
                <a:moveTo>
                  <a:pt x="9054" y="9103"/>
                </a:moveTo>
                <a:cubicBezTo>
                  <a:pt x="9025" y="9220"/>
                  <a:pt x="9049" y="9333"/>
                  <a:pt x="9029" y="9451"/>
                </a:cubicBezTo>
                <a:cubicBezTo>
                  <a:pt x="9006" y="9582"/>
                  <a:pt x="9022" y="9688"/>
                  <a:pt x="9029" y="9823"/>
                </a:cubicBezTo>
                <a:cubicBezTo>
                  <a:pt x="9029" y="9828"/>
                  <a:pt x="9008" y="9966"/>
                  <a:pt x="9004" y="9971"/>
                </a:cubicBezTo>
                <a:cubicBezTo>
                  <a:pt x="8958" y="9971"/>
                  <a:pt x="8938" y="9953"/>
                  <a:pt x="8930" y="9897"/>
                </a:cubicBezTo>
              </a:path>
              <a:path w="2183" h="869">
                <a:moveTo>
                  <a:pt x="8682" y="9550"/>
                </a:moveTo>
                <a:cubicBezTo>
                  <a:pt x="8859" y="9499"/>
                  <a:pt x="8926" y="9510"/>
                  <a:pt x="9103" y="9525"/>
                </a:cubicBezTo>
                <a:cubicBezTo>
                  <a:pt x="9203" y="9525"/>
                  <a:pt x="9236" y="9525"/>
                  <a:pt x="9302" y="9525"/>
                </a:cubicBezTo>
              </a:path>
              <a:path w="2183" h="869">
                <a:moveTo>
                  <a:pt x="9674" y="9525"/>
                </a:moveTo>
                <a:cubicBezTo>
                  <a:pt x="9595" y="9596"/>
                  <a:pt x="9508" y="9634"/>
                  <a:pt x="9426" y="9699"/>
                </a:cubicBezTo>
                <a:cubicBezTo>
                  <a:pt x="9388" y="9729"/>
                  <a:pt x="9330" y="9859"/>
                  <a:pt x="9401" y="9897"/>
                </a:cubicBezTo>
                <a:cubicBezTo>
                  <a:pt x="9476" y="9937"/>
                  <a:pt x="9582" y="9897"/>
                  <a:pt x="9624" y="9847"/>
                </a:cubicBezTo>
                <a:cubicBezTo>
                  <a:pt x="9669" y="9793"/>
                  <a:pt x="9674" y="9768"/>
                  <a:pt x="9674" y="9699"/>
                </a:cubicBezTo>
                <a:cubicBezTo>
                  <a:pt x="9674" y="9666"/>
                  <a:pt x="9674" y="9649"/>
                  <a:pt x="9674" y="9624"/>
                </a:cubicBezTo>
                <a:cubicBezTo>
                  <a:pt x="9640" y="9702"/>
                  <a:pt x="9660" y="9703"/>
                  <a:pt x="9674" y="9773"/>
                </a:cubicBezTo>
                <a:cubicBezTo>
                  <a:pt x="9683" y="9819"/>
                  <a:pt x="9725" y="9864"/>
                  <a:pt x="9773" y="9897"/>
                </a:cubicBezTo>
                <a:cubicBezTo>
                  <a:pt x="9803" y="9918"/>
                  <a:pt x="9831" y="9843"/>
                  <a:pt x="9847" y="9823"/>
                </a:cubicBezTo>
              </a:path>
              <a:path w="2183" h="869">
                <a:moveTo>
                  <a:pt x="9922" y="9599"/>
                </a:moveTo>
                <a:cubicBezTo>
                  <a:pt x="9922" y="9698"/>
                  <a:pt x="9922" y="9798"/>
                  <a:pt x="9922" y="9897"/>
                </a:cubicBezTo>
                <a:cubicBezTo>
                  <a:pt x="9922" y="9795"/>
                  <a:pt x="9912" y="9696"/>
                  <a:pt x="9947" y="9599"/>
                </a:cubicBezTo>
                <a:cubicBezTo>
                  <a:pt x="9972" y="9528"/>
                  <a:pt x="10029" y="9482"/>
                  <a:pt x="10096" y="9525"/>
                </a:cubicBezTo>
                <a:cubicBezTo>
                  <a:pt x="10152" y="9561"/>
                  <a:pt x="10174" y="9616"/>
                  <a:pt x="10195" y="9674"/>
                </a:cubicBezTo>
                <a:cubicBezTo>
                  <a:pt x="10212" y="9720"/>
                  <a:pt x="10220" y="9863"/>
                  <a:pt x="10244" y="9897"/>
                </a:cubicBezTo>
                <a:cubicBezTo>
                  <a:pt x="10248" y="9902"/>
                  <a:pt x="10311" y="9897"/>
                  <a:pt x="10319" y="9897"/>
                </a:cubicBezTo>
              </a:path>
              <a:path w="2183" h="869">
                <a:moveTo>
                  <a:pt x="10517" y="9302"/>
                </a:moveTo>
                <a:cubicBezTo>
                  <a:pt x="10508" y="9403"/>
                  <a:pt x="10491" y="9526"/>
                  <a:pt x="10468" y="9624"/>
                </a:cubicBezTo>
                <a:cubicBezTo>
                  <a:pt x="10451" y="9694"/>
                  <a:pt x="10420" y="9835"/>
                  <a:pt x="10492" y="9897"/>
                </a:cubicBezTo>
                <a:cubicBezTo>
                  <a:pt x="10508" y="9911"/>
                  <a:pt x="10648" y="9969"/>
                  <a:pt x="10666" y="9971"/>
                </a:cubicBezTo>
                <a:cubicBezTo>
                  <a:pt x="10703" y="9975"/>
                  <a:pt x="10834" y="9854"/>
                  <a:pt x="10840" y="9823"/>
                </a:cubicBezTo>
                <a:cubicBezTo>
                  <a:pt x="10881" y="9601"/>
                  <a:pt x="10897" y="9498"/>
                  <a:pt x="10740" y="9376"/>
                </a:cubicBezTo>
                <a:cubicBezTo>
                  <a:pt x="10717" y="9358"/>
                  <a:pt x="10666" y="9294"/>
                  <a:pt x="10616" y="9327"/>
                </a:cubicBezTo>
                <a:cubicBezTo>
                  <a:pt x="10600" y="9343"/>
                  <a:pt x="10583" y="9360"/>
                  <a:pt x="10567" y="9376"/>
                </a:cubicBezTo>
              </a:path>
              <a:path w="2183" h="869">
                <a:moveTo>
                  <a:pt x="10294" y="9525"/>
                </a:moveTo>
                <a:cubicBezTo>
                  <a:pt x="10380" y="9549"/>
                  <a:pt x="10487" y="9584"/>
                  <a:pt x="10567" y="9599"/>
                </a:cubicBezTo>
                <a:cubicBezTo>
                  <a:pt x="10675" y="9619"/>
                  <a:pt x="10726" y="9594"/>
                  <a:pt x="10815" y="95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81320" y="3160800"/>
            <a:ext cx="436680" cy="644400"/>
          </a:xfrm>
          <a:custGeom>
            <a:avLst/>
            <a:gdLst/>
            <a:ahLst/>
            <a:rect l="l" t="t" r="r" b="b"/>
            <a:pathLst>
              <a:path w="1216" h="1787">
                <a:moveTo>
                  <a:pt x="11385" y="9376"/>
                </a:moveTo>
                <a:cubicBezTo>
                  <a:pt x="11479" y="9376"/>
                  <a:pt x="11500" y="9355"/>
                  <a:pt x="11534" y="9401"/>
                </a:cubicBezTo>
              </a:path>
              <a:path w="1216" h="1787">
                <a:moveTo>
                  <a:pt x="11336" y="9599"/>
                </a:moveTo>
                <a:cubicBezTo>
                  <a:pt x="11438" y="9639"/>
                  <a:pt x="11453" y="9674"/>
                  <a:pt x="11559" y="9674"/>
                </a:cubicBezTo>
              </a:path>
              <a:path w="1216" h="1787">
                <a:moveTo>
                  <a:pt x="12005" y="8855"/>
                </a:moveTo>
                <a:cubicBezTo>
                  <a:pt x="12126" y="8778"/>
                  <a:pt x="12140" y="8781"/>
                  <a:pt x="12278" y="8781"/>
                </a:cubicBezTo>
                <a:cubicBezTo>
                  <a:pt x="12420" y="8781"/>
                  <a:pt x="12353" y="8882"/>
                  <a:pt x="12328" y="8930"/>
                </a:cubicBezTo>
                <a:cubicBezTo>
                  <a:pt x="12297" y="8991"/>
                  <a:pt x="12250" y="9038"/>
                  <a:pt x="12179" y="9079"/>
                </a:cubicBezTo>
                <a:cubicBezTo>
                  <a:pt x="12119" y="9114"/>
                  <a:pt x="12139" y="9054"/>
                  <a:pt x="12179" y="9103"/>
                </a:cubicBezTo>
                <a:cubicBezTo>
                  <a:pt x="12231" y="9167"/>
                  <a:pt x="12300" y="9168"/>
                  <a:pt x="12378" y="9227"/>
                </a:cubicBezTo>
                <a:cubicBezTo>
                  <a:pt x="12436" y="9271"/>
                  <a:pt x="12436" y="9354"/>
                  <a:pt x="12427" y="9376"/>
                </a:cubicBezTo>
                <a:cubicBezTo>
                  <a:pt x="12385" y="9484"/>
                  <a:pt x="12339" y="9462"/>
                  <a:pt x="12229" y="9500"/>
                </a:cubicBezTo>
                <a:cubicBezTo>
                  <a:pt x="12169" y="9521"/>
                  <a:pt x="12145" y="9525"/>
                  <a:pt x="12080" y="9525"/>
                </a:cubicBezTo>
                <a:cubicBezTo>
                  <a:pt x="12029" y="9525"/>
                  <a:pt x="12050" y="9566"/>
                  <a:pt x="12030" y="9525"/>
                </a:cubicBezTo>
              </a:path>
              <a:path w="1216" h="1787">
                <a:moveTo>
                  <a:pt x="11956" y="9674"/>
                </a:moveTo>
                <a:cubicBezTo>
                  <a:pt x="12130" y="9674"/>
                  <a:pt x="12309" y="9657"/>
                  <a:pt x="12477" y="9699"/>
                </a:cubicBezTo>
              </a:path>
              <a:path w="1216" h="1787">
                <a:moveTo>
                  <a:pt x="12105" y="9971"/>
                </a:moveTo>
                <a:cubicBezTo>
                  <a:pt x="12237" y="9971"/>
                  <a:pt x="12370" y="9971"/>
                  <a:pt x="12502" y="9971"/>
                </a:cubicBezTo>
                <a:cubicBezTo>
                  <a:pt x="12452" y="10034"/>
                  <a:pt x="12437" y="10026"/>
                  <a:pt x="12378" y="10071"/>
                </a:cubicBezTo>
                <a:cubicBezTo>
                  <a:pt x="12317" y="10117"/>
                  <a:pt x="12264" y="10142"/>
                  <a:pt x="12204" y="10195"/>
                </a:cubicBezTo>
                <a:cubicBezTo>
                  <a:pt x="12289" y="10195"/>
                  <a:pt x="12422" y="10221"/>
                  <a:pt x="12477" y="10269"/>
                </a:cubicBezTo>
                <a:cubicBezTo>
                  <a:pt x="12555" y="10336"/>
                  <a:pt x="12549" y="10365"/>
                  <a:pt x="12526" y="10418"/>
                </a:cubicBezTo>
                <a:cubicBezTo>
                  <a:pt x="12502" y="10472"/>
                  <a:pt x="12447" y="10546"/>
                  <a:pt x="12378" y="10567"/>
                </a:cubicBezTo>
                <a:cubicBezTo>
                  <a:pt x="12269" y="10600"/>
                  <a:pt x="12097" y="10567"/>
                  <a:pt x="11981" y="105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04960" y="3697200"/>
            <a:ext cx="1243080" cy="1133640"/>
          </a:xfrm>
          <a:custGeom>
            <a:avLst/>
            <a:gdLst/>
            <a:ahLst/>
            <a:rect l="l" t="t" r="r" b="b"/>
            <a:pathLst>
              <a:path w="3449" h="3151">
                <a:moveTo>
                  <a:pt x="6052" y="12080"/>
                </a:moveTo>
                <a:cubicBezTo>
                  <a:pt x="6052" y="12153"/>
                  <a:pt x="6036" y="12208"/>
                  <a:pt x="6028" y="12278"/>
                </a:cubicBezTo>
                <a:cubicBezTo>
                  <a:pt x="6018" y="12372"/>
                  <a:pt x="5991" y="12457"/>
                  <a:pt x="5978" y="12551"/>
                </a:cubicBezTo>
                <a:cubicBezTo>
                  <a:pt x="5969" y="12614"/>
                  <a:pt x="5978" y="12686"/>
                  <a:pt x="5978" y="12750"/>
                </a:cubicBezTo>
              </a:path>
              <a:path w="3449" h="3151">
                <a:moveTo>
                  <a:pt x="6672" y="12055"/>
                </a:moveTo>
                <a:cubicBezTo>
                  <a:pt x="6689" y="12210"/>
                  <a:pt x="6697" y="12348"/>
                  <a:pt x="6697" y="12502"/>
                </a:cubicBezTo>
                <a:cubicBezTo>
                  <a:pt x="6697" y="12616"/>
                  <a:pt x="6697" y="12717"/>
                  <a:pt x="6722" y="12824"/>
                </a:cubicBezTo>
                <a:cubicBezTo>
                  <a:pt x="6733" y="12871"/>
                  <a:pt x="6712" y="12875"/>
                  <a:pt x="6747" y="12898"/>
                </a:cubicBezTo>
              </a:path>
              <a:path w="3449" h="3151">
                <a:moveTo>
                  <a:pt x="7640" y="12105"/>
                </a:moveTo>
                <a:cubicBezTo>
                  <a:pt x="7620" y="12263"/>
                  <a:pt x="7633" y="12335"/>
                  <a:pt x="7640" y="12477"/>
                </a:cubicBezTo>
                <a:cubicBezTo>
                  <a:pt x="7644" y="12558"/>
                  <a:pt x="7655" y="12623"/>
                  <a:pt x="7665" y="12700"/>
                </a:cubicBezTo>
              </a:path>
              <a:path w="3449" h="3151">
                <a:moveTo>
                  <a:pt x="4862" y="11658"/>
                </a:moveTo>
                <a:cubicBezTo>
                  <a:pt x="4998" y="11681"/>
                  <a:pt x="5080" y="11674"/>
                  <a:pt x="5209" y="11658"/>
                </a:cubicBezTo>
                <a:cubicBezTo>
                  <a:pt x="5295" y="11648"/>
                  <a:pt x="5374" y="11643"/>
                  <a:pt x="5457" y="11633"/>
                </a:cubicBezTo>
              </a:path>
              <a:path w="3449" h="3151">
                <a:moveTo>
                  <a:pt x="4762" y="10914"/>
                </a:moveTo>
                <a:cubicBezTo>
                  <a:pt x="4850" y="10914"/>
                  <a:pt x="4924" y="10936"/>
                  <a:pt x="5011" y="10939"/>
                </a:cubicBezTo>
                <a:cubicBezTo>
                  <a:pt x="5135" y="10944"/>
                  <a:pt x="5259" y="10939"/>
                  <a:pt x="5383" y="10939"/>
                </a:cubicBezTo>
              </a:path>
              <a:path w="3449" h="3151">
                <a:moveTo>
                  <a:pt x="4738" y="10269"/>
                </a:moveTo>
                <a:cubicBezTo>
                  <a:pt x="4969" y="10269"/>
                  <a:pt x="5201" y="10269"/>
                  <a:pt x="5432" y="10269"/>
                </a:cubicBezTo>
              </a:path>
              <a:path w="3449" h="3151">
                <a:moveTo>
                  <a:pt x="5060" y="12328"/>
                </a:moveTo>
                <a:cubicBezTo>
                  <a:pt x="5100" y="12312"/>
                  <a:pt x="5119" y="12299"/>
                  <a:pt x="5159" y="12278"/>
                </a:cubicBezTo>
                <a:cubicBezTo>
                  <a:pt x="5198" y="12257"/>
                  <a:pt x="5242" y="12232"/>
                  <a:pt x="5283" y="12204"/>
                </a:cubicBezTo>
                <a:cubicBezTo>
                  <a:pt x="5339" y="12167"/>
                  <a:pt x="5401" y="12142"/>
                  <a:pt x="5457" y="12105"/>
                </a:cubicBezTo>
                <a:cubicBezTo>
                  <a:pt x="5530" y="12057"/>
                  <a:pt x="5610" y="12004"/>
                  <a:pt x="5680" y="11956"/>
                </a:cubicBezTo>
                <a:cubicBezTo>
                  <a:pt x="5771" y="11893"/>
                  <a:pt x="5859" y="11819"/>
                  <a:pt x="5953" y="11757"/>
                </a:cubicBezTo>
                <a:cubicBezTo>
                  <a:pt x="6065" y="11683"/>
                  <a:pt x="6171" y="11613"/>
                  <a:pt x="6276" y="11534"/>
                </a:cubicBezTo>
                <a:cubicBezTo>
                  <a:pt x="6415" y="11430"/>
                  <a:pt x="6587" y="11366"/>
                  <a:pt x="6722" y="11261"/>
                </a:cubicBezTo>
                <a:cubicBezTo>
                  <a:pt x="6830" y="11178"/>
                  <a:pt x="6937" y="11097"/>
                  <a:pt x="7045" y="11013"/>
                </a:cubicBezTo>
                <a:cubicBezTo>
                  <a:pt x="7127" y="10949"/>
                  <a:pt x="7230" y="10868"/>
                  <a:pt x="7317" y="10815"/>
                </a:cubicBezTo>
                <a:cubicBezTo>
                  <a:pt x="7413" y="10757"/>
                  <a:pt x="7459" y="10714"/>
                  <a:pt x="7541" y="10641"/>
                </a:cubicBezTo>
                <a:cubicBezTo>
                  <a:pt x="7602" y="10587"/>
                  <a:pt x="7630" y="10569"/>
                  <a:pt x="7665" y="10517"/>
                </a:cubicBezTo>
                <a:cubicBezTo>
                  <a:pt x="7683" y="10490"/>
                  <a:pt x="7694" y="10488"/>
                  <a:pt x="7640" y="10517"/>
                </a:cubicBezTo>
                <a:cubicBezTo>
                  <a:pt x="7586" y="10546"/>
                  <a:pt x="7575" y="10580"/>
                  <a:pt x="7491" y="10592"/>
                </a:cubicBezTo>
                <a:cubicBezTo>
                  <a:pt x="7400" y="10605"/>
                  <a:pt x="7333" y="10634"/>
                  <a:pt x="7243" y="10641"/>
                </a:cubicBezTo>
                <a:cubicBezTo>
                  <a:pt x="7097" y="10652"/>
                  <a:pt x="6994" y="10654"/>
                  <a:pt x="6871" y="10691"/>
                </a:cubicBezTo>
                <a:cubicBezTo>
                  <a:pt x="6863" y="10691"/>
                  <a:pt x="6854" y="10691"/>
                  <a:pt x="6846" y="10691"/>
                </a:cubicBezTo>
                <a:cubicBezTo>
                  <a:pt x="6909" y="10667"/>
                  <a:pt x="6983" y="10667"/>
                  <a:pt x="7045" y="10641"/>
                </a:cubicBezTo>
                <a:cubicBezTo>
                  <a:pt x="7122" y="10608"/>
                  <a:pt x="7216" y="10539"/>
                  <a:pt x="7293" y="10492"/>
                </a:cubicBezTo>
                <a:cubicBezTo>
                  <a:pt x="7370" y="10445"/>
                  <a:pt x="7466" y="10398"/>
                  <a:pt x="7541" y="10368"/>
                </a:cubicBezTo>
                <a:cubicBezTo>
                  <a:pt x="7573" y="10355"/>
                  <a:pt x="7678" y="10324"/>
                  <a:pt x="7714" y="10344"/>
                </a:cubicBezTo>
                <a:cubicBezTo>
                  <a:pt x="7757" y="10368"/>
                  <a:pt x="7774" y="10450"/>
                  <a:pt x="7789" y="10492"/>
                </a:cubicBezTo>
                <a:cubicBezTo>
                  <a:pt x="7815" y="10562"/>
                  <a:pt x="7819" y="10641"/>
                  <a:pt x="7838" y="10716"/>
                </a:cubicBezTo>
                <a:cubicBezTo>
                  <a:pt x="7855" y="10784"/>
                  <a:pt x="7882" y="10808"/>
                  <a:pt x="7913" y="10864"/>
                </a:cubicBezTo>
                <a:cubicBezTo>
                  <a:pt x="7930" y="10894"/>
                  <a:pt x="7944" y="10909"/>
                  <a:pt x="7962" y="10939"/>
                </a:cubicBezTo>
              </a:path>
              <a:path w="3449" h="3151">
                <a:moveTo>
                  <a:pt x="6276" y="12874"/>
                </a:moveTo>
                <a:cubicBezTo>
                  <a:pt x="6315" y="12864"/>
                  <a:pt x="6330" y="12849"/>
                  <a:pt x="6375" y="12849"/>
                </a:cubicBezTo>
                <a:cubicBezTo>
                  <a:pt x="6424" y="12849"/>
                  <a:pt x="6518" y="12827"/>
                  <a:pt x="6548" y="12874"/>
                </a:cubicBezTo>
                <a:cubicBezTo>
                  <a:pt x="6573" y="12913"/>
                  <a:pt x="6581" y="12935"/>
                  <a:pt x="6548" y="12973"/>
                </a:cubicBezTo>
                <a:cubicBezTo>
                  <a:pt x="6516" y="13010"/>
                  <a:pt x="6481" y="13025"/>
                  <a:pt x="6449" y="13047"/>
                </a:cubicBezTo>
                <a:cubicBezTo>
                  <a:pt x="6418" y="13068"/>
                  <a:pt x="6405" y="13074"/>
                  <a:pt x="6375" y="13097"/>
                </a:cubicBezTo>
                <a:cubicBezTo>
                  <a:pt x="6415" y="13105"/>
                  <a:pt x="6496" y="13137"/>
                  <a:pt x="6524" y="13171"/>
                </a:cubicBezTo>
                <a:cubicBezTo>
                  <a:pt x="6572" y="13227"/>
                  <a:pt x="6573" y="13274"/>
                  <a:pt x="6573" y="13345"/>
                </a:cubicBezTo>
                <a:cubicBezTo>
                  <a:pt x="6573" y="13379"/>
                  <a:pt x="6551" y="13417"/>
                  <a:pt x="6524" y="13419"/>
                </a:cubicBezTo>
                <a:cubicBezTo>
                  <a:pt x="6460" y="13424"/>
                  <a:pt x="6408" y="13421"/>
                  <a:pt x="6350" y="13395"/>
                </a:cubicBezTo>
                <a:cubicBezTo>
                  <a:pt x="6311" y="13378"/>
                  <a:pt x="6246" y="13365"/>
                  <a:pt x="6226" y="13320"/>
                </a:cubicBezTo>
                <a:cubicBezTo>
                  <a:pt x="6226" y="13312"/>
                  <a:pt x="6226" y="13303"/>
                  <a:pt x="6226" y="13295"/>
                </a:cubicBezTo>
              </a:path>
              <a:path w="3449" h="3151">
                <a:moveTo>
                  <a:pt x="7689" y="12328"/>
                </a:moveTo>
                <a:cubicBezTo>
                  <a:pt x="7689" y="12353"/>
                  <a:pt x="7689" y="12361"/>
                  <a:pt x="7689" y="12378"/>
                </a:cubicBezTo>
                <a:cubicBezTo>
                  <a:pt x="7674" y="12307"/>
                  <a:pt x="7681" y="12332"/>
                  <a:pt x="7689" y="12254"/>
                </a:cubicBezTo>
                <a:cubicBezTo>
                  <a:pt x="7700" y="12148"/>
                  <a:pt x="7704" y="12037"/>
                  <a:pt x="7714" y="11931"/>
                </a:cubicBezTo>
                <a:cubicBezTo>
                  <a:pt x="7738" y="11678"/>
                  <a:pt x="7712" y="11409"/>
                  <a:pt x="7689" y="11162"/>
                </a:cubicBezTo>
                <a:cubicBezTo>
                  <a:pt x="7679" y="11053"/>
                  <a:pt x="7689" y="10946"/>
                  <a:pt x="7665" y="10840"/>
                </a:cubicBezTo>
                <a:cubicBezTo>
                  <a:pt x="7644" y="10744"/>
                  <a:pt x="7640" y="10667"/>
                  <a:pt x="7640" y="10567"/>
                </a:cubicBezTo>
                <a:cubicBezTo>
                  <a:pt x="7640" y="10501"/>
                  <a:pt x="7640" y="10484"/>
                  <a:pt x="7640" y="10443"/>
                </a:cubicBezTo>
                <a:cubicBezTo>
                  <a:pt x="7631" y="10507"/>
                  <a:pt x="7638" y="10479"/>
                  <a:pt x="7615" y="10517"/>
                </a:cubicBezTo>
              </a:path>
              <a:path w="3449" h="3151">
                <a:moveTo>
                  <a:pt x="7838" y="11237"/>
                </a:moveTo>
                <a:cubicBezTo>
                  <a:pt x="7930" y="11198"/>
                  <a:pt x="7972" y="11206"/>
                  <a:pt x="8086" y="11237"/>
                </a:cubicBezTo>
                <a:cubicBezTo>
                  <a:pt x="8153" y="11255"/>
                  <a:pt x="8136" y="11282"/>
                  <a:pt x="8136" y="11336"/>
                </a:cubicBezTo>
                <a:cubicBezTo>
                  <a:pt x="8136" y="11388"/>
                  <a:pt x="8104" y="11385"/>
                  <a:pt x="8062" y="11385"/>
                </a:cubicBezTo>
                <a:cubicBezTo>
                  <a:pt x="8021" y="11385"/>
                  <a:pt x="8049" y="11398"/>
                  <a:pt x="8012" y="11410"/>
                </a:cubicBezTo>
                <a:cubicBezTo>
                  <a:pt x="8054" y="11452"/>
                  <a:pt x="8090" y="11475"/>
                  <a:pt x="8136" y="11509"/>
                </a:cubicBezTo>
                <a:cubicBezTo>
                  <a:pt x="8172" y="11536"/>
                  <a:pt x="8210" y="11585"/>
                  <a:pt x="8186" y="11633"/>
                </a:cubicBezTo>
                <a:cubicBezTo>
                  <a:pt x="8158" y="11689"/>
                  <a:pt x="8152" y="11683"/>
                  <a:pt x="8086" y="11683"/>
                </a:cubicBezTo>
                <a:cubicBezTo>
                  <a:pt x="7995" y="11683"/>
                  <a:pt x="7904" y="11683"/>
                  <a:pt x="7813" y="11683"/>
                </a:cubicBezTo>
              </a:path>
              <a:path w="3449" h="3151">
                <a:moveTo>
                  <a:pt x="6350" y="11782"/>
                </a:moveTo>
                <a:cubicBezTo>
                  <a:pt x="6306" y="11841"/>
                  <a:pt x="6268" y="11909"/>
                  <a:pt x="6226" y="11981"/>
                </a:cubicBezTo>
                <a:cubicBezTo>
                  <a:pt x="6192" y="12040"/>
                  <a:pt x="6186" y="12099"/>
                  <a:pt x="6226" y="12154"/>
                </a:cubicBezTo>
                <a:cubicBezTo>
                  <a:pt x="6245" y="12180"/>
                  <a:pt x="6293" y="12191"/>
                  <a:pt x="6325" y="12179"/>
                </a:cubicBezTo>
                <a:cubicBezTo>
                  <a:pt x="6407" y="12150"/>
                  <a:pt x="6427" y="12118"/>
                  <a:pt x="6474" y="12055"/>
                </a:cubicBezTo>
                <a:cubicBezTo>
                  <a:pt x="6501" y="12018"/>
                  <a:pt x="6518" y="11930"/>
                  <a:pt x="6499" y="11881"/>
                </a:cubicBezTo>
                <a:cubicBezTo>
                  <a:pt x="6480" y="11832"/>
                  <a:pt x="6434" y="11805"/>
                  <a:pt x="6400" y="11782"/>
                </a:cubicBezTo>
                <a:cubicBezTo>
                  <a:pt x="6377" y="11759"/>
                  <a:pt x="6373" y="11751"/>
                  <a:pt x="6350" y="11757"/>
                </a:cubicBezTo>
              </a:path>
              <a:path w="3449" h="3151">
                <a:moveTo>
                  <a:pt x="6077" y="11931"/>
                </a:moveTo>
                <a:cubicBezTo>
                  <a:pt x="6222" y="11931"/>
                  <a:pt x="6361" y="11939"/>
                  <a:pt x="6499" y="11956"/>
                </a:cubicBezTo>
                <a:cubicBezTo>
                  <a:pt x="6546" y="11962"/>
                  <a:pt x="6600" y="11956"/>
                  <a:pt x="6648" y="119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87840" y="4027320"/>
            <a:ext cx="1170000" cy="393840"/>
          </a:xfrm>
          <a:custGeom>
            <a:avLst/>
            <a:gdLst/>
            <a:ahLst/>
            <a:rect l="l" t="t" r="r" b="b"/>
            <a:pathLst>
              <a:path w="3251" h="1092">
                <a:moveTo>
                  <a:pt x="10641" y="11187"/>
                </a:moveTo>
                <a:cubicBezTo>
                  <a:pt x="10641" y="11325"/>
                  <a:pt x="10634" y="11473"/>
                  <a:pt x="10616" y="11609"/>
                </a:cubicBezTo>
                <a:cubicBezTo>
                  <a:pt x="10604" y="11704"/>
                  <a:pt x="10592" y="11785"/>
                  <a:pt x="10592" y="11881"/>
                </a:cubicBezTo>
                <a:cubicBezTo>
                  <a:pt x="10592" y="11922"/>
                  <a:pt x="10592" y="11964"/>
                  <a:pt x="10592" y="12005"/>
                </a:cubicBezTo>
              </a:path>
              <a:path w="3251" h="1092">
                <a:moveTo>
                  <a:pt x="10244" y="11584"/>
                </a:moveTo>
                <a:cubicBezTo>
                  <a:pt x="10517" y="11584"/>
                  <a:pt x="10800" y="11599"/>
                  <a:pt x="11063" y="11559"/>
                </a:cubicBezTo>
                <a:cubicBezTo>
                  <a:pt x="11079" y="11559"/>
                  <a:pt x="11096" y="11559"/>
                  <a:pt x="11112" y="11559"/>
                </a:cubicBezTo>
                <a:cubicBezTo>
                  <a:pt x="11049" y="11623"/>
                  <a:pt x="10983" y="11652"/>
                  <a:pt x="10914" y="11708"/>
                </a:cubicBezTo>
                <a:cubicBezTo>
                  <a:pt x="10850" y="11760"/>
                  <a:pt x="10821" y="11827"/>
                  <a:pt x="10815" y="11906"/>
                </a:cubicBezTo>
                <a:cubicBezTo>
                  <a:pt x="10812" y="11951"/>
                  <a:pt x="10874" y="11996"/>
                  <a:pt x="10914" y="12005"/>
                </a:cubicBezTo>
                <a:cubicBezTo>
                  <a:pt x="10987" y="12022"/>
                  <a:pt x="11022" y="11962"/>
                  <a:pt x="11063" y="11931"/>
                </a:cubicBezTo>
                <a:cubicBezTo>
                  <a:pt x="11126" y="11884"/>
                  <a:pt x="11148" y="11838"/>
                  <a:pt x="11162" y="11757"/>
                </a:cubicBezTo>
                <a:cubicBezTo>
                  <a:pt x="11169" y="11718"/>
                  <a:pt x="11162" y="11673"/>
                  <a:pt x="11162" y="11633"/>
                </a:cubicBezTo>
                <a:cubicBezTo>
                  <a:pt x="11162" y="11542"/>
                  <a:pt x="11165" y="11768"/>
                  <a:pt x="11187" y="11857"/>
                </a:cubicBezTo>
                <a:cubicBezTo>
                  <a:pt x="11204" y="11928"/>
                  <a:pt x="11252" y="11948"/>
                  <a:pt x="11311" y="11956"/>
                </a:cubicBezTo>
              </a:path>
              <a:path w="3251" h="1092">
                <a:moveTo>
                  <a:pt x="11385" y="11708"/>
                </a:moveTo>
                <a:cubicBezTo>
                  <a:pt x="11385" y="11820"/>
                  <a:pt x="11375" y="11926"/>
                  <a:pt x="11410" y="12030"/>
                </a:cubicBezTo>
                <a:cubicBezTo>
                  <a:pt x="11410" y="11963"/>
                  <a:pt x="11425" y="11918"/>
                  <a:pt x="11435" y="11857"/>
                </a:cubicBezTo>
                <a:cubicBezTo>
                  <a:pt x="11452" y="11753"/>
                  <a:pt x="11482" y="11701"/>
                  <a:pt x="11534" y="11609"/>
                </a:cubicBezTo>
                <a:cubicBezTo>
                  <a:pt x="11561" y="11562"/>
                  <a:pt x="11601" y="11485"/>
                  <a:pt x="11658" y="11559"/>
                </a:cubicBezTo>
                <a:cubicBezTo>
                  <a:pt x="11713" y="11631"/>
                  <a:pt x="11730" y="11721"/>
                  <a:pt x="11733" y="11807"/>
                </a:cubicBezTo>
                <a:cubicBezTo>
                  <a:pt x="11736" y="11893"/>
                  <a:pt x="11757" y="11968"/>
                  <a:pt x="11757" y="12055"/>
                </a:cubicBezTo>
                <a:cubicBezTo>
                  <a:pt x="11757" y="12083"/>
                  <a:pt x="11759" y="12094"/>
                  <a:pt x="11782" y="12105"/>
                </a:cubicBezTo>
                <a:cubicBezTo>
                  <a:pt x="11814" y="12066"/>
                  <a:pt x="11834" y="12027"/>
                  <a:pt x="11857" y="11981"/>
                </a:cubicBezTo>
              </a:path>
              <a:path w="3251" h="1092">
                <a:moveTo>
                  <a:pt x="12030" y="11485"/>
                </a:moveTo>
                <a:cubicBezTo>
                  <a:pt x="12003" y="11606"/>
                  <a:pt x="11949" y="11735"/>
                  <a:pt x="11931" y="11857"/>
                </a:cubicBezTo>
                <a:cubicBezTo>
                  <a:pt x="11923" y="11914"/>
                  <a:pt x="11938" y="12043"/>
                  <a:pt x="11981" y="12080"/>
                </a:cubicBezTo>
                <a:cubicBezTo>
                  <a:pt x="12049" y="12139"/>
                  <a:pt x="12135" y="12201"/>
                  <a:pt x="12204" y="12105"/>
                </a:cubicBezTo>
                <a:cubicBezTo>
                  <a:pt x="12259" y="12029"/>
                  <a:pt x="12275" y="11921"/>
                  <a:pt x="12278" y="11832"/>
                </a:cubicBezTo>
                <a:cubicBezTo>
                  <a:pt x="12281" y="11737"/>
                  <a:pt x="12257" y="11592"/>
                  <a:pt x="12204" y="11509"/>
                </a:cubicBezTo>
                <a:cubicBezTo>
                  <a:pt x="12170" y="11456"/>
                  <a:pt x="12136" y="11435"/>
                  <a:pt x="12080" y="11435"/>
                </a:cubicBezTo>
                <a:cubicBezTo>
                  <a:pt x="12052" y="11435"/>
                  <a:pt x="12041" y="11437"/>
                  <a:pt x="12030" y="11460"/>
                </a:cubicBezTo>
              </a:path>
              <a:path w="3251" h="1092">
                <a:moveTo>
                  <a:pt x="11807" y="11757"/>
                </a:moveTo>
                <a:cubicBezTo>
                  <a:pt x="11888" y="11784"/>
                  <a:pt x="11968" y="11805"/>
                  <a:pt x="12055" y="11807"/>
                </a:cubicBezTo>
                <a:cubicBezTo>
                  <a:pt x="12113" y="11807"/>
                  <a:pt x="12171" y="11807"/>
                  <a:pt x="12229" y="11807"/>
                </a:cubicBezTo>
              </a:path>
              <a:path w="3251" h="1092">
                <a:moveTo>
                  <a:pt x="12700" y="11733"/>
                </a:moveTo>
                <a:cubicBezTo>
                  <a:pt x="12788" y="11747"/>
                  <a:pt x="12860" y="11757"/>
                  <a:pt x="12948" y="11757"/>
                </a:cubicBezTo>
              </a:path>
              <a:path w="3251" h="1092">
                <a:moveTo>
                  <a:pt x="12725" y="11931"/>
                </a:moveTo>
                <a:cubicBezTo>
                  <a:pt x="12853" y="11966"/>
                  <a:pt x="12919" y="11988"/>
                  <a:pt x="13047" y="11956"/>
                </a:cubicBezTo>
              </a:path>
              <a:path w="3251" h="1092">
                <a:moveTo>
                  <a:pt x="13494" y="11485"/>
                </a:moveTo>
                <a:cubicBezTo>
                  <a:pt x="13477" y="11671"/>
                  <a:pt x="13469" y="11844"/>
                  <a:pt x="13469" y="12030"/>
                </a:cubicBezTo>
                <a:cubicBezTo>
                  <a:pt x="13469" y="12113"/>
                  <a:pt x="13469" y="12195"/>
                  <a:pt x="13469" y="122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0920" y="4680000"/>
            <a:ext cx="2527200" cy="561960"/>
          </a:xfrm>
          <a:custGeom>
            <a:avLst/>
            <a:gdLst/>
            <a:ahLst/>
            <a:rect l="l" t="t" r="r" b="b"/>
            <a:pathLst>
              <a:path w="7020" h="1563">
                <a:moveTo>
                  <a:pt x="10071" y="12998"/>
                </a:moveTo>
                <a:cubicBezTo>
                  <a:pt x="10071" y="13168"/>
                  <a:pt x="10038" y="13356"/>
                  <a:pt x="10046" y="13519"/>
                </a:cubicBezTo>
                <a:cubicBezTo>
                  <a:pt x="10053" y="13660"/>
                  <a:pt x="10071" y="13797"/>
                  <a:pt x="10071" y="13940"/>
                </a:cubicBezTo>
                <a:cubicBezTo>
                  <a:pt x="10071" y="14019"/>
                  <a:pt x="10080" y="14073"/>
                  <a:pt x="10096" y="14139"/>
                </a:cubicBezTo>
              </a:path>
              <a:path w="7020" h="1563">
                <a:moveTo>
                  <a:pt x="9699" y="13618"/>
                </a:moveTo>
                <a:cubicBezTo>
                  <a:pt x="9737" y="13559"/>
                  <a:pt x="9824" y="13588"/>
                  <a:pt x="9897" y="13593"/>
                </a:cubicBezTo>
                <a:cubicBezTo>
                  <a:pt x="10009" y="13601"/>
                  <a:pt x="10107" y="13603"/>
                  <a:pt x="10220" y="13618"/>
                </a:cubicBezTo>
              </a:path>
              <a:path w="7020" h="1563">
                <a:moveTo>
                  <a:pt x="10666" y="13618"/>
                </a:moveTo>
                <a:cubicBezTo>
                  <a:pt x="10596" y="13687"/>
                  <a:pt x="10518" y="13729"/>
                  <a:pt x="10443" y="13791"/>
                </a:cubicBezTo>
                <a:cubicBezTo>
                  <a:pt x="10378" y="13844"/>
                  <a:pt x="10350" y="13910"/>
                  <a:pt x="10344" y="13990"/>
                </a:cubicBezTo>
                <a:cubicBezTo>
                  <a:pt x="10341" y="14029"/>
                  <a:pt x="10410" y="14082"/>
                  <a:pt x="10443" y="14089"/>
                </a:cubicBezTo>
                <a:cubicBezTo>
                  <a:pt x="10509" y="14102"/>
                  <a:pt x="10598" y="14067"/>
                  <a:pt x="10641" y="14015"/>
                </a:cubicBezTo>
                <a:cubicBezTo>
                  <a:pt x="10710" y="13933"/>
                  <a:pt x="10732" y="13868"/>
                  <a:pt x="10740" y="13767"/>
                </a:cubicBezTo>
                <a:cubicBezTo>
                  <a:pt x="10741" y="13759"/>
                  <a:pt x="10740" y="13675"/>
                  <a:pt x="10740" y="13742"/>
                </a:cubicBezTo>
                <a:cubicBezTo>
                  <a:pt x="10740" y="13818"/>
                  <a:pt x="10734" y="13872"/>
                  <a:pt x="10765" y="13940"/>
                </a:cubicBezTo>
                <a:cubicBezTo>
                  <a:pt x="10797" y="14012"/>
                  <a:pt x="10838" y="14060"/>
                  <a:pt x="10914" y="14064"/>
                </a:cubicBezTo>
                <a:cubicBezTo>
                  <a:pt x="10931" y="14064"/>
                  <a:pt x="10947" y="14064"/>
                  <a:pt x="10964" y="14064"/>
                </a:cubicBezTo>
              </a:path>
              <a:path w="7020" h="1563">
                <a:moveTo>
                  <a:pt x="11063" y="13816"/>
                </a:moveTo>
                <a:cubicBezTo>
                  <a:pt x="11068" y="13947"/>
                  <a:pt x="11045" y="14021"/>
                  <a:pt x="11112" y="14114"/>
                </a:cubicBezTo>
                <a:cubicBezTo>
                  <a:pt x="11112" y="14040"/>
                  <a:pt x="11128" y="13982"/>
                  <a:pt x="11137" y="13915"/>
                </a:cubicBezTo>
                <a:cubicBezTo>
                  <a:pt x="11146" y="13844"/>
                  <a:pt x="11108" y="13674"/>
                  <a:pt x="11261" y="13717"/>
                </a:cubicBezTo>
                <a:cubicBezTo>
                  <a:pt x="11296" y="13727"/>
                  <a:pt x="11349" y="13909"/>
                  <a:pt x="11361" y="13940"/>
                </a:cubicBezTo>
                <a:cubicBezTo>
                  <a:pt x="11372" y="13971"/>
                  <a:pt x="11383" y="14096"/>
                  <a:pt x="11410" y="14114"/>
                </a:cubicBezTo>
                <a:cubicBezTo>
                  <a:pt x="11435" y="14114"/>
                  <a:pt x="11443" y="14114"/>
                  <a:pt x="11435" y="14089"/>
                </a:cubicBezTo>
              </a:path>
              <a:path w="7020" h="1563">
                <a:moveTo>
                  <a:pt x="11435" y="13494"/>
                </a:moveTo>
                <a:cubicBezTo>
                  <a:pt x="11542" y="13494"/>
                  <a:pt x="11650" y="13494"/>
                  <a:pt x="11757" y="13494"/>
                </a:cubicBezTo>
              </a:path>
              <a:path w="7020" h="1563">
                <a:moveTo>
                  <a:pt x="11981" y="13196"/>
                </a:moveTo>
                <a:cubicBezTo>
                  <a:pt x="11981" y="13307"/>
                  <a:pt x="11988" y="13379"/>
                  <a:pt x="12005" y="13469"/>
                </a:cubicBezTo>
                <a:cubicBezTo>
                  <a:pt x="12005" y="13514"/>
                  <a:pt x="12001" y="13527"/>
                  <a:pt x="12030" y="13543"/>
                </a:cubicBezTo>
              </a:path>
              <a:path w="7020" h="1563">
                <a:moveTo>
                  <a:pt x="12551" y="13221"/>
                </a:moveTo>
                <a:cubicBezTo>
                  <a:pt x="12486" y="13328"/>
                  <a:pt x="12375" y="13452"/>
                  <a:pt x="12328" y="13568"/>
                </a:cubicBezTo>
                <a:cubicBezTo>
                  <a:pt x="12279" y="13689"/>
                  <a:pt x="12257" y="13836"/>
                  <a:pt x="12254" y="13965"/>
                </a:cubicBezTo>
                <a:cubicBezTo>
                  <a:pt x="12251" y="14075"/>
                  <a:pt x="12269" y="14240"/>
                  <a:pt x="12328" y="14337"/>
                </a:cubicBezTo>
                <a:cubicBezTo>
                  <a:pt x="12368" y="14402"/>
                  <a:pt x="12445" y="14441"/>
                  <a:pt x="12502" y="14486"/>
                </a:cubicBezTo>
              </a:path>
              <a:path w="7020" h="1563">
                <a:moveTo>
                  <a:pt x="12799" y="13618"/>
                </a:moveTo>
                <a:cubicBezTo>
                  <a:pt x="12976" y="13653"/>
                  <a:pt x="13007" y="13618"/>
                  <a:pt x="13072" y="13692"/>
                </a:cubicBezTo>
                <a:cubicBezTo>
                  <a:pt x="13072" y="13752"/>
                  <a:pt x="13063" y="13740"/>
                  <a:pt x="13022" y="13767"/>
                </a:cubicBezTo>
                <a:cubicBezTo>
                  <a:pt x="12980" y="13795"/>
                  <a:pt x="12949" y="13791"/>
                  <a:pt x="12898" y="13791"/>
                </a:cubicBezTo>
                <a:cubicBezTo>
                  <a:pt x="12890" y="13791"/>
                  <a:pt x="12882" y="13791"/>
                  <a:pt x="12874" y="13791"/>
                </a:cubicBezTo>
                <a:cubicBezTo>
                  <a:pt x="12886" y="13840"/>
                  <a:pt x="12921" y="13849"/>
                  <a:pt x="12948" y="13891"/>
                </a:cubicBezTo>
                <a:cubicBezTo>
                  <a:pt x="12999" y="13969"/>
                  <a:pt x="13081" y="14050"/>
                  <a:pt x="13022" y="14139"/>
                </a:cubicBezTo>
                <a:cubicBezTo>
                  <a:pt x="13001" y="14170"/>
                  <a:pt x="12933" y="14186"/>
                  <a:pt x="12898" y="14188"/>
                </a:cubicBezTo>
                <a:cubicBezTo>
                  <a:pt x="12839" y="14192"/>
                  <a:pt x="12758" y="14166"/>
                  <a:pt x="12725" y="14114"/>
                </a:cubicBezTo>
                <a:cubicBezTo>
                  <a:pt x="12725" y="14081"/>
                  <a:pt x="12725" y="14064"/>
                  <a:pt x="12725" y="14039"/>
                </a:cubicBezTo>
              </a:path>
              <a:path w="7020" h="1563">
                <a:moveTo>
                  <a:pt x="13469" y="13395"/>
                </a:moveTo>
                <a:cubicBezTo>
                  <a:pt x="13447" y="13568"/>
                  <a:pt x="13424" y="13680"/>
                  <a:pt x="13370" y="13841"/>
                </a:cubicBezTo>
                <a:cubicBezTo>
                  <a:pt x="13329" y="13965"/>
                  <a:pt x="13273" y="14071"/>
                  <a:pt x="13221" y="14188"/>
                </a:cubicBezTo>
                <a:cubicBezTo>
                  <a:pt x="13215" y="14203"/>
                  <a:pt x="13160" y="14374"/>
                  <a:pt x="13171" y="14387"/>
                </a:cubicBezTo>
                <a:cubicBezTo>
                  <a:pt x="13206" y="14387"/>
                  <a:pt x="13219" y="14378"/>
                  <a:pt x="13221" y="14337"/>
                </a:cubicBezTo>
              </a:path>
              <a:path w="7020" h="1563">
                <a:moveTo>
                  <a:pt x="13667" y="13717"/>
                </a:moveTo>
                <a:cubicBezTo>
                  <a:pt x="13782" y="13750"/>
                  <a:pt x="13826" y="13748"/>
                  <a:pt x="13866" y="13866"/>
                </a:cubicBezTo>
                <a:cubicBezTo>
                  <a:pt x="13834" y="13890"/>
                  <a:pt x="13796" y="13895"/>
                  <a:pt x="13767" y="13915"/>
                </a:cubicBezTo>
                <a:cubicBezTo>
                  <a:pt x="13735" y="13936"/>
                  <a:pt x="13723" y="13942"/>
                  <a:pt x="13692" y="13965"/>
                </a:cubicBezTo>
                <a:cubicBezTo>
                  <a:pt x="13706" y="14023"/>
                  <a:pt x="13755" y="14038"/>
                  <a:pt x="13791" y="14089"/>
                </a:cubicBezTo>
                <a:cubicBezTo>
                  <a:pt x="13811" y="14118"/>
                  <a:pt x="13880" y="14228"/>
                  <a:pt x="13866" y="14263"/>
                </a:cubicBezTo>
                <a:cubicBezTo>
                  <a:pt x="13853" y="14295"/>
                  <a:pt x="13797" y="14334"/>
                  <a:pt x="13767" y="14337"/>
                </a:cubicBezTo>
                <a:cubicBezTo>
                  <a:pt x="13691" y="14346"/>
                  <a:pt x="13646" y="14319"/>
                  <a:pt x="13618" y="14238"/>
                </a:cubicBezTo>
                <a:cubicBezTo>
                  <a:pt x="13618" y="14221"/>
                  <a:pt x="13618" y="14205"/>
                  <a:pt x="13618" y="14188"/>
                </a:cubicBezTo>
              </a:path>
              <a:path w="7020" h="1563">
                <a:moveTo>
                  <a:pt x="14015" y="13271"/>
                </a:moveTo>
                <a:cubicBezTo>
                  <a:pt x="14107" y="13435"/>
                  <a:pt x="14218" y="13626"/>
                  <a:pt x="14238" y="13816"/>
                </a:cubicBezTo>
                <a:cubicBezTo>
                  <a:pt x="14261" y="14031"/>
                  <a:pt x="14241" y="14080"/>
                  <a:pt x="14163" y="14238"/>
                </a:cubicBezTo>
                <a:cubicBezTo>
                  <a:pt x="14126" y="14313"/>
                  <a:pt x="14073" y="14354"/>
                  <a:pt x="13990" y="14387"/>
                </a:cubicBezTo>
                <a:cubicBezTo>
                  <a:pt x="13946" y="14405"/>
                  <a:pt x="13914" y="14401"/>
                  <a:pt x="13940" y="14362"/>
                </a:cubicBezTo>
              </a:path>
              <a:path w="7020" h="1563">
                <a:moveTo>
                  <a:pt x="14461" y="13915"/>
                </a:moveTo>
                <a:cubicBezTo>
                  <a:pt x="14556" y="13920"/>
                  <a:pt x="14641" y="13940"/>
                  <a:pt x="14734" y="13940"/>
                </a:cubicBezTo>
              </a:path>
              <a:path w="7020" h="1563">
                <a:moveTo>
                  <a:pt x="14486" y="14213"/>
                </a:moveTo>
                <a:cubicBezTo>
                  <a:pt x="14585" y="14303"/>
                  <a:pt x="14616" y="14298"/>
                  <a:pt x="14734" y="14337"/>
                </a:cubicBezTo>
              </a:path>
              <a:path w="7020" h="1563">
                <a:moveTo>
                  <a:pt x="15230" y="13469"/>
                </a:moveTo>
                <a:cubicBezTo>
                  <a:pt x="15163" y="13518"/>
                  <a:pt x="15097" y="13569"/>
                  <a:pt x="15032" y="13618"/>
                </a:cubicBezTo>
                <a:cubicBezTo>
                  <a:pt x="15001" y="13642"/>
                  <a:pt x="14996" y="13705"/>
                  <a:pt x="15007" y="13742"/>
                </a:cubicBezTo>
                <a:cubicBezTo>
                  <a:pt x="15028" y="13814"/>
                  <a:pt x="15097" y="13856"/>
                  <a:pt x="15156" y="13891"/>
                </a:cubicBezTo>
                <a:cubicBezTo>
                  <a:pt x="15220" y="13930"/>
                  <a:pt x="15361" y="14039"/>
                  <a:pt x="15453" y="13990"/>
                </a:cubicBezTo>
                <a:cubicBezTo>
                  <a:pt x="15470" y="13973"/>
                  <a:pt x="15486" y="13957"/>
                  <a:pt x="15503" y="13940"/>
                </a:cubicBezTo>
              </a:path>
              <a:path w="7020" h="1563">
                <a:moveTo>
                  <a:pt x="15503" y="13196"/>
                </a:moveTo>
                <a:cubicBezTo>
                  <a:pt x="15414" y="13401"/>
                  <a:pt x="15363" y="13589"/>
                  <a:pt x="15354" y="13816"/>
                </a:cubicBezTo>
                <a:cubicBezTo>
                  <a:pt x="15347" y="13976"/>
                  <a:pt x="15391" y="14131"/>
                  <a:pt x="15404" y="14288"/>
                </a:cubicBezTo>
                <a:cubicBezTo>
                  <a:pt x="15411" y="14377"/>
                  <a:pt x="15404" y="14471"/>
                  <a:pt x="15404" y="14560"/>
                </a:cubicBezTo>
              </a:path>
              <a:path w="7020" h="1563">
                <a:moveTo>
                  <a:pt x="15875" y="13519"/>
                </a:moveTo>
                <a:cubicBezTo>
                  <a:pt x="15999" y="13519"/>
                  <a:pt x="16123" y="13519"/>
                  <a:pt x="16247" y="13519"/>
                </a:cubicBezTo>
              </a:path>
              <a:path w="7020" h="1563">
                <a:moveTo>
                  <a:pt x="15701" y="13543"/>
                </a:moveTo>
                <a:cubicBezTo>
                  <a:pt x="15677" y="13635"/>
                  <a:pt x="15661" y="13652"/>
                  <a:pt x="15726" y="13717"/>
                </a:cubicBezTo>
                <a:cubicBezTo>
                  <a:pt x="15765" y="13756"/>
                  <a:pt x="15797" y="13767"/>
                  <a:pt x="15850" y="13767"/>
                </a:cubicBezTo>
                <a:cubicBezTo>
                  <a:pt x="15917" y="13767"/>
                  <a:pt x="15962" y="13781"/>
                  <a:pt x="16024" y="13791"/>
                </a:cubicBezTo>
                <a:cubicBezTo>
                  <a:pt x="16084" y="13801"/>
                  <a:pt x="16178" y="13872"/>
                  <a:pt x="16197" y="13940"/>
                </a:cubicBezTo>
                <a:cubicBezTo>
                  <a:pt x="16233" y="14071"/>
                  <a:pt x="16236" y="14214"/>
                  <a:pt x="16173" y="14337"/>
                </a:cubicBezTo>
                <a:cubicBezTo>
                  <a:pt x="16123" y="14434"/>
                  <a:pt x="16077" y="14444"/>
                  <a:pt x="15999" y="14486"/>
                </a:cubicBezTo>
                <a:cubicBezTo>
                  <a:pt x="15910" y="14534"/>
                  <a:pt x="15872" y="14503"/>
                  <a:pt x="15801" y="14436"/>
                </a:cubicBezTo>
                <a:cubicBezTo>
                  <a:pt x="15705" y="14346"/>
                  <a:pt x="15723" y="14284"/>
                  <a:pt x="15751" y="14163"/>
                </a:cubicBezTo>
              </a:path>
              <a:path w="7020" h="1563">
                <a:moveTo>
                  <a:pt x="16421" y="13320"/>
                </a:moveTo>
                <a:cubicBezTo>
                  <a:pt x="16440" y="13487"/>
                  <a:pt x="16429" y="13473"/>
                  <a:pt x="16570" y="13519"/>
                </a:cubicBezTo>
                <a:cubicBezTo>
                  <a:pt x="16625" y="13537"/>
                  <a:pt x="16688" y="13538"/>
                  <a:pt x="16718" y="13469"/>
                </a:cubicBezTo>
                <a:cubicBezTo>
                  <a:pt x="16755" y="13382"/>
                  <a:pt x="16646" y="13347"/>
                  <a:pt x="16594" y="13320"/>
                </a:cubicBezTo>
                <a:cubicBezTo>
                  <a:pt x="16546" y="13296"/>
                  <a:pt x="16532" y="13287"/>
                  <a:pt x="16495" y="132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77960" y="2955960"/>
            <a:ext cx="171360" cy="2965320"/>
          </a:xfrm>
          <a:custGeom>
            <a:avLst/>
            <a:gdLst/>
            <a:ahLst/>
            <a:rect l="l" t="t" r="r" b="b"/>
            <a:pathLst>
              <a:path w="473" h="8237">
                <a:moveTo>
                  <a:pt x="5035" y="8210"/>
                </a:moveTo>
                <a:cubicBezTo>
                  <a:pt x="5035" y="8781"/>
                  <a:pt x="5109" y="9330"/>
                  <a:pt x="5135" y="9897"/>
                </a:cubicBezTo>
                <a:cubicBezTo>
                  <a:pt x="5185" y="10972"/>
                  <a:pt x="5098" y="12052"/>
                  <a:pt x="5011" y="13122"/>
                </a:cubicBezTo>
                <a:cubicBezTo>
                  <a:pt x="4960" y="13744"/>
                  <a:pt x="4904" y="14363"/>
                  <a:pt x="4837" y="14982"/>
                </a:cubicBezTo>
                <a:cubicBezTo>
                  <a:pt x="4798" y="15339"/>
                  <a:pt x="4756" y="15693"/>
                  <a:pt x="4713" y="16049"/>
                </a:cubicBezTo>
                <a:cubicBezTo>
                  <a:pt x="4690" y="16256"/>
                  <a:pt x="4684" y="16314"/>
                  <a:pt x="4663" y="164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1040" y="4394160"/>
            <a:ext cx="3008160" cy="88920"/>
          </a:xfrm>
          <a:custGeom>
            <a:avLst/>
            <a:gdLst/>
            <a:ahLst/>
            <a:rect l="l" t="t" r="r" b="b"/>
            <a:pathLst>
              <a:path w="8360" h="249">
                <a:moveTo>
                  <a:pt x="1935" y="12229"/>
                </a:moveTo>
                <a:cubicBezTo>
                  <a:pt x="1830" y="12217"/>
                  <a:pt x="1739" y="12213"/>
                  <a:pt x="1637" y="12204"/>
                </a:cubicBezTo>
                <a:cubicBezTo>
                  <a:pt x="1679" y="12204"/>
                  <a:pt x="1670" y="12204"/>
                  <a:pt x="1712" y="12204"/>
                </a:cubicBezTo>
                <a:cubicBezTo>
                  <a:pt x="1946" y="12204"/>
                  <a:pt x="2174" y="12226"/>
                  <a:pt x="2406" y="12229"/>
                </a:cubicBezTo>
                <a:cubicBezTo>
                  <a:pt x="2621" y="12232"/>
                  <a:pt x="2837" y="12236"/>
                  <a:pt x="3051" y="12254"/>
                </a:cubicBezTo>
                <a:cubicBezTo>
                  <a:pt x="3324" y="12277"/>
                  <a:pt x="3597" y="12282"/>
                  <a:pt x="3870" y="12303"/>
                </a:cubicBezTo>
                <a:cubicBezTo>
                  <a:pt x="4175" y="12326"/>
                  <a:pt x="4482" y="12332"/>
                  <a:pt x="4787" y="12353"/>
                </a:cubicBezTo>
                <a:cubicBezTo>
                  <a:pt x="5126" y="12377"/>
                  <a:pt x="5464" y="12399"/>
                  <a:pt x="5804" y="12402"/>
                </a:cubicBezTo>
                <a:cubicBezTo>
                  <a:pt x="6895" y="12413"/>
                  <a:pt x="7990" y="12374"/>
                  <a:pt x="9079" y="12427"/>
                </a:cubicBezTo>
                <a:cubicBezTo>
                  <a:pt x="9309" y="12438"/>
                  <a:pt x="9548" y="12440"/>
                  <a:pt x="9773" y="12452"/>
                </a:cubicBezTo>
                <a:cubicBezTo>
                  <a:pt x="9812" y="12454"/>
                  <a:pt x="9969" y="12474"/>
                  <a:pt x="9971" y="12427"/>
                </a:cubicBezTo>
                <a:cubicBezTo>
                  <a:pt x="9973" y="12371"/>
                  <a:pt x="9890" y="12344"/>
                  <a:pt x="9872" y="123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Find the magnitude and direction angle for 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= 4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– 5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j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68320" y="2108160"/>
            <a:ext cx="1857600" cy="749520"/>
          </a:xfrm>
          <a:custGeom>
            <a:avLst/>
            <a:gdLst/>
            <a:ahLst/>
            <a:rect l="l" t="t" r="r" b="b"/>
            <a:pathLst>
              <a:path w="5161" h="2085">
                <a:moveTo>
                  <a:pt x="5928" y="5854"/>
                </a:moveTo>
                <a:cubicBezTo>
                  <a:pt x="5864" y="5918"/>
                  <a:pt x="5798" y="5970"/>
                  <a:pt x="5730" y="6028"/>
                </a:cubicBezTo>
                <a:cubicBezTo>
                  <a:pt x="5636" y="6108"/>
                  <a:pt x="5535" y="6159"/>
                  <a:pt x="5432" y="6226"/>
                </a:cubicBezTo>
                <a:cubicBezTo>
                  <a:pt x="5339" y="6286"/>
                  <a:pt x="5218" y="6359"/>
                  <a:pt x="5135" y="6424"/>
                </a:cubicBezTo>
                <a:cubicBezTo>
                  <a:pt x="5110" y="6444"/>
                  <a:pt x="4937" y="6558"/>
                  <a:pt x="4911" y="6598"/>
                </a:cubicBezTo>
                <a:cubicBezTo>
                  <a:pt x="4898" y="6618"/>
                  <a:pt x="4927" y="6691"/>
                  <a:pt x="4936" y="6697"/>
                </a:cubicBezTo>
                <a:cubicBezTo>
                  <a:pt x="4986" y="6732"/>
                  <a:pt x="5029" y="6755"/>
                  <a:pt x="5085" y="6796"/>
                </a:cubicBezTo>
                <a:cubicBezTo>
                  <a:pt x="5181" y="6867"/>
                  <a:pt x="5272" y="6937"/>
                  <a:pt x="5358" y="7020"/>
                </a:cubicBezTo>
                <a:cubicBezTo>
                  <a:pt x="5451" y="7109"/>
                  <a:pt x="5550" y="7217"/>
                  <a:pt x="5631" y="7317"/>
                </a:cubicBezTo>
                <a:cubicBezTo>
                  <a:pt x="5690" y="7390"/>
                  <a:pt x="5745" y="7471"/>
                  <a:pt x="5804" y="7541"/>
                </a:cubicBezTo>
                <a:cubicBezTo>
                  <a:pt x="5826" y="7568"/>
                  <a:pt x="5856" y="7589"/>
                  <a:pt x="5879" y="7615"/>
                </a:cubicBezTo>
                <a:cubicBezTo>
                  <a:pt x="5879" y="7582"/>
                  <a:pt x="5879" y="7549"/>
                  <a:pt x="5879" y="7516"/>
                </a:cubicBezTo>
              </a:path>
              <a:path w="5161" h="2085">
                <a:moveTo>
                  <a:pt x="6325" y="6300"/>
                </a:moveTo>
                <a:cubicBezTo>
                  <a:pt x="6298" y="6389"/>
                  <a:pt x="6268" y="6442"/>
                  <a:pt x="6226" y="6524"/>
                </a:cubicBezTo>
                <a:cubicBezTo>
                  <a:pt x="6194" y="6588"/>
                  <a:pt x="6153" y="6633"/>
                  <a:pt x="6127" y="6697"/>
                </a:cubicBezTo>
                <a:cubicBezTo>
                  <a:pt x="6109" y="6741"/>
                  <a:pt x="6090" y="6778"/>
                  <a:pt x="6127" y="6796"/>
                </a:cubicBezTo>
                <a:cubicBezTo>
                  <a:pt x="6173" y="6818"/>
                  <a:pt x="6224" y="6821"/>
                  <a:pt x="6276" y="6821"/>
                </a:cubicBezTo>
                <a:cubicBezTo>
                  <a:pt x="6397" y="6821"/>
                  <a:pt x="6503" y="6833"/>
                  <a:pt x="6623" y="6846"/>
                </a:cubicBezTo>
                <a:cubicBezTo>
                  <a:pt x="6678" y="6852"/>
                  <a:pt x="6774" y="6824"/>
                  <a:pt x="6821" y="6796"/>
                </a:cubicBezTo>
                <a:cubicBezTo>
                  <a:pt x="6829" y="6788"/>
                  <a:pt x="6838" y="6780"/>
                  <a:pt x="6846" y="6772"/>
                </a:cubicBezTo>
              </a:path>
              <a:path w="5161" h="2085">
                <a:moveTo>
                  <a:pt x="6796" y="6176"/>
                </a:moveTo>
                <a:cubicBezTo>
                  <a:pt x="6759" y="6228"/>
                  <a:pt x="6772" y="6283"/>
                  <a:pt x="6772" y="6350"/>
                </a:cubicBezTo>
                <a:cubicBezTo>
                  <a:pt x="6772" y="6495"/>
                  <a:pt x="6759" y="6630"/>
                  <a:pt x="6747" y="6772"/>
                </a:cubicBezTo>
                <a:cubicBezTo>
                  <a:pt x="6737" y="6897"/>
                  <a:pt x="6745" y="7021"/>
                  <a:pt x="6722" y="7144"/>
                </a:cubicBezTo>
                <a:cubicBezTo>
                  <a:pt x="6704" y="7243"/>
                  <a:pt x="6677" y="7341"/>
                  <a:pt x="6672" y="7441"/>
                </a:cubicBezTo>
                <a:cubicBezTo>
                  <a:pt x="6672" y="7446"/>
                  <a:pt x="6631" y="7606"/>
                  <a:pt x="6672" y="7565"/>
                </a:cubicBezTo>
                <a:cubicBezTo>
                  <a:pt x="6672" y="7541"/>
                  <a:pt x="6672" y="7533"/>
                  <a:pt x="6697" y="7541"/>
                </a:cubicBezTo>
              </a:path>
              <a:path w="5161" h="2085">
                <a:moveTo>
                  <a:pt x="7094" y="7491"/>
                </a:moveTo>
                <a:cubicBezTo>
                  <a:pt x="7068" y="7589"/>
                  <a:pt x="7056" y="7696"/>
                  <a:pt x="7020" y="7789"/>
                </a:cubicBezTo>
                <a:cubicBezTo>
                  <a:pt x="7007" y="7822"/>
                  <a:pt x="6985" y="7886"/>
                  <a:pt x="6970" y="7913"/>
                </a:cubicBezTo>
                <a:cubicBezTo>
                  <a:pt x="6941" y="7966"/>
                  <a:pt x="6962" y="7938"/>
                  <a:pt x="6970" y="7913"/>
                </a:cubicBezTo>
              </a:path>
              <a:path w="5161" h="2085">
                <a:moveTo>
                  <a:pt x="7565" y="6747"/>
                </a:moveTo>
                <a:cubicBezTo>
                  <a:pt x="7679" y="6747"/>
                  <a:pt x="7778" y="6738"/>
                  <a:pt x="7888" y="6722"/>
                </a:cubicBezTo>
                <a:cubicBezTo>
                  <a:pt x="7929" y="6722"/>
                  <a:pt x="7937" y="6722"/>
                  <a:pt x="7962" y="6722"/>
                </a:cubicBezTo>
              </a:path>
              <a:path w="5161" h="2085">
                <a:moveTo>
                  <a:pt x="8458" y="6325"/>
                </a:moveTo>
                <a:cubicBezTo>
                  <a:pt x="8571" y="6309"/>
                  <a:pt x="8668" y="6300"/>
                  <a:pt x="8781" y="6300"/>
                </a:cubicBezTo>
                <a:cubicBezTo>
                  <a:pt x="8838" y="6300"/>
                  <a:pt x="8859" y="6302"/>
                  <a:pt x="8905" y="6276"/>
                </a:cubicBezTo>
              </a:path>
              <a:path w="5161" h="2085">
                <a:moveTo>
                  <a:pt x="8458" y="6400"/>
                </a:moveTo>
                <a:cubicBezTo>
                  <a:pt x="8405" y="6474"/>
                  <a:pt x="8337" y="6557"/>
                  <a:pt x="8310" y="6648"/>
                </a:cubicBezTo>
                <a:cubicBezTo>
                  <a:pt x="8306" y="6661"/>
                  <a:pt x="8259" y="6767"/>
                  <a:pt x="8260" y="6772"/>
                </a:cubicBezTo>
                <a:cubicBezTo>
                  <a:pt x="8268" y="6780"/>
                  <a:pt x="8277" y="6788"/>
                  <a:pt x="8285" y="6796"/>
                </a:cubicBezTo>
                <a:cubicBezTo>
                  <a:pt x="8320" y="6785"/>
                  <a:pt x="8317" y="6771"/>
                  <a:pt x="8359" y="6747"/>
                </a:cubicBezTo>
                <a:cubicBezTo>
                  <a:pt x="8400" y="6723"/>
                  <a:pt x="8462" y="6702"/>
                  <a:pt x="8508" y="6697"/>
                </a:cubicBezTo>
                <a:cubicBezTo>
                  <a:pt x="8550" y="6693"/>
                  <a:pt x="8646" y="6724"/>
                  <a:pt x="8682" y="6747"/>
                </a:cubicBezTo>
                <a:cubicBezTo>
                  <a:pt x="8724" y="6773"/>
                  <a:pt x="8813" y="6876"/>
                  <a:pt x="8830" y="6921"/>
                </a:cubicBezTo>
                <a:cubicBezTo>
                  <a:pt x="8862" y="7004"/>
                  <a:pt x="8847" y="7050"/>
                  <a:pt x="8806" y="7119"/>
                </a:cubicBezTo>
                <a:cubicBezTo>
                  <a:pt x="8761" y="7195"/>
                  <a:pt x="8716" y="7235"/>
                  <a:pt x="8632" y="7268"/>
                </a:cubicBezTo>
                <a:cubicBezTo>
                  <a:pt x="8543" y="7303"/>
                  <a:pt x="8453" y="7293"/>
                  <a:pt x="8359" y="7293"/>
                </a:cubicBezTo>
                <a:cubicBezTo>
                  <a:pt x="8324" y="7293"/>
                  <a:pt x="8287" y="7271"/>
                  <a:pt x="8285" y="7243"/>
                </a:cubicBezTo>
                <a:cubicBezTo>
                  <a:pt x="8285" y="7226"/>
                  <a:pt x="8285" y="7210"/>
                  <a:pt x="8285" y="7193"/>
                </a:cubicBezTo>
              </a:path>
              <a:path w="5161" h="2085">
                <a:moveTo>
                  <a:pt x="9079" y="5953"/>
                </a:moveTo>
                <a:cubicBezTo>
                  <a:pt x="9138" y="6021"/>
                  <a:pt x="9196" y="6108"/>
                  <a:pt x="9277" y="6152"/>
                </a:cubicBezTo>
                <a:cubicBezTo>
                  <a:pt x="9397" y="6217"/>
                  <a:pt x="9524" y="6293"/>
                  <a:pt x="9649" y="6350"/>
                </a:cubicBezTo>
                <a:cubicBezTo>
                  <a:pt x="9758" y="6400"/>
                  <a:pt x="9900" y="6454"/>
                  <a:pt x="9996" y="6524"/>
                </a:cubicBezTo>
                <a:cubicBezTo>
                  <a:pt x="10024" y="6544"/>
                  <a:pt x="10045" y="6575"/>
                  <a:pt x="10071" y="6598"/>
                </a:cubicBezTo>
                <a:cubicBezTo>
                  <a:pt x="10026" y="6621"/>
                  <a:pt x="9970" y="6643"/>
                  <a:pt x="9922" y="6672"/>
                </a:cubicBezTo>
                <a:cubicBezTo>
                  <a:pt x="9817" y="6736"/>
                  <a:pt x="9726" y="6825"/>
                  <a:pt x="9624" y="6896"/>
                </a:cubicBezTo>
                <a:cubicBezTo>
                  <a:pt x="9518" y="6970"/>
                  <a:pt x="9389" y="7049"/>
                  <a:pt x="9302" y="7144"/>
                </a:cubicBezTo>
                <a:cubicBezTo>
                  <a:pt x="9230" y="7222"/>
                  <a:pt x="9155" y="7290"/>
                  <a:pt x="9079" y="7367"/>
                </a:cubicBezTo>
                <a:cubicBezTo>
                  <a:pt x="9062" y="7384"/>
                  <a:pt x="9046" y="7400"/>
                  <a:pt x="9029" y="74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0160" y="1955880"/>
            <a:ext cx="2867040" cy="849240"/>
          </a:xfrm>
          <a:custGeom>
            <a:avLst/>
            <a:gdLst/>
            <a:ahLst/>
            <a:rect l="l" t="t" r="r" b="b"/>
            <a:pathLst>
              <a:path w="7963" h="2358">
                <a:moveTo>
                  <a:pt x="13295" y="6251"/>
                </a:moveTo>
                <a:cubicBezTo>
                  <a:pt x="13259" y="6384"/>
                  <a:pt x="13213" y="6455"/>
                  <a:pt x="13146" y="6573"/>
                </a:cubicBezTo>
                <a:cubicBezTo>
                  <a:pt x="13116" y="6627"/>
                  <a:pt x="13038" y="6661"/>
                  <a:pt x="13022" y="6722"/>
                </a:cubicBezTo>
                <a:cubicBezTo>
                  <a:pt x="13022" y="6763"/>
                  <a:pt x="13022" y="6771"/>
                  <a:pt x="13022" y="6796"/>
                </a:cubicBezTo>
                <a:cubicBezTo>
                  <a:pt x="13079" y="6796"/>
                  <a:pt x="13119" y="6818"/>
                  <a:pt x="13171" y="6821"/>
                </a:cubicBezTo>
                <a:cubicBezTo>
                  <a:pt x="13335" y="6829"/>
                  <a:pt x="13526" y="6848"/>
                  <a:pt x="13667" y="6772"/>
                </a:cubicBezTo>
              </a:path>
              <a:path w="7963" h="2358">
                <a:moveTo>
                  <a:pt x="13543" y="6226"/>
                </a:moveTo>
                <a:cubicBezTo>
                  <a:pt x="13543" y="6639"/>
                  <a:pt x="13890" y="7622"/>
                  <a:pt x="13519" y="7441"/>
                </a:cubicBezTo>
                <a:cubicBezTo>
                  <a:pt x="13511" y="7433"/>
                  <a:pt x="13502" y="7425"/>
                  <a:pt x="13494" y="7417"/>
                </a:cubicBezTo>
              </a:path>
              <a:path w="7963" h="2358">
                <a:moveTo>
                  <a:pt x="12055" y="6846"/>
                </a:moveTo>
                <a:cubicBezTo>
                  <a:pt x="12231" y="6914"/>
                  <a:pt x="12286" y="6927"/>
                  <a:pt x="12402" y="7069"/>
                </a:cubicBezTo>
                <a:cubicBezTo>
                  <a:pt x="12509" y="7199"/>
                  <a:pt x="12531" y="7329"/>
                  <a:pt x="12526" y="7491"/>
                </a:cubicBezTo>
                <a:cubicBezTo>
                  <a:pt x="12524" y="7569"/>
                  <a:pt x="12518" y="7663"/>
                  <a:pt x="12502" y="7739"/>
                </a:cubicBezTo>
                <a:cubicBezTo>
                  <a:pt x="12479" y="7762"/>
                  <a:pt x="12471" y="7766"/>
                  <a:pt x="12477" y="7789"/>
                </a:cubicBezTo>
                <a:cubicBezTo>
                  <a:pt x="12485" y="7628"/>
                  <a:pt x="12499" y="7478"/>
                  <a:pt x="12502" y="7317"/>
                </a:cubicBezTo>
                <a:cubicBezTo>
                  <a:pt x="12505" y="7149"/>
                  <a:pt x="12515" y="6987"/>
                  <a:pt x="12526" y="6821"/>
                </a:cubicBezTo>
                <a:cubicBezTo>
                  <a:pt x="12537" y="6656"/>
                  <a:pt x="12540" y="6489"/>
                  <a:pt x="12551" y="6325"/>
                </a:cubicBezTo>
                <a:cubicBezTo>
                  <a:pt x="12559" y="6200"/>
                  <a:pt x="12552" y="6051"/>
                  <a:pt x="12576" y="5928"/>
                </a:cubicBezTo>
                <a:cubicBezTo>
                  <a:pt x="12588" y="5868"/>
                  <a:pt x="12619" y="5757"/>
                  <a:pt x="12650" y="5705"/>
                </a:cubicBezTo>
                <a:cubicBezTo>
                  <a:pt x="12681" y="5654"/>
                  <a:pt x="12716" y="5605"/>
                  <a:pt x="12774" y="5581"/>
                </a:cubicBezTo>
                <a:cubicBezTo>
                  <a:pt x="12834" y="5556"/>
                  <a:pt x="12957" y="5561"/>
                  <a:pt x="13022" y="5556"/>
                </a:cubicBezTo>
                <a:cubicBezTo>
                  <a:pt x="13261" y="5539"/>
                  <a:pt x="13503" y="5546"/>
                  <a:pt x="13742" y="5531"/>
                </a:cubicBezTo>
                <a:cubicBezTo>
                  <a:pt x="14049" y="5512"/>
                  <a:pt x="14354" y="5469"/>
                  <a:pt x="14660" y="5457"/>
                </a:cubicBezTo>
                <a:cubicBezTo>
                  <a:pt x="14958" y="5445"/>
                  <a:pt x="15254" y="5432"/>
                  <a:pt x="15553" y="5432"/>
                </a:cubicBezTo>
                <a:cubicBezTo>
                  <a:pt x="16066" y="5432"/>
                  <a:pt x="16580" y="5425"/>
                  <a:pt x="17090" y="5457"/>
                </a:cubicBezTo>
                <a:cubicBezTo>
                  <a:pt x="17191" y="5463"/>
                  <a:pt x="17551" y="5461"/>
                  <a:pt x="17562" y="5457"/>
                </a:cubicBezTo>
                <a:cubicBezTo>
                  <a:pt x="17545" y="5449"/>
                  <a:pt x="17529" y="5440"/>
                  <a:pt x="17512" y="5432"/>
                </a:cubicBezTo>
              </a:path>
              <a:path w="7963" h="2358">
                <a:moveTo>
                  <a:pt x="13866" y="6102"/>
                </a:moveTo>
                <a:cubicBezTo>
                  <a:pt x="13939" y="6059"/>
                  <a:pt x="13994" y="6027"/>
                  <a:pt x="14089" y="6052"/>
                </a:cubicBezTo>
                <a:cubicBezTo>
                  <a:pt x="14131" y="6063"/>
                  <a:pt x="14172" y="6138"/>
                  <a:pt x="14163" y="6176"/>
                </a:cubicBezTo>
                <a:cubicBezTo>
                  <a:pt x="14146" y="6250"/>
                  <a:pt x="14088" y="6321"/>
                  <a:pt x="14039" y="6375"/>
                </a:cubicBezTo>
                <a:cubicBezTo>
                  <a:pt x="13993" y="6426"/>
                  <a:pt x="13939" y="6465"/>
                  <a:pt x="13915" y="6524"/>
                </a:cubicBezTo>
                <a:cubicBezTo>
                  <a:pt x="13988" y="6524"/>
                  <a:pt x="14046" y="6510"/>
                  <a:pt x="14114" y="6499"/>
                </a:cubicBezTo>
                <a:cubicBezTo>
                  <a:pt x="14172" y="6499"/>
                  <a:pt x="14197" y="6499"/>
                  <a:pt x="14238" y="6499"/>
                </a:cubicBezTo>
              </a:path>
              <a:path w="7963" h="2358">
                <a:moveTo>
                  <a:pt x="14536" y="6524"/>
                </a:moveTo>
                <a:cubicBezTo>
                  <a:pt x="14516" y="6682"/>
                  <a:pt x="14529" y="6754"/>
                  <a:pt x="14536" y="6896"/>
                </a:cubicBezTo>
                <a:cubicBezTo>
                  <a:pt x="14539" y="6968"/>
                  <a:pt x="14569" y="7026"/>
                  <a:pt x="14585" y="7094"/>
                </a:cubicBezTo>
                <a:cubicBezTo>
                  <a:pt x="14585" y="7122"/>
                  <a:pt x="14587" y="7133"/>
                  <a:pt x="14610" y="7144"/>
                </a:cubicBezTo>
              </a:path>
              <a:path w="7963" h="2358">
                <a:moveTo>
                  <a:pt x="14263" y="6871"/>
                </a:moveTo>
                <a:cubicBezTo>
                  <a:pt x="14389" y="6871"/>
                  <a:pt x="14489" y="6851"/>
                  <a:pt x="14610" y="6846"/>
                </a:cubicBezTo>
                <a:cubicBezTo>
                  <a:pt x="14635" y="6846"/>
                  <a:pt x="14659" y="6846"/>
                  <a:pt x="14684" y="6846"/>
                </a:cubicBezTo>
              </a:path>
              <a:path w="7963" h="2358">
                <a:moveTo>
                  <a:pt x="15304" y="6325"/>
                </a:moveTo>
                <a:cubicBezTo>
                  <a:pt x="15248" y="6382"/>
                  <a:pt x="15221" y="6432"/>
                  <a:pt x="15180" y="6499"/>
                </a:cubicBezTo>
                <a:cubicBezTo>
                  <a:pt x="15119" y="6600"/>
                  <a:pt x="15048" y="6685"/>
                  <a:pt x="15007" y="6796"/>
                </a:cubicBezTo>
                <a:cubicBezTo>
                  <a:pt x="14973" y="6888"/>
                  <a:pt x="14917" y="7019"/>
                  <a:pt x="14932" y="7119"/>
                </a:cubicBezTo>
                <a:cubicBezTo>
                  <a:pt x="14946" y="7211"/>
                  <a:pt x="14967" y="7301"/>
                  <a:pt x="15032" y="7367"/>
                </a:cubicBezTo>
                <a:cubicBezTo>
                  <a:pt x="15065" y="7401"/>
                  <a:pt x="15086" y="7392"/>
                  <a:pt x="15131" y="7392"/>
                </a:cubicBezTo>
              </a:path>
              <a:path w="7963" h="2358">
                <a:moveTo>
                  <a:pt x="15354" y="6821"/>
                </a:moveTo>
                <a:cubicBezTo>
                  <a:pt x="15444" y="6821"/>
                  <a:pt x="15494" y="6802"/>
                  <a:pt x="15577" y="6796"/>
                </a:cubicBezTo>
                <a:cubicBezTo>
                  <a:pt x="15585" y="6796"/>
                  <a:pt x="15594" y="6796"/>
                  <a:pt x="15602" y="6796"/>
                </a:cubicBezTo>
              </a:path>
              <a:path w="7963" h="2358">
                <a:moveTo>
                  <a:pt x="15850" y="6548"/>
                </a:moveTo>
                <a:cubicBezTo>
                  <a:pt x="15929" y="6516"/>
                  <a:pt x="16052" y="6493"/>
                  <a:pt x="16123" y="6449"/>
                </a:cubicBezTo>
                <a:cubicBezTo>
                  <a:pt x="16131" y="6441"/>
                  <a:pt x="16140" y="6432"/>
                  <a:pt x="16148" y="6424"/>
                </a:cubicBezTo>
              </a:path>
              <a:path w="7963" h="2358">
                <a:moveTo>
                  <a:pt x="15875" y="6548"/>
                </a:moveTo>
                <a:cubicBezTo>
                  <a:pt x="15782" y="6642"/>
                  <a:pt x="15751" y="6637"/>
                  <a:pt x="15751" y="6747"/>
                </a:cubicBezTo>
                <a:cubicBezTo>
                  <a:pt x="15751" y="6799"/>
                  <a:pt x="15783" y="6796"/>
                  <a:pt x="15825" y="6796"/>
                </a:cubicBezTo>
                <a:cubicBezTo>
                  <a:pt x="15890" y="6796"/>
                  <a:pt x="15898" y="6768"/>
                  <a:pt x="15949" y="6747"/>
                </a:cubicBezTo>
                <a:cubicBezTo>
                  <a:pt x="15991" y="6729"/>
                  <a:pt x="16065" y="6707"/>
                  <a:pt x="16098" y="6747"/>
                </a:cubicBezTo>
                <a:cubicBezTo>
                  <a:pt x="16136" y="6793"/>
                  <a:pt x="16146" y="6890"/>
                  <a:pt x="16148" y="6945"/>
                </a:cubicBezTo>
                <a:cubicBezTo>
                  <a:pt x="16152" y="7036"/>
                  <a:pt x="16111" y="7111"/>
                  <a:pt x="16073" y="7193"/>
                </a:cubicBezTo>
                <a:cubicBezTo>
                  <a:pt x="16035" y="7274"/>
                  <a:pt x="15994" y="7269"/>
                  <a:pt x="15925" y="7317"/>
                </a:cubicBezTo>
                <a:cubicBezTo>
                  <a:pt x="15866" y="7358"/>
                  <a:pt x="15830" y="7341"/>
                  <a:pt x="15776" y="7293"/>
                </a:cubicBezTo>
                <a:cubicBezTo>
                  <a:pt x="15741" y="7258"/>
                  <a:pt x="15728" y="7236"/>
                  <a:pt x="15726" y="7193"/>
                </a:cubicBezTo>
              </a:path>
              <a:path w="7963" h="2358">
                <a:moveTo>
                  <a:pt x="16272" y="6276"/>
                </a:moveTo>
                <a:cubicBezTo>
                  <a:pt x="16323" y="6387"/>
                  <a:pt x="16376" y="6501"/>
                  <a:pt x="16396" y="6623"/>
                </a:cubicBezTo>
                <a:cubicBezTo>
                  <a:pt x="16424" y="6790"/>
                  <a:pt x="16439" y="6955"/>
                  <a:pt x="16396" y="7119"/>
                </a:cubicBezTo>
                <a:cubicBezTo>
                  <a:pt x="16373" y="7206"/>
                  <a:pt x="16337" y="7287"/>
                  <a:pt x="16297" y="7367"/>
                </a:cubicBezTo>
                <a:cubicBezTo>
                  <a:pt x="16271" y="7419"/>
                  <a:pt x="16250" y="7428"/>
                  <a:pt x="16197" y="7441"/>
                </a:cubicBezTo>
                <a:cubicBezTo>
                  <a:pt x="16159" y="7389"/>
                  <a:pt x="16191" y="7336"/>
                  <a:pt x="16197" y="7268"/>
                </a:cubicBezTo>
              </a:path>
              <a:path w="7963" h="2358">
                <a:moveTo>
                  <a:pt x="16545" y="6152"/>
                </a:moveTo>
                <a:cubicBezTo>
                  <a:pt x="16668" y="6108"/>
                  <a:pt x="16709" y="6077"/>
                  <a:pt x="16818" y="6152"/>
                </a:cubicBezTo>
                <a:cubicBezTo>
                  <a:pt x="16871" y="6189"/>
                  <a:pt x="16830" y="6237"/>
                  <a:pt x="16818" y="6276"/>
                </a:cubicBezTo>
                <a:cubicBezTo>
                  <a:pt x="16803" y="6328"/>
                  <a:pt x="16780" y="6325"/>
                  <a:pt x="16743" y="6350"/>
                </a:cubicBezTo>
                <a:cubicBezTo>
                  <a:pt x="16735" y="6358"/>
                  <a:pt x="16726" y="6367"/>
                  <a:pt x="16718" y="6375"/>
                </a:cubicBezTo>
                <a:cubicBezTo>
                  <a:pt x="16817" y="6375"/>
                  <a:pt x="16917" y="6375"/>
                  <a:pt x="17016" y="6375"/>
                </a:cubicBezTo>
              </a:path>
              <a:path w="7963" h="2358">
                <a:moveTo>
                  <a:pt x="17363" y="6772"/>
                </a:moveTo>
                <a:cubicBezTo>
                  <a:pt x="17418" y="6783"/>
                  <a:pt x="17453" y="6796"/>
                  <a:pt x="17512" y="6796"/>
                </a:cubicBezTo>
                <a:cubicBezTo>
                  <a:pt x="17545" y="6796"/>
                  <a:pt x="17578" y="6796"/>
                  <a:pt x="17611" y="6796"/>
                </a:cubicBezTo>
              </a:path>
              <a:path w="7963" h="2358">
                <a:moveTo>
                  <a:pt x="17314" y="6995"/>
                </a:moveTo>
                <a:cubicBezTo>
                  <a:pt x="17388" y="6995"/>
                  <a:pt x="17463" y="6995"/>
                  <a:pt x="17537" y="6995"/>
                </a:cubicBezTo>
              </a:path>
              <a:path w="7963" h="2358">
                <a:moveTo>
                  <a:pt x="18058" y="6424"/>
                </a:moveTo>
                <a:cubicBezTo>
                  <a:pt x="18075" y="6486"/>
                  <a:pt x="18081" y="6523"/>
                  <a:pt x="18083" y="6598"/>
                </a:cubicBezTo>
                <a:cubicBezTo>
                  <a:pt x="18086" y="6700"/>
                  <a:pt x="18104" y="6795"/>
                  <a:pt x="18107" y="6896"/>
                </a:cubicBezTo>
                <a:cubicBezTo>
                  <a:pt x="18113" y="7069"/>
                  <a:pt x="18107" y="7244"/>
                  <a:pt x="18107" y="7417"/>
                </a:cubicBezTo>
                <a:cubicBezTo>
                  <a:pt x="18113" y="7402"/>
                  <a:pt x="18153" y="7313"/>
                  <a:pt x="18157" y="7268"/>
                </a:cubicBezTo>
                <a:cubicBezTo>
                  <a:pt x="18165" y="7176"/>
                  <a:pt x="18165" y="7085"/>
                  <a:pt x="18182" y="6995"/>
                </a:cubicBezTo>
                <a:cubicBezTo>
                  <a:pt x="18206" y="6868"/>
                  <a:pt x="18221" y="6749"/>
                  <a:pt x="18256" y="6623"/>
                </a:cubicBezTo>
                <a:cubicBezTo>
                  <a:pt x="18286" y="6515"/>
                  <a:pt x="18294" y="6403"/>
                  <a:pt x="18331" y="6300"/>
                </a:cubicBezTo>
                <a:cubicBezTo>
                  <a:pt x="18355" y="6234"/>
                  <a:pt x="18360" y="6168"/>
                  <a:pt x="18380" y="6102"/>
                </a:cubicBezTo>
                <a:cubicBezTo>
                  <a:pt x="18407" y="6011"/>
                  <a:pt x="18394" y="6021"/>
                  <a:pt x="18455" y="5978"/>
                </a:cubicBezTo>
                <a:cubicBezTo>
                  <a:pt x="18516" y="5935"/>
                  <a:pt x="18608" y="5953"/>
                  <a:pt x="18678" y="5953"/>
                </a:cubicBezTo>
                <a:cubicBezTo>
                  <a:pt x="18803" y="5953"/>
                  <a:pt x="18923" y="5928"/>
                  <a:pt x="19050" y="5928"/>
                </a:cubicBezTo>
                <a:cubicBezTo>
                  <a:pt x="19218" y="5928"/>
                  <a:pt x="19379" y="5908"/>
                  <a:pt x="19546" y="5904"/>
                </a:cubicBezTo>
                <a:cubicBezTo>
                  <a:pt x="19666" y="5901"/>
                  <a:pt x="19776" y="5883"/>
                  <a:pt x="19893" y="5879"/>
                </a:cubicBezTo>
                <a:cubicBezTo>
                  <a:pt x="19979" y="5876"/>
                  <a:pt x="20030" y="5900"/>
                  <a:pt x="19968" y="5854"/>
                </a:cubicBezTo>
                <a:cubicBezTo>
                  <a:pt x="19960" y="5854"/>
                  <a:pt x="19951" y="5854"/>
                  <a:pt x="19943" y="5854"/>
                </a:cubicBezTo>
              </a:path>
              <a:path w="7963" h="2358">
                <a:moveTo>
                  <a:pt x="18554" y="6474"/>
                </a:moveTo>
                <a:cubicBezTo>
                  <a:pt x="18534" y="6548"/>
                  <a:pt x="18529" y="6597"/>
                  <a:pt x="18529" y="6672"/>
                </a:cubicBezTo>
                <a:cubicBezTo>
                  <a:pt x="18529" y="6723"/>
                  <a:pt x="18540" y="6731"/>
                  <a:pt x="18554" y="6772"/>
                </a:cubicBezTo>
                <a:cubicBezTo>
                  <a:pt x="18568" y="6814"/>
                  <a:pt x="18572" y="6831"/>
                  <a:pt x="18604" y="6846"/>
                </a:cubicBezTo>
                <a:cubicBezTo>
                  <a:pt x="18659" y="6872"/>
                  <a:pt x="18741" y="6892"/>
                  <a:pt x="18802" y="6871"/>
                </a:cubicBezTo>
                <a:cubicBezTo>
                  <a:pt x="18877" y="6845"/>
                  <a:pt x="18941" y="6797"/>
                  <a:pt x="19000" y="6747"/>
                </a:cubicBezTo>
              </a:path>
              <a:path w="7963" h="2358">
                <a:moveTo>
                  <a:pt x="18827" y="6325"/>
                </a:moveTo>
                <a:cubicBezTo>
                  <a:pt x="18790" y="6459"/>
                  <a:pt x="18756" y="6584"/>
                  <a:pt x="18752" y="6722"/>
                </a:cubicBezTo>
                <a:cubicBezTo>
                  <a:pt x="18748" y="6859"/>
                  <a:pt x="18746" y="6986"/>
                  <a:pt x="18728" y="7119"/>
                </a:cubicBezTo>
                <a:cubicBezTo>
                  <a:pt x="18723" y="7156"/>
                  <a:pt x="18737" y="7403"/>
                  <a:pt x="18752" y="7342"/>
                </a:cubicBezTo>
                <a:cubicBezTo>
                  <a:pt x="18752" y="7298"/>
                  <a:pt x="18749" y="7284"/>
                  <a:pt x="18777" y="7268"/>
                </a:cubicBezTo>
              </a:path>
              <a:path w="7963" h="2358">
                <a:moveTo>
                  <a:pt x="19372" y="6251"/>
                </a:moveTo>
                <a:cubicBezTo>
                  <a:pt x="19399" y="6330"/>
                  <a:pt x="19406" y="6412"/>
                  <a:pt x="19397" y="6499"/>
                </a:cubicBezTo>
                <a:cubicBezTo>
                  <a:pt x="19381" y="6661"/>
                  <a:pt x="19372" y="6808"/>
                  <a:pt x="19372" y="6970"/>
                </a:cubicBezTo>
                <a:cubicBezTo>
                  <a:pt x="19372" y="7105"/>
                  <a:pt x="19361" y="7248"/>
                  <a:pt x="19397" y="7367"/>
                </a:cubicBezTo>
                <a:cubicBezTo>
                  <a:pt x="19413" y="7420"/>
                  <a:pt x="19397" y="7361"/>
                  <a:pt x="19397" y="73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3303720"/>
            <a:ext cx="1982880" cy="635040"/>
          </a:xfrm>
          <a:custGeom>
            <a:avLst/>
            <a:gdLst/>
            <a:ahLst/>
            <a:rect l="l" t="t" r="r" b="b"/>
            <a:pathLst>
              <a:path w="5508" h="1762">
                <a:moveTo>
                  <a:pt x="8632" y="9327"/>
                </a:moveTo>
                <a:cubicBezTo>
                  <a:pt x="8658" y="9405"/>
                  <a:pt x="8679" y="9469"/>
                  <a:pt x="8682" y="9550"/>
                </a:cubicBezTo>
                <a:cubicBezTo>
                  <a:pt x="8687" y="9671"/>
                  <a:pt x="8661" y="9780"/>
                  <a:pt x="8657" y="9897"/>
                </a:cubicBezTo>
                <a:cubicBezTo>
                  <a:pt x="8651" y="10095"/>
                  <a:pt x="8657" y="10294"/>
                  <a:pt x="8657" y="10492"/>
                </a:cubicBezTo>
              </a:path>
              <a:path w="5508" h="1762">
                <a:moveTo>
                  <a:pt x="8210" y="9971"/>
                </a:moveTo>
                <a:cubicBezTo>
                  <a:pt x="8442" y="9971"/>
                  <a:pt x="8673" y="9971"/>
                  <a:pt x="8905" y="9971"/>
                </a:cubicBezTo>
              </a:path>
              <a:path w="5508" h="1762">
                <a:moveTo>
                  <a:pt x="9252" y="10046"/>
                </a:moveTo>
                <a:cubicBezTo>
                  <a:pt x="9296" y="10111"/>
                  <a:pt x="9317" y="10145"/>
                  <a:pt x="9277" y="10071"/>
                </a:cubicBezTo>
                <a:cubicBezTo>
                  <a:pt x="9267" y="10041"/>
                  <a:pt x="9237" y="10014"/>
                  <a:pt x="9203" y="9996"/>
                </a:cubicBezTo>
                <a:cubicBezTo>
                  <a:pt x="9137" y="9996"/>
                  <a:pt x="9081" y="10072"/>
                  <a:pt x="9029" y="10120"/>
                </a:cubicBezTo>
                <a:cubicBezTo>
                  <a:pt x="8986" y="10160"/>
                  <a:pt x="8881" y="10273"/>
                  <a:pt x="8905" y="10344"/>
                </a:cubicBezTo>
                <a:cubicBezTo>
                  <a:pt x="8922" y="10394"/>
                  <a:pt x="8922" y="10418"/>
                  <a:pt x="8979" y="10418"/>
                </a:cubicBezTo>
                <a:cubicBezTo>
                  <a:pt x="9072" y="10418"/>
                  <a:pt x="9037" y="10367"/>
                  <a:pt x="9103" y="10344"/>
                </a:cubicBezTo>
                <a:cubicBezTo>
                  <a:pt x="9156" y="10325"/>
                  <a:pt x="9213" y="10242"/>
                  <a:pt x="9227" y="10195"/>
                </a:cubicBezTo>
                <a:cubicBezTo>
                  <a:pt x="9227" y="10150"/>
                  <a:pt x="9224" y="10137"/>
                  <a:pt x="9252" y="10120"/>
                </a:cubicBezTo>
                <a:cubicBezTo>
                  <a:pt x="9266" y="10190"/>
                  <a:pt x="9270" y="10277"/>
                  <a:pt x="9302" y="10344"/>
                </a:cubicBezTo>
                <a:cubicBezTo>
                  <a:pt x="9333" y="10409"/>
                  <a:pt x="9357" y="10418"/>
                  <a:pt x="9426" y="10418"/>
                </a:cubicBezTo>
                <a:cubicBezTo>
                  <a:pt x="9508" y="10418"/>
                  <a:pt x="9482" y="10426"/>
                  <a:pt x="9550" y="10368"/>
                </a:cubicBezTo>
              </a:path>
              <a:path w="5508" h="1762">
                <a:moveTo>
                  <a:pt x="9624" y="9971"/>
                </a:moveTo>
                <a:cubicBezTo>
                  <a:pt x="9617" y="10074"/>
                  <a:pt x="9599" y="10165"/>
                  <a:pt x="9599" y="10269"/>
                </a:cubicBezTo>
                <a:cubicBezTo>
                  <a:pt x="9599" y="10350"/>
                  <a:pt x="9627" y="10411"/>
                  <a:pt x="9649" y="10492"/>
                </a:cubicBezTo>
                <a:cubicBezTo>
                  <a:pt x="9649" y="10371"/>
                  <a:pt x="9628" y="10234"/>
                  <a:pt x="9674" y="10120"/>
                </a:cubicBezTo>
                <a:cubicBezTo>
                  <a:pt x="9699" y="10059"/>
                  <a:pt x="9713" y="10046"/>
                  <a:pt x="9773" y="10046"/>
                </a:cubicBezTo>
                <a:cubicBezTo>
                  <a:pt x="9858" y="10046"/>
                  <a:pt x="9873" y="10053"/>
                  <a:pt x="9922" y="10120"/>
                </a:cubicBezTo>
                <a:cubicBezTo>
                  <a:pt x="9988" y="10210"/>
                  <a:pt x="9990" y="10339"/>
                  <a:pt x="10046" y="10418"/>
                </a:cubicBezTo>
                <a:cubicBezTo>
                  <a:pt x="10087" y="10418"/>
                  <a:pt x="10096" y="10402"/>
                  <a:pt x="10071" y="10344"/>
                </a:cubicBezTo>
              </a:path>
              <a:path w="5508" h="1762">
                <a:moveTo>
                  <a:pt x="10170" y="9748"/>
                </a:moveTo>
                <a:cubicBezTo>
                  <a:pt x="10261" y="9748"/>
                  <a:pt x="10352" y="9748"/>
                  <a:pt x="10443" y="9748"/>
                </a:cubicBezTo>
              </a:path>
              <a:path w="5508" h="1762">
                <a:moveTo>
                  <a:pt x="10765" y="9302"/>
                </a:moveTo>
                <a:cubicBezTo>
                  <a:pt x="10781" y="9366"/>
                  <a:pt x="10810" y="9437"/>
                  <a:pt x="10815" y="9475"/>
                </a:cubicBezTo>
                <a:cubicBezTo>
                  <a:pt x="10821" y="9525"/>
                  <a:pt x="10840" y="9539"/>
                  <a:pt x="10840" y="9599"/>
                </a:cubicBezTo>
              </a:path>
              <a:path w="5508" h="1762">
                <a:moveTo>
                  <a:pt x="11485" y="9178"/>
                </a:moveTo>
                <a:cubicBezTo>
                  <a:pt x="11473" y="9283"/>
                  <a:pt x="11442" y="9361"/>
                  <a:pt x="11385" y="9451"/>
                </a:cubicBezTo>
                <a:cubicBezTo>
                  <a:pt x="11310" y="9571"/>
                  <a:pt x="11239" y="9691"/>
                  <a:pt x="11187" y="9823"/>
                </a:cubicBezTo>
                <a:cubicBezTo>
                  <a:pt x="11142" y="9937"/>
                  <a:pt x="11117" y="10074"/>
                  <a:pt x="11112" y="10195"/>
                </a:cubicBezTo>
                <a:cubicBezTo>
                  <a:pt x="11106" y="10342"/>
                  <a:pt x="11170" y="10456"/>
                  <a:pt x="11261" y="10567"/>
                </a:cubicBezTo>
                <a:cubicBezTo>
                  <a:pt x="11305" y="10621"/>
                  <a:pt x="11351" y="10628"/>
                  <a:pt x="11410" y="10641"/>
                </a:cubicBezTo>
              </a:path>
              <a:path w="5508" h="1762">
                <a:moveTo>
                  <a:pt x="11509" y="9996"/>
                </a:moveTo>
                <a:cubicBezTo>
                  <a:pt x="11597" y="9972"/>
                  <a:pt x="11729" y="10000"/>
                  <a:pt x="11807" y="9971"/>
                </a:cubicBezTo>
                <a:cubicBezTo>
                  <a:pt x="11853" y="9925"/>
                  <a:pt x="11866" y="9911"/>
                  <a:pt x="11906" y="9897"/>
                </a:cubicBezTo>
              </a:path>
              <a:path w="5508" h="1762">
                <a:moveTo>
                  <a:pt x="12229" y="9699"/>
                </a:moveTo>
                <a:cubicBezTo>
                  <a:pt x="12360" y="9733"/>
                  <a:pt x="12390" y="9748"/>
                  <a:pt x="12502" y="9748"/>
                </a:cubicBezTo>
              </a:path>
              <a:path w="5508" h="1762">
                <a:moveTo>
                  <a:pt x="12179" y="9748"/>
                </a:moveTo>
                <a:cubicBezTo>
                  <a:pt x="12163" y="9770"/>
                  <a:pt x="12025" y="9920"/>
                  <a:pt x="12055" y="9971"/>
                </a:cubicBezTo>
                <a:cubicBezTo>
                  <a:pt x="12077" y="10009"/>
                  <a:pt x="12093" y="10022"/>
                  <a:pt x="12129" y="10046"/>
                </a:cubicBezTo>
                <a:cubicBezTo>
                  <a:pt x="12177" y="10078"/>
                  <a:pt x="12241" y="10008"/>
                  <a:pt x="12278" y="9996"/>
                </a:cubicBezTo>
                <a:cubicBezTo>
                  <a:pt x="12325" y="9981"/>
                  <a:pt x="12415" y="9950"/>
                  <a:pt x="12452" y="9996"/>
                </a:cubicBezTo>
                <a:cubicBezTo>
                  <a:pt x="12483" y="10034"/>
                  <a:pt x="12519" y="10094"/>
                  <a:pt x="12502" y="10145"/>
                </a:cubicBezTo>
                <a:cubicBezTo>
                  <a:pt x="12481" y="10208"/>
                  <a:pt x="12430" y="10245"/>
                  <a:pt x="12378" y="10269"/>
                </a:cubicBezTo>
                <a:cubicBezTo>
                  <a:pt x="12338" y="10288"/>
                  <a:pt x="12250" y="10317"/>
                  <a:pt x="12204" y="10294"/>
                </a:cubicBezTo>
                <a:cubicBezTo>
                  <a:pt x="12165" y="10274"/>
                  <a:pt x="12176" y="10269"/>
                  <a:pt x="12129" y="10269"/>
                </a:cubicBezTo>
                <a:cubicBezTo>
                  <a:pt x="12129" y="10218"/>
                  <a:pt x="12131" y="10200"/>
                  <a:pt x="12179" y="10195"/>
                </a:cubicBezTo>
              </a:path>
              <a:path w="5508" h="1762">
                <a:moveTo>
                  <a:pt x="12898" y="9475"/>
                </a:moveTo>
                <a:cubicBezTo>
                  <a:pt x="12871" y="9661"/>
                  <a:pt x="12832" y="9794"/>
                  <a:pt x="12774" y="9971"/>
                </a:cubicBezTo>
                <a:cubicBezTo>
                  <a:pt x="12717" y="10143"/>
                  <a:pt x="12675" y="10319"/>
                  <a:pt x="12626" y="10492"/>
                </a:cubicBezTo>
                <a:cubicBezTo>
                  <a:pt x="12607" y="10560"/>
                  <a:pt x="12576" y="10762"/>
                  <a:pt x="12576" y="10691"/>
                </a:cubicBezTo>
                <a:cubicBezTo>
                  <a:pt x="12576" y="10631"/>
                  <a:pt x="12590" y="10612"/>
                  <a:pt x="12626" y="10567"/>
                </a:cubicBezTo>
              </a:path>
              <a:path w="5508" h="1762">
                <a:moveTo>
                  <a:pt x="12973" y="9971"/>
                </a:moveTo>
                <a:cubicBezTo>
                  <a:pt x="12947" y="9980"/>
                  <a:pt x="12928" y="10033"/>
                  <a:pt x="12923" y="10046"/>
                </a:cubicBezTo>
                <a:cubicBezTo>
                  <a:pt x="12886" y="10132"/>
                  <a:pt x="13001" y="10126"/>
                  <a:pt x="13022" y="10145"/>
                </a:cubicBezTo>
                <a:cubicBezTo>
                  <a:pt x="13085" y="10203"/>
                  <a:pt x="13099" y="10195"/>
                  <a:pt x="13196" y="10195"/>
                </a:cubicBezTo>
                <a:cubicBezTo>
                  <a:pt x="13283" y="10195"/>
                  <a:pt x="13274" y="10198"/>
                  <a:pt x="13345" y="10145"/>
                </a:cubicBezTo>
              </a:path>
              <a:path w="5508" h="1762">
                <a:moveTo>
                  <a:pt x="13370" y="9773"/>
                </a:moveTo>
                <a:cubicBezTo>
                  <a:pt x="13318" y="9949"/>
                  <a:pt x="13295" y="10088"/>
                  <a:pt x="13295" y="10269"/>
                </a:cubicBezTo>
                <a:cubicBezTo>
                  <a:pt x="13295" y="10373"/>
                  <a:pt x="13334" y="10466"/>
                  <a:pt x="13345" y="10567"/>
                </a:cubicBezTo>
                <a:cubicBezTo>
                  <a:pt x="13351" y="10625"/>
                  <a:pt x="13375" y="10745"/>
                  <a:pt x="13395" y="10691"/>
                </a:cubicBezTo>
                <a:cubicBezTo>
                  <a:pt x="13395" y="10674"/>
                  <a:pt x="13395" y="10658"/>
                  <a:pt x="13395" y="10641"/>
                </a:cubicBezTo>
              </a:path>
              <a:path w="5508" h="1762">
                <a:moveTo>
                  <a:pt x="13345" y="9227"/>
                </a:moveTo>
                <a:cubicBezTo>
                  <a:pt x="13439" y="9298"/>
                  <a:pt x="13497" y="9413"/>
                  <a:pt x="13543" y="9525"/>
                </a:cubicBezTo>
                <a:cubicBezTo>
                  <a:pt x="13615" y="9700"/>
                  <a:pt x="13698" y="9881"/>
                  <a:pt x="13717" y="10071"/>
                </a:cubicBezTo>
                <a:cubicBezTo>
                  <a:pt x="13738" y="10274"/>
                  <a:pt x="13712" y="10493"/>
                  <a:pt x="13667" y="10691"/>
                </a:cubicBezTo>
                <a:cubicBezTo>
                  <a:pt x="13645" y="10788"/>
                  <a:pt x="13586" y="10846"/>
                  <a:pt x="13519" y="10914"/>
                </a:cubicBezTo>
                <a:cubicBezTo>
                  <a:pt x="13511" y="10922"/>
                  <a:pt x="13502" y="10931"/>
                  <a:pt x="13494" y="10939"/>
                </a:cubicBezTo>
                <a:cubicBezTo>
                  <a:pt x="13503" y="10866"/>
                  <a:pt x="13516" y="10850"/>
                  <a:pt x="13568" y="107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16680" y="3438360"/>
            <a:ext cx="1250640" cy="347760"/>
          </a:xfrm>
          <a:custGeom>
            <a:avLst/>
            <a:gdLst/>
            <a:ahLst/>
            <a:rect l="l" t="t" r="r" b="b"/>
            <a:pathLst>
              <a:path w="3474" h="968">
                <a:moveTo>
                  <a:pt x="14213" y="10071"/>
                </a:moveTo>
                <a:cubicBezTo>
                  <a:pt x="14360" y="10100"/>
                  <a:pt x="14427" y="10120"/>
                  <a:pt x="14560" y="10120"/>
                </a:cubicBezTo>
              </a:path>
              <a:path w="3474" h="968">
                <a:moveTo>
                  <a:pt x="14263" y="10418"/>
                </a:moveTo>
                <a:cubicBezTo>
                  <a:pt x="14397" y="10492"/>
                  <a:pt x="14521" y="10546"/>
                  <a:pt x="14684" y="10517"/>
                </a:cubicBezTo>
                <a:cubicBezTo>
                  <a:pt x="14709" y="10509"/>
                  <a:pt x="14734" y="10500"/>
                  <a:pt x="14759" y="10492"/>
                </a:cubicBezTo>
              </a:path>
              <a:path w="3474" h="968">
                <a:moveTo>
                  <a:pt x="15081" y="9748"/>
                </a:moveTo>
                <a:cubicBezTo>
                  <a:pt x="15115" y="9773"/>
                  <a:pt x="15153" y="9754"/>
                  <a:pt x="15180" y="9773"/>
                </a:cubicBezTo>
                <a:cubicBezTo>
                  <a:pt x="15256" y="9828"/>
                  <a:pt x="15256" y="9823"/>
                  <a:pt x="15354" y="9823"/>
                </a:cubicBezTo>
                <a:cubicBezTo>
                  <a:pt x="15395" y="9823"/>
                  <a:pt x="15437" y="9823"/>
                  <a:pt x="15478" y="9823"/>
                </a:cubicBezTo>
              </a:path>
              <a:path w="3474" h="968">
                <a:moveTo>
                  <a:pt x="15776" y="9599"/>
                </a:moveTo>
                <a:cubicBezTo>
                  <a:pt x="15873" y="9599"/>
                  <a:pt x="16108" y="9640"/>
                  <a:pt x="16123" y="9550"/>
                </a:cubicBezTo>
              </a:path>
              <a:path w="3474" h="968">
                <a:moveTo>
                  <a:pt x="15776" y="9599"/>
                </a:moveTo>
                <a:cubicBezTo>
                  <a:pt x="15731" y="9704"/>
                  <a:pt x="15708" y="9782"/>
                  <a:pt x="15701" y="9897"/>
                </a:cubicBezTo>
                <a:cubicBezTo>
                  <a:pt x="15700" y="9910"/>
                  <a:pt x="15727" y="9923"/>
                  <a:pt x="15751" y="9897"/>
                </a:cubicBezTo>
                <a:cubicBezTo>
                  <a:pt x="15800" y="9842"/>
                  <a:pt x="15777" y="9847"/>
                  <a:pt x="15850" y="9847"/>
                </a:cubicBezTo>
                <a:cubicBezTo>
                  <a:pt x="15881" y="9847"/>
                  <a:pt x="15947" y="9944"/>
                  <a:pt x="15974" y="9971"/>
                </a:cubicBezTo>
                <a:cubicBezTo>
                  <a:pt x="16030" y="10027"/>
                  <a:pt x="16056" y="10119"/>
                  <a:pt x="16073" y="10195"/>
                </a:cubicBezTo>
                <a:cubicBezTo>
                  <a:pt x="16089" y="10263"/>
                  <a:pt x="16088" y="10305"/>
                  <a:pt x="16073" y="10344"/>
                </a:cubicBezTo>
                <a:cubicBezTo>
                  <a:pt x="16046" y="10415"/>
                  <a:pt x="16057" y="10418"/>
                  <a:pt x="15974" y="10418"/>
                </a:cubicBezTo>
                <a:cubicBezTo>
                  <a:pt x="15816" y="10418"/>
                  <a:pt x="15869" y="10392"/>
                  <a:pt x="15751" y="10344"/>
                </a:cubicBezTo>
                <a:cubicBezTo>
                  <a:pt x="15714" y="10329"/>
                  <a:pt x="15705" y="10279"/>
                  <a:pt x="15726" y="10269"/>
                </a:cubicBezTo>
              </a:path>
              <a:path w="3474" h="968">
                <a:moveTo>
                  <a:pt x="16520" y="9599"/>
                </a:moveTo>
                <a:cubicBezTo>
                  <a:pt x="16497" y="9704"/>
                  <a:pt x="16495" y="9789"/>
                  <a:pt x="16495" y="9897"/>
                </a:cubicBezTo>
                <a:cubicBezTo>
                  <a:pt x="16495" y="10036"/>
                  <a:pt x="16506" y="10157"/>
                  <a:pt x="16520" y="10294"/>
                </a:cubicBezTo>
                <a:cubicBezTo>
                  <a:pt x="16526" y="10353"/>
                  <a:pt x="16504" y="10391"/>
                  <a:pt x="16545" y="10418"/>
                </a:cubicBezTo>
              </a:path>
              <a:path w="3474" h="968">
                <a:moveTo>
                  <a:pt x="16768" y="10344"/>
                </a:moveTo>
                <a:cubicBezTo>
                  <a:pt x="16768" y="10327"/>
                  <a:pt x="16768" y="10311"/>
                  <a:pt x="16768" y="10294"/>
                </a:cubicBezTo>
              </a:path>
              <a:path w="3474" h="968">
                <a:moveTo>
                  <a:pt x="17115" y="9674"/>
                </a:moveTo>
                <a:cubicBezTo>
                  <a:pt x="17195" y="9594"/>
                  <a:pt x="17190" y="9642"/>
                  <a:pt x="17264" y="9599"/>
                </a:cubicBezTo>
                <a:cubicBezTo>
                  <a:pt x="17389" y="9527"/>
                  <a:pt x="17323" y="9559"/>
                  <a:pt x="17438" y="9599"/>
                </a:cubicBezTo>
                <a:cubicBezTo>
                  <a:pt x="17499" y="9621"/>
                  <a:pt x="17531" y="9611"/>
                  <a:pt x="17537" y="9699"/>
                </a:cubicBezTo>
                <a:cubicBezTo>
                  <a:pt x="17541" y="9756"/>
                  <a:pt x="17538" y="9858"/>
                  <a:pt x="17512" y="9897"/>
                </a:cubicBezTo>
                <a:cubicBezTo>
                  <a:pt x="17503" y="9910"/>
                  <a:pt x="17364" y="9986"/>
                  <a:pt x="17338" y="9996"/>
                </a:cubicBezTo>
                <a:cubicBezTo>
                  <a:pt x="17303" y="9996"/>
                  <a:pt x="17291" y="10006"/>
                  <a:pt x="17289" y="10046"/>
                </a:cubicBezTo>
                <a:cubicBezTo>
                  <a:pt x="17306" y="9943"/>
                  <a:pt x="17299" y="10032"/>
                  <a:pt x="17363" y="9996"/>
                </a:cubicBezTo>
                <a:cubicBezTo>
                  <a:pt x="17423" y="9963"/>
                  <a:pt x="17425" y="9977"/>
                  <a:pt x="17487" y="9996"/>
                </a:cubicBezTo>
                <a:cubicBezTo>
                  <a:pt x="17520" y="10006"/>
                  <a:pt x="17589" y="10039"/>
                  <a:pt x="17611" y="10071"/>
                </a:cubicBezTo>
                <a:cubicBezTo>
                  <a:pt x="17645" y="10119"/>
                  <a:pt x="17714" y="10202"/>
                  <a:pt x="17686" y="10269"/>
                </a:cubicBezTo>
                <a:cubicBezTo>
                  <a:pt x="17654" y="10345"/>
                  <a:pt x="17644" y="10319"/>
                  <a:pt x="17587" y="10368"/>
                </a:cubicBezTo>
                <a:cubicBezTo>
                  <a:pt x="17520" y="10426"/>
                  <a:pt x="17523" y="10418"/>
                  <a:pt x="17438" y="10418"/>
                </a:cubicBezTo>
                <a:cubicBezTo>
                  <a:pt x="17388" y="10418"/>
                  <a:pt x="17350" y="10319"/>
                  <a:pt x="17338" y="10368"/>
                </a:cubicBezTo>
                <a:cubicBezTo>
                  <a:pt x="17338" y="10409"/>
                  <a:pt x="17347" y="10426"/>
                  <a:pt x="17314" y="104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05240" y="4518000"/>
            <a:ext cx="243000" cy="349200"/>
          </a:xfrm>
          <a:custGeom>
            <a:avLst/>
            <a:gdLst/>
            <a:ahLst/>
            <a:rect l="l" t="t" r="r" b="b"/>
            <a:pathLst>
              <a:path w="671" h="969">
                <a:moveTo>
                  <a:pt x="14734" y="12551"/>
                </a:moveTo>
                <a:cubicBezTo>
                  <a:pt x="14681" y="12784"/>
                  <a:pt x="14632" y="13019"/>
                  <a:pt x="14560" y="13246"/>
                </a:cubicBezTo>
                <a:cubicBezTo>
                  <a:pt x="14539" y="13312"/>
                  <a:pt x="14520" y="13412"/>
                  <a:pt x="14486" y="13469"/>
                </a:cubicBezTo>
                <a:cubicBezTo>
                  <a:pt x="14461" y="13494"/>
                  <a:pt x="14453" y="13502"/>
                  <a:pt x="14486" y="13519"/>
                </a:cubicBezTo>
                <a:cubicBezTo>
                  <a:pt x="14575" y="13506"/>
                  <a:pt x="14670" y="13477"/>
                  <a:pt x="14759" y="13469"/>
                </a:cubicBezTo>
                <a:cubicBezTo>
                  <a:pt x="14876" y="13458"/>
                  <a:pt x="14988" y="13444"/>
                  <a:pt x="15106" y="13444"/>
                </a:cubicBezTo>
                <a:cubicBezTo>
                  <a:pt x="15114" y="13444"/>
                  <a:pt x="15123" y="13444"/>
                  <a:pt x="15131" y="134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05120" y="4956120"/>
            <a:ext cx="2938680" cy="544680"/>
          </a:xfrm>
          <a:custGeom>
            <a:avLst/>
            <a:gdLst/>
            <a:ahLst/>
            <a:rect l="l" t="t" r="r" b="b"/>
            <a:pathLst>
              <a:path w="8162" h="1514">
                <a:moveTo>
                  <a:pt x="10542" y="13767"/>
                </a:moveTo>
                <a:cubicBezTo>
                  <a:pt x="10577" y="13772"/>
                  <a:pt x="10640" y="13774"/>
                  <a:pt x="10666" y="13791"/>
                </a:cubicBezTo>
                <a:cubicBezTo>
                  <a:pt x="10742" y="13840"/>
                  <a:pt x="10833" y="13887"/>
                  <a:pt x="10889" y="13965"/>
                </a:cubicBezTo>
                <a:cubicBezTo>
                  <a:pt x="10943" y="14041"/>
                  <a:pt x="10941" y="14070"/>
                  <a:pt x="10889" y="14139"/>
                </a:cubicBezTo>
                <a:cubicBezTo>
                  <a:pt x="10826" y="14223"/>
                  <a:pt x="10769" y="14281"/>
                  <a:pt x="10666" y="14312"/>
                </a:cubicBezTo>
                <a:cubicBezTo>
                  <a:pt x="10658" y="14312"/>
                  <a:pt x="10649" y="14312"/>
                  <a:pt x="10641" y="14312"/>
                </a:cubicBezTo>
                <a:cubicBezTo>
                  <a:pt x="10660" y="14380"/>
                  <a:pt x="10679" y="14378"/>
                  <a:pt x="10740" y="14436"/>
                </a:cubicBezTo>
                <a:cubicBezTo>
                  <a:pt x="10814" y="14506"/>
                  <a:pt x="10925" y="14559"/>
                  <a:pt x="10964" y="14660"/>
                </a:cubicBezTo>
                <a:cubicBezTo>
                  <a:pt x="10986" y="14718"/>
                  <a:pt x="10934" y="14764"/>
                  <a:pt x="10889" y="14784"/>
                </a:cubicBezTo>
                <a:cubicBezTo>
                  <a:pt x="10776" y="14835"/>
                  <a:pt x="10554" y="14820"/>
                  <a:pt x="10443" y="14808"/>
                </a:cubicBezTo>
                <a:cubicBezTo>
                  <a:pt x="10325" y="14795"/>
                  <a:pt x="10293" y="14727"/>
                  <a:pt x="10319" y="14635"/>
                </a:cubicBezTo>
                <a:cubicBezTo>
                  <a:pt x="10347" y="14552"/>
                  <a:pt x="10361" y="14521"/>
                  <a:pt x="10418" y="14486"/>
                </a:cubicBezTo>
              </a:path>
              <a:path w="8162" h="1514">
                <a:moveTo>
                  <a:pt x="11435" y="14015"/>
                </a:moveTo>
                <a:cubicBezTo>
                  <a:pt x="11384" y="14182"/>
                  <a:pt x="11329" y="14343"/>
                  <a:pt x="11286" y="14511"/>
                </a:cubicBezTo>
                <a:cubicBezTo>
                  <a:pt x="11250" y="14651"/>
                  <a:pt x="11249" y="14735"/>
                  <a:pt x="11311" y="14858"/>
                </a:cubicBezTo>
                <a:cubicBezTo>
                  <a:pt x="11348" y="14931"/>
                  <a:pt x="11474" y="15001"/>
                  <a:pt x="11559" y="14957"/>
                </a:cubicBezTo>
                <a:cubicBezTo>
                  <a:pt x="11619" y="14926"/>
                  <a:pt x="11693" y="14795"/>
                  <a:pt x="11708" y="14734"/>
                </a:cubicBezTo>
                <a:cubicBezTo>
                  <a:pt x="11708" y="14693"/>
                  <a:pt x="11708" y="14685"/>
                  <a:pt x="11708" y="14660"/>
                </a:cubicBezTo>
                <a:cubicBezTo>
                  <a:pt x="11673" y="14651"/>
                  <a:pt x="11641" y="14628"/>
                  <a:pt x="11609" y="14660"/>
                </a:cubicBezTo>
                <a:cubicBezTo>
                  <a:pt x="11557" y="14711"/>
                  <a:pt x="11538" y="14816"/>
                  <a:pt x="11534" y="14883"/>
                </a:cubicBezTo>
                <a:cubicBezTo>
                  <a:pt x="11528" y="14988"/>
                  <a:pt x="11619" y="14956"/>
                  <a:pt x="11683" y="14932"/>
                </a:cubicBezTo>
              </a:path>
              <a:path w="8162" h="1514">
                <a:moveTo>
                  <a:pt x="11956" y="14312"/>
                </a:moveTo>
                <a:cubicBezTo>
                  <a:pt x="11904" y="14455"/>
                  <a:pt x="11787" y="14647"/>
                  <a:pt x="11832" y="14808"/>
                </a:cubicBezTo>
                <a:cubicBezTo>
                  <a:pt x="11854" y="14886"/>
                  <a:pt x="11982" y="14945"/>
                  <a:pt x="12055" y="14932"/>
                </a:cubicBezTo>
                <a:cubicBezTo>
                  <a:pt x="12148" y="14915"/>
                  <a:pt x="12199" y="14813"/>
                  <a:pt x="12229" y="14734"/>
                </a:cubicBezTo>
                <a:cubicBezTo>
                  <a:pt x="12282" y="14595"/>
                  <a:pt x="12284" y="14529"/>
                  <a:pt x="12204" y="14412"/>
                </a:cubicBezTo>
                <a:cubicBezTo>
                  <a:pt x="12159" y="14347"/>
                  <a:pt x="12110" y="14265"/>
                  <a:pt x="12030" y="14238"/>
                </a:cubicBezTo>
                <a:cubicBezTo>
                  <a:pt x="11998" y="14227"/>
                  <a:pt x="11965" y="14234"/>
                  <a:pt x="12005" y="14213"/>
                </a:cubicBezTo>
              </a:path>
              <a:path w="8162" h="1514">
                <a:moveTo>
                  <a:pt x="12526" y="14511"/>
                </a:moveTo>
                <a:cubicBezTo>
                  <a:pt x="12592" y="14511"/>
                  <a:pt x="12659" y="14511"/>
                  <a:pt x="12725" y="14511"/>
                </a:cubicBezTo>
              </a:path>
              <a:path w="8162" h="1514">
                <a:moveTo>
                  <a:pt x="13271" y="14238"/>
                </a:moveTo>
                <a:cubicBezTo>
                  <a:pt x="13461" y="14255"/>
                  <a:pt x="13409" y="14298"/>
                  <a:pt x="13494" y="14213"/>
                </a:cubicBezTo>
              </a:path>
              <a:path w="8162" h="1514">
                <a:moveTo>
                  <a:pt x="13047" y="14263"/>
                </a:moveTo>
                <a:cubicBezTo>
                  <a:pt x="13013" y="14343"/>
                  <a:pt x="12975" y="14390"/>
                  <a:pt x="13022" y="14461"/>
                </a:cubicBezTo>
                <a:cubicBezTo>
                  <a:pt x="13060" y="14518"/>
                  <a:pt x="13114" y="14511"/>
                  <a:pt x="13171" y="14536"/>
                </a:cubicBezTo>
                <a:cubicBezTo>
                  <a:pt x="13230" y="14562"/>
                  <a:pt x="13322" y="14558"/>
                  <a:pt x="13370" y="14610"/>
                </a:cubicBezTo>
                <a:cubicBezTo>
                  <a:pt x="13429" y="14674"/>
                  <a:pt x="13450" y="14833"/>
                  <a:pt x="13419" y="14908"/>
                </a:cubicBezTo>
                <a:cubicBezTo>
                  <a:pt x="13387" y="14986"/>
                  <a:pt x="13306" y="14987"/>
                  <a:pt x="13246" y="15007"/>
                </a:cubicBezTo>
                <a:cubicBezTo>
                  <a:pt x="13161" y="15035"/>
                  <a:pt x="13118" y="15046"/>
                  <a:pt x="13047" y="14982"/>
                </a:cubicBezTo>
                <a:cubicBezTo>
                  <a:pt x="12985" y="14926"/>
                  <a:pt x="12998" y="14861"/>
                  <a:pt x="12998" y="14784"/>
                </a:cubicBezTo>
              </a:path>
              <a:path w="8162" h="1514">
                <a:moveTo>
                  <a:pt x="13791" y="14188"/>
                </a:moveTo>
                <a:cubicBezTo>
                  <a:pt x="13791" y="14439"/>
                  <a:pt x="13792" y="14686"/>
                  <a:pt x="13767" y="14932"/>
                </a:cubicBezTo>
                <a:cubicBezTo>
                  <a:pt x="13761" y="14988"/>
                  <a:pt x="13767" y="15049"/>
                  <a:pt x="13767" y="15106"/>
                </a:cubicBezTo>
              </a:path>
              <a:path w="8162" h="1514">
                <a:moveTo>
                  <a:pt x="13965" y="15007"/>
                </a:moveTo>
                <a:cubicBezTo>
                  <a:pt x="14006" y="15048"/>
                  <a:pt x="13997" y="14992"/>
                  <a:pt x="14015" y="14932"/>
                </a:cubicBezTo>
              </a:path>
              <a:path w="8162" h="1514">
                <a:moveTo>
                  <a:pt x="14337" y="14312"/>
                </a:moveTo>
                <a:cubicBezTo>
                  <a:pt x="14455" y="14336"/>
                  <a:pt x="14555" y="14326"/>
                  <a:pt x="14585" y="14461"/>
                </a:cubicBezTo>
                <a:cubicBezTo>
                  <a:pt x="14608" y="14563"/>
                  <a:pt x="14580" y="14575"/>
                  <a:pt x="14511" y="14635"/>
                </a:cubicBezTo>
                <a:cubicBezTo>
                  <a:pt x="14474" y="14667"/>
                  <a:pt x="14447" y="14682"/>
                  <a:pt x="14412" y="14709"/>
                </a:cubicBezTo>
                <a:cubicBezTo>
                  <a:pt x="14468" y="14724"/>
                  <a:pt x="14505" y="14755"/>
                  <a:pt x="14536" y="14808"/>
                </a:cubicBezTo>
                <a:cubicBezTo>
                  <a:pt x="14580" y="14884"/>
                  <a:pt x="14568" y="14980"/>
                  <a:pt x="14536" y="15056"/>
                </a:cubicBezTo>
                <a:cubicBezTo>
                  <a:pt x="14487" y="15174"/>
                  <a:pt x="14445" y="15185"/>
                  <a:pt x="14312" y="15205"/>
                </a:cubicBezTo>
                <a:cubicBezTo>
                  <a:pt x="14222" y="15218"/>
                  <a:pt x="14216" y="15149"/>
                  <a:pt x="14213" y="15081"/>
                </a:cubicBezTo>
                <a:cubicBezTo>
                  <a:pt x="14213" y="15065"/>
                  <a:pt x="14213" y="15048"/>
                  <a:pt x="14213" y="15032"/>
                </a:cubicBezTo>
              </a:path>
              <a:path w="8162" h="1514">
                <a:moveTo>
                  <a:pt x="14908" y="14734"/>
                </a:moveTo>
                <a:cubicBezTo>
                  <a:pt x="14996" y="14766"/>
                  <a:pt x="15069" y="14791"/>
                  <a:pt x="15156" y="14808"/>
                </a:cubicBezTo>
              </a:path>
              <a:path w="8162" h="1514">
                <a:moveTo>
                  <a:pt x="14858" y="14982"/>
                </a:moveTo>
                <a:cubicBezTo>
                  <a:pt x="14974" y="15023"/>
                  <a:pt x="15016" y="15032"/>
                  <a:pt x="15131" y="15032"/>
                </a:cubicBezTo>
                <a:cubicBezTo>
                  <a:pt x="15213" y="15032"/>
                  <a:pt x="15138" y="15044"/>
                  <a:pt x="15156" y="15007"/>
                </a:cubicBezTo>
                <a:cubicBezTo>
                  <a:pt x="15164" y="14999"/>
                  <a:pt x="15172" y="14990"/>
                  <a:pt x="15180" y="14982"/>
                </a:cubicBezTo>
              </a:path>
              <a:path w="8162" h="1514">
                <a:moveTo>
                  <a:pt x="15875" y="14114"/>
                </a:moveTo>
                <a:cubicBezTo>
                  <a:pt x="15875" y="14203"/>
                  <a:pt x="15895" y="14276"/>
                  <a:pt x="15900" y="14362"/>
                </a:cubicBezTo>
                <a:cubicBezTo>
                  <a:pt x="15907" y="14492"/>
                  <a:pt x="15893" y="14609"/>
                  <a:pt x="15875" y="14734"/>
                </a:cubicBezTo>
                <a:cubicBezTo>
                  <a:pt x="15865" y="14804"/>
                  <a:pt x="15875" y="14917"/>
                  <a:pt x="15850" y="14982"/>
                </a:cubicBezTo>
                <a:cubicBezTo>
                  <a:pt x="15842" y="15003"/>
                  <a:pt x="15836" y="15061"/>
                  <a:pt x="15825" y="15081"/>
                </a:cubicBezTo>
                <a:cubicBezTo>
                  <a:pt x="15785" y="15156"/>
                  <a:pt x="15801" y="15042"/>
                  <a:pt x="15801" y="15032"/>
                </a:cubicBezTo>
              </a:path>
              <a:path w="8162" h="1514">
                <a:moveTo>
                  <a:pt x="15429" y="14238"/>
                </a:moveTo>
                <a:cubicBezTo>
                  <a:pt x="15504" y="14140"/>
                  <a:pt x="15496" y="14174"/>
                  <a:pt x="15602" y="14139"/>
                </a:cubicBezTo>
                <a:cubicBezTo>
                  <a:pt x="15679" y="14113"/>
                  <a:pt x="15741" y="14114"/>
                  <a:pt x="15825" y="14114"/>
                </a:cubicBezTo>
                <a:cubicBezTo>
                  <a:pt x="15887" y="14114"/>
                  <a:pt x="15924" y="14109"/>
                  <a:pt x="15974" y="14139"/>
                </a:cubicBezTo>
                <a:cubicBezTo>
                  <a:pt x="15967" y="14189"/>
                  <a:pt x="15956" y="14243"/>
                  <a:pt x="15925" y="14288"/>
                </a:cubicBezTo>
                <a:cubicBezTo>
                  <a:pt x="15879" y="14354"/>
                  <a:pt x="15797" y="14395"/>
                  <a:pt x="15751" y="14461"/>
                </a:cubicBezTo>
                <a:cubicBezTo>
                  <a:pt x="15711" y="14518"/>
                  <a:pt x="15701" y="14568"/>
                  <a:pt x="15701" y="14635"/>
                </a:cubicBezTo>
                <a:cubicBezTo>
                  <a:pt x="15701" y="14643"/>
                  <a:pt x="15701" y="14652"/>
                  <a:pt x="15701" y="14660"/>
                </a:cubicBezTo>
                <a:cubicBezTo>
                  <a:pt x="15765" y="14660"/>
                  <a:pt x="15852" y="14642"/>
                  <a:pt x="15900" y="14684"/>
                </a:cubicBezTo>
                <a:cubicBezTo>
                  <a:pt x="15962" y="14738"/>
                  <a:pt x="15970" y="14776"/>
                  <a:pt x="15974" y="14858"/>
                </a:cubicBezTo>
                <a:cubicBezTo>
                  <a:pt x="15978" y="14934"/>
                  <a:pt x="15932" y="15013"/>
                  <a:pt x="15900" y="15081"/>
                </a:cubicBezTo>
                <a:cubicBezTo>
                  <a:pt x="15877" y="15130"/>
                  <a:pt x="15806" y="15209"/>
                  <a:pt x="15751" y="15205"/>
                </a:cubicBezTo>
                <a:cubicBezTo>
                  <a:pt x="15687" y="15201"/>
                  <a:pt x="15654" y="15157"/>
                  <a:pt x="15627" y="15106"/>
                </a:cubicBezTo>
                <a:cubicBezTo>
                  <a:pt x="15597" y="15050"/>
                  <a:pt x="15585" y="15018"/>
                  <a:pt x="15577" y="14957"/>
                </a:cubicBezTo>
              </a:path>
              <a:path w="8162" h="1514">
                <a:moveTo>
                  <a:pt x="16148" y="14288"/>
                </a:moveTo>
                <a:cubicBezTo>
                  <a:pt x="16126" y="14388"/>
                  <a:pt x="16106" y="14464"/>
                  <a:pt x="16073" y="14560"/>
                </a:cubicBezTo>
                <a:cubicBezTo>
                  <a:pt x="16045" y="14644"/>
                  <a:pt x="16030" y="14770"/>
                  <a:pt x="16049" y="14858"/>
                </a:cubicBezTo>
                <a:cubicBezTo>
                  <a:pt x="16066" y="14935"/>
                  <a:pt x="16143" y="15026"/>
                  <a:pt x="16197" y="15056"/>
                </a:cubicBezTo>
                <a:cubicBezTo>
                  <a:pt x="16268" y="15096"/>
                  <a:pt x="16315" y="15035"/>
                  <a:pt x="16371" y="14982"/>
                </a:cubicBezTo>
                <a:cubicBezTo>
                  <a:pt x="16434" y="14922"/>
                  <a:pt x="16524" y="14755"/>
                  <a:pt x="16520" y="14660"/>
                </a:cubicBezTo>
                <a:cubicBezTo>
                  <a:pt x="16517" y="14578"/>
                  <a:pt x="16456" y="14461"/>
                  <a:pt x="16421" y="14387"/>
                </a:cubicBezTo>
                <a:cubicBezTo>
                  <a:pt x="16386" y="14313"/>
                  <a:pt x="16326" y="14262"/>
                  <a:pt x="16247" y="14238"/>
                </a:cubicBezTo>
                <a:cubicBezTo>
                  <a:pt x="16199" y="14223"/>
                  <a:pt x="16182" y="14250"/>
                  <a:pt x="16173" y="14288"/>
                </a:cubicBezTo>
              </a:path>
              <a:path w="8162" h="1514">
                <a:moveTo>
                  <a:pt x="16867" y="14288"/>
                </a:moveTo>
                <a:cubicBezTo>
                  <a:pt x="16832" y="14242"/>
                  <a:pt x="16795" y="14173"/>
                  <a:pt x="16718" y="14213"/>
                </a:cubicBezTo>
                <a:cubicBezTo>
                  <a:pt x="16656" y="14245"/>
                  <a:pt x="16711" y="14429"/>
                  <a:pt x="16718" y="14461"/>
                </a:cubicBezTo>
                <a:cubicBezTo>
                  <a:pt x="16745" y="14586"/>
                  <a:pt x="16806" y="14688"/>
                  <a:pt x="16842" y="14808"/>
                </a:cubicBezTo>
                <a:cubicBezTo>
                  <a:pt x="16870" y="14903"/>
                  <a:pt x="16867" y="14984"/>
                  <a:pt x="16867" y="15081"/>
                </a:cubicBezTo>
                <a:cubicBezTo>
                  <a:pt x="16867" y="15122"/>
                  <a:pt x="16854" y="15094"/>
                  <a:pt x="16842" y="15131"/>
                </a:cubicBezTo>
                <a:cubicBezTo>
                  <a:pt x="16783" y="15131"/>
                  <a:pt x="16805" y="15122"/>
                  <a:pt x="16768" y="15081"/>
                </a:cubicBezTo>
                <a:cubicBezTo>
                  <a:pt x="16734" y="15043"/>
                  <a:pt x="16721" y="14983"/>
                  <a:pt x="16718" y="14932"/>
                </a:cubicBezTo>
                <a:cubicBezTo>
                  <a:pt x="16714" y="14860"/>
                  <a:pt x="16704" y="14771"/>
                  <a:pt x="16743" y="14709"/>
                </a:cubicBezTo>
                <a:cubicBezTo>
                  <a:pt x="16786" y="14639"/>
                  <a:pt x="16813" y="14587"/>
                  <a:pt x="16867" y="14511"/>
                </a:cubicBezTo>
                <a:cubicBezTo>
                  <a:pt x="16901" y="14464"/>
                  <a:pt x="16960" y="14392"/>
                  <a:pt x="16966" y="14337"/>
                </a:cubicBezTo>
                <a:cubicBezTo>
                  <a:pt x="16966" y="14312"/>
                  <a:pt x="16966" y="14304"/>
                  <a:pt x="16966" y="14288"/>
                </a:cubicBezTo>
              </a:path>
              <a:path w="8162" h="1514">
                <a:moveTo>
                  <a:pt x="16991" y="15032"/>
                </a:moveTo>
                <a:cubicBezTo>
                  <a:pt x="17051" y="15023"/>
                  <a:pt x="17052" y="15038"/>
                  <a:pt x="17066" y="14982"/>
                </a:cubicBezTo>
              </a:path>
              <a:path w="8162" h="1514">
                <a:moveTo>
                  <a:pt x="17413" y="14263"/>
                </a:moveTo>
                <a:cubicBezTo>
                  <a:pt x="17467" y="14208"/>
                  <a:pt x="17502" y="14164"/>
                  <a:pt x="17587" y="14188"/>
                </a:cubicBezTo>
                <a:cubicBezTo>
                  <a:pt x="17655" y="14207"/>
                  <a:pt x="17715" y="14251"/>
                  <a:pt x="17785" y="14263"/>
                </a:cubicBezTo>
                <a:cubicBezTo>
                  <a:pt x="17836" y="14271"/>
                  <a:pt x="17858" y="14288"/>
                  <a:pt x="17909" y="14288"/>
                </a:cubicBezTo>
                <a:cubicBezTo>
                  <a:pt x="17897" y="14335"/>
                  <a:pt x="17872" y="14362"/>
                  <a:pt x="17859" y="14412"/>
                </a:cubicBezTo>
                <a:cubicBezTo>
                  <a:pt x="17832" y="14515"/>
                  <a:pt x="17796" y="14601"/>
                  <a:pt x="17785" y="14709"/>
                </a:cubicBezTo>
                <a:cubicBezTo>
                  <a:pt x="17770" y="14857"/>
                  <a:pt x="17778" y="15042"/>
                  <a:pt x="17810" y="15180"/>
                </a:cubicBezTo>
                <a:cubicBezTo>
                  <a:pt x="17813" y="15191"/>
                  <a:pt x="17835" y="15316"/>
                  <a:pt x="17835" y="15255"/>
                </a:cubicBezTo>
              </a:path>
              <a:path w="8162" h="1514">
                <a:moveTo>
                  <a:pt x="18231" y="14139"/>
                </a:moveTo>
                <a:cubicBezTo>
                  <a:pt x="18215" y="14203"/>
                  <a:pt x="18213" y="14245"/>
                  <a:pt x="18281" y="14288"/>
                </a:cubicBezTo>
                <a:cubicBezTo>
                  <a:pt x="18328" y="14318"/>
                  <a:pt x="18398" y="14336"/>
                  <a:pt x="18430" y="14312"/>
                </a:cubicBezTo>
                <a:cubicBezTo>
                  <a:pt x="18454" y="14294"/>
                  <a:pt x="18479" y="14212"/>
                  <a:pt x="18455" y="14188"/>
                </a:cubicBezTo>
                <a:cubicBezTo>
                  <a:pt x="18379" y="14112"/>
                  <a:pt x="18275" y="14064"/>
                  <a:pt x="18182" y="140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9080" y="1000080"/>
            <a:ext cx="2482920" cy="1162080"/>
          </a:xfrm>
          <a:custGeom>
            <a:avLst/>
            <a:gdLst/>
            <a:ahLst/>
            <a:rect l="l" t="t" r="r" b="b"/>
            <a:pathLst>
              <a:path w="6897" h="3226">
                <a:moveTo>
                  <a:pt x="12303" y="2778"/>
                </a:moveTo>
                <a:cubicBezTo>
                  <a:pt x="12320" y="2820"/>
                  <a:pt x="12334" y="2860"/>
                  <a:pt x="12353" y="2902"/>
                </a:cubicBezTo>
                <a:cubicBezTo>
                  <a:pt x="12389" y="2978"/>
                  <a:pt x="12424" y="3078"/>
                  <a:pt x="12477" y="3150"/>
                </a:cubicBezTo>
                <a:cubicBezTo>
                  <a:pt x="12526" y="3216"/>
                  <a:pt x="12587" y="3299"/>
                  <a:pt x="12650" y="3349"/>
                </a:cubicBezTo>
                <a:cubicBezTo>
                  <a:pt x="12756" y="3434"/>
                  <a:pt x="12903" y="3508"/>
                  <a:pt x="13022" y="3572"/>
                </a:cubicBezTo>
                <a:cubicBezTo>
                  <a:pt x="13197" y="3665"/>
                  <a:pt x="13376" y="3747"/>
                  <a:pt x="13568" y="3795"/>
                </a:cubicBezTo>
                <a:cubicBezTo>
                  <a:pt x="13765" y="3844"/>
                  <a:pt x="13965" y="3876"/>
                  <a:pt x="14163" y="3919"/>
                </a:cubicBezTo>
                <a:cubicBezTo>
                  <a:pt x="14385" y="3968"/>
                  <a:pt x="14612" y="3994"/>
                  <a:pt x="14833" y="4043"/>
                </a:cubicBezTo>
                <a:cubicBezTo>
                  <a:pt x="15090" y="4100"/>
                  <a:pt x="15346" y="4153"/>
                  <a:pt x="15602" y="4217"/>
                </a:cubicBezTo>
                <a:cubicBezTo>
                  <a:pt x="16016" y="4320"/>
                  <a:pt x="16440" y="4395"/>
                  <a:pt x="16842" y="4539"/>
                </a:cubicBezTo>
                <a:cubicBezTo>
                  <a:pt x="17244" y="4683"/>
                  <a:pt x="17676" y="4830"/>
                  <a:pt x="18008" y="5110"/>
                </a:cubicBezTo>
                <a:cubicBezTo>
                  <a:pt x="18162" y="5239"/>
                  <a:pt x="18301" y="5414"/>
                  <a:pt x="18405" y="5581"/>
                </a:cubicBezTo>
                <a:cubicBezTo>
                  <a:pt x="18472" y="5688"/>
                  <a:pt x="18523" y="5777"/>
                  <a:pt x="18604" y="5879"/>
                </a:cubicBezTo>
                <a:cubicBezTo>
                  <a:pt x="18628" y="5879"/>
                  <a:pt x="18636" y="5879"/>
                  <a:pt x="18628" y="5904"/>
                </a:cubicBezTo>
                <a:cubicBezTo>
                  <a:pt x="18605" y="5869"/>
                  <a:pt x="18620" y="5820"/>
                  <a:pt x="18579" y="5779"/>
                </a:cubicBezTo>
                <a:cubicBezTo>
                  <a:pt x="18528" y="5728"/>
                  <a:pt x="18466" y="5667"/>
                  <a:pt x="18405" y="5631"/>
                </a:cubicBezTo>
                <a:cubicBezTo>
                  <a:pt x="18317" y="5579"/>
                  <a:pt x="18202" y="5554"/>
                  <a:pt x="18107" y="5531"/>
                </a:cubicBezTo>
                <a:cubicBezTo>
                  <a:pt x="18075" y="5523"/>
                  <a:pt x="18040" y="5537"/>
                  <a:pt x="18008" y="5531"/>
                </a:cubicBezTo>
                <a:cubicBezTo>
                  <a:pt x="18040" y="5586"/>
                  <a:pt x="18029" y="5644"/>
                  <a:pt x="18083" y="5705"/>
                </a:cubicBezTo>
                <a:cubicBezTo>
                  <a:pt x="18136" y="5765"/>
                  <a:pt x="18207" y="5835"/>
                  <a:pt x="18281" y="5879"/>
                </a:cubicBezTo>
                <a:cubicBezTo>
                  <a:pt x="18338" y="5913"/>
                  <a:pt x="18511" y="6006"/>
                  <a:pt x="18579" y="6003"/>
                </a:cubicBezTo>
                <a:cubicBezTo>
                  <a:pt x="18615" y="6002"/>
                  <a:pt x="18651" y="5976"/>
                  <a:pt x="18678" y="5953"/>
                </a:cubicBezTo>
                <a:cubicBezTo>
                  <a:pt x="18741" y="5899"/>
                  <a:pt x="18723" y="5825"/>
                  <a:pt x="18752" y="5755"/>
                </a:cubicBezTo>
                <a:cubicBezTo>
                  <a:pt x="18860" y="5489"/>
                  <a:pt x="18950" y="5368"/>
                  <a:pt x="19199" y="52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54800" y="5072040"/>
            <a:ext cx="196560" cy="393840"/>
          </a:xfrm>
          <a:custGeom>
            <a:avLst/>
            <a:gdLst/>
            <a:ahLst/>
            <a:rect l="l" t="t" r="r" b="b"/>
            <a:pathLst>
              <a:path w="546" h="1092">
                <a:moveTo>
                  <a:pt x="15429" y="14114"/>
                </a:moveTo>
                <a:cubicBezTo>
                  <a:pt x="15451" y="14080"/>
                  <a:pt x="15477" y="14089"/>
                  <a:pt x="15528" y="14089"/>
                </a:cubicBezTo>
                <a:cubicBezTo>
                  <a:pt x="15595" y="14089"/>
                  <a:pt x="15665" y="14093"/>
                  <a:pt x="15726" y="14114"/>
                </a:cubicBezTo>
                <a:cubicBezTo>
                  <a:pt x="15793" y="14136"/>
                  <a:pt x="15840" y="14152"/>
                  <a:pt x="15900" y="14188"/>
                </a:cubicBezTo>
                <a:cubicBezTo>
                  <a:pt x="15943" y="14214"/>
                  <a:pt x="15974" y="14250"/>
                  <a:pt x="15949" y="14312"/>
                </a:cubicBezTo>
                <a:cubicBezTo>
                  <a:pt x="15931" y="14357"/>
                  <a:pt x="15885" y="14401"/>
                  <a:pt x="15850" y="14436"/>
                </a:cubicBezTo>
                <a:cubicBezTo>
                  <a:pt x="15809" y="14477"/>
                  <a:pt x="15752" y="14509"/>
                  <a:pt x="15701" y="14536"/>
                </a:cubicBezTo>
                <a:cubicBezTo>
                  <a:pt x="15672" y="14551"/>
                  <a:pt x="15655" y="14557"/>
                  <a:pt x="15627" y="14585"/>
                </a:cubicBezTo>
                <a:cubicBezTo>
                  <a:pt x="15673" y="14585"/>
                  <a:pt x="15685" y="14565"/>
                  <a:pt x="15726" y="14560"/>
                </a:cubicBezTo>
                <a:cubicBezTo>
                  <a:pt x="15761" y="14556"/>
                  <a:pt x="15800" y="14568"/>
                  <a:pt x="15825" y="14585"/>
                </a:cubicBezTo>
                <a:cubicBezTo>
                  <a:pt x="15866" y="14612"/>
                  <a:pt x="15901" y="14669"/>
                  <a:pt x="15925" y="14709"/>
                </a:cubicBezTo>
                <a:cubicBezTo>
                  <a:pt x="15961" y="14771"/>
                  <a:pt x="15949" y="14839"/>
                  <a:pt x="15949" y="14908"/>
                </a:cubicBezTo>
                <a:cubicBezTo>
                  <a:pt x="15949" y="15011"/>
                  <a:pt x="15945" y="15061"/>
                  <a:pt x="15875" y="15131"/>
                </a:cubicBezTo>
                <a:cubicBezTo>
                  <a:pt x="15837" y="15169"/>
                  <a:pt x="15780" y="15176"/>
                  <a:pt x="15726" y="15180"/>
                </a:cubicBezTo>
                <a:cubicBezTo>
                  <a:pt x="15680" y="15183"/>
                  <a:pt x="15614" y="15179"/>
                  <a:pt x="15577" y="15156"/>
                </a:cubicBezTo>
                <a:cubicBezTo>
                  <a:pt x="15513" y="15117"/>
                  <a:pt x="15511" y="15090"/>
                  <a:pt x="15528" y="15032"/>
                </a:cubicBezTo>
              </a:path>
              <a:path w="546" h="1092">
                <a:moveTo>
                  <a:pt x="15429" y="14188"/>
                </a:moveTo>
                <a:cubicBezTo>
                  <a:pt x="15461" y="14177"/>
                  <a:pt x="15481" y="14182"/>
                  <a:pt x="15528" y="14163"/>
                </a:cubicBezTo>
                <a:cubicBezTo>
                  <a:pt x="15563" y="14149"/>
                  <a:pt x="15617" y="14122"/>
                  <a:pt x="15652" y="14114"/>
                </a:cubicBezTo>
                <a:cubicBezTo>
                  <a:pt x="15711" y="14101"/>
                  <a:pt x="15780" y="14115"/>
                  <a:pt x="15825" y="14139"/>
                </a:cubicBezTo>
                <a:cubicBezTo>
                  <a:pt x="15886" y="14171"/>
                  <a:pt x="15894" y="14221"/>
                  <a:pt x="15900" y="14288"/>
                </a:cubicBezTo>
                <a:cubicBezTo>
                  <a:pt x="15905" y="14350"/>
                  <a:pt x="15887" y="14387"/>
                  <a:pt x="15850" y="14436"/>
                </a:cubicBezTo>
                <a:cubicBezTo>
                  <a:pt x="15826" y="14468"/>
                  <a:pt x="15741" y="14526"/>
                  <a:pt x="15701" y="14536"/>
                </a:cubicBezTo>
                <a:cubicBezTo>
                  <a:pt x="15697" y="14537"/>
                  <a:pt x="15571" y="14554"/>
                  <a:pt x="15577" y="14560"/>
                </a:cubicBezTo>
                <a:cubicBezTo>
                  <a:pt x="15588" y="14571"/>
                  <a:pt x="15705" y="14578"/>
                  <a:pt x="15726" y="14585"/>
                </a:cubicBezTo>
                <a:cubicBezTo>
                  <a:pt x="15803" y="14611"/>
                  <a:pt x="15832" y="14612"/>
                  <a:pt x="15875" y="14684"/>
                </a:cubicBezTo>
                <a:cubicBezTo>
                  <a:pt x="15915" y="14750"/>
                  <a:pt x="15955" y="14805"/>
                  <a:pt x="15974" y="14883"/>
                </a:cubicBezTo>
                <a:cubicBezTo>
                  <a:pt x="15988" y="14938"/>
                  <a:pt x="15957" y="14990"/>
                  <a:pt x="15925" y="15032"/>
                </a:cubicBezTo>
                <a:cubicBezTo>
                  <a:pt x="15896" y="15071"/>
                  <a:pt x="15847" y="15094"/>
                  <a:pt x="15801" y="15106"/>
                </a:cubicBezTo>
                <a:cubicBezTo>
                  <a:pt x="15747" y="15120"/>
                  <a:pt x="15721" y="15086"/>
                  <a:pt x="15677" y="15081"/>
                </a:cubicBezTo>
                <a:cubicBezTo>
                  <a:pt x="15634" y="15076"/>
                  <a:pt x="15618" y="15040"/>
                  <a:pt x="15602" y="15032"/>
                </a:cubicBezTo>
                <a:cubicBezTo>
                  <a:pt x="15577" y="15032"/>
                  <a:pt x="15569" y="15032"/>
                  <a:pt x="15602" y="150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8040" y="3894120"/>
            <a:ext cx="2419200" cy="187200"/>
          </a:xfrm>
          <a:custGeom>
            <a:avLst/>
            <a:gdLst/>
            <a:ahLst/>
            <a:rect l="l" t="t" r="r" b="b"/>
            <a:pathLst>
              <a:path w="6723" h="522">
                <a:moveTo>
                  <a:pt x="1687" y="10815"/>
                </a:moveTo>
                <a:cubicBezTo>
                  <a:pt x="1743" y="10824"/>
                  <a:pt x="1803" y="10830"/>
                  <a:pt x="1860" y="10840"/>
                </a:cubicBezTo>
                <a:cubicBezTo>
                  <a:pt x="1957" y="10857"/>
                  <a:pt x="2061" y="10879"/>
                  <a:pt x="2158" y="10889"/>
                </a:cubicBezTo>
                <a:cubicBezTo>
                  <a:pt x="2353" y="10908"/>
                  <a:pt x="2557" y="10928"/>
                  <a:pt x="2753" y="10939"/>
                </a:cubicBezTo>
                <a:cubicBezTo>
                  <a:pt x="2985" y="10952"/>
                  <a:pt x="3216" y="10961"/>
                  <a:pt x="3448" y="10988"/>
                </a:cubicBezTo>
                <a:cubicBezTo>
                  <a:pt x="3745" y="11022"/>
                  <a:pt x="4043" y="11018"/>
                  <a:pt x="4341" y="11038"/>
                </a:cubicBezTo>
                <a:cubicBezTo>
                  <a:pt x="4696" y="11062"/>
                  <a:pt x="5052" y="11082"/>
                  <a:pt x="5407" y="11112"/>
                </a:cubicBezTo>
                <a:cubicBezTo>
                  <a:pt x="5837" y="11148"/>
                  <a:pt x="6268" y="11179"/>
                  <a:pt x="6697" y="11212"/>
                </a:cubicBezTo>
                <a:cubicBezTo>
                  <a:pt x="6969" y="11233"/>
                  <a:pt x="7244" y="11238"/>
                  <a:pt x="7516" y="11261"/>
                </a:cubicBezTo>
                <a:cubicBezTo>
                  <a:pt x="7718" y="11278"/>
                  <a:pt x="7936" y="11339"/>
                  <a:pt x="8136" y="11336"/>
                </a:cubicBezTo>
                <a:cubicBezTo>
                  <a:pt x="8200" y="11335"/>
                  <a:pt x="8339" y="11340"/>
                  <a:pt x="8384" y="11286"/>
                </a:cubicBezTo>
                <a:cubicBezTo>
                  <a:pt x="8443" y="11216"/>
                  <a:pt x="8341" y="11271"/>
                  <a:pt x="8359" y="111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0200" y="2928960"/>
            <a:ext cx="44640" cy="1973160"/>
          </a:xfrm>
          <a:custGeom>
            <a:avLst/>
            <a:gdLst/>
            <a:ahLst/>
            <a:rect l="l" t="t" r="r" b="b"/>
            <a:pathLst>
              <a:path w="125" h="5483">
                <a:moveTo>
                  <a:pt x="3770" y="8136"/>
                </a:moveTo>
                <a:cubicBezTo>
                  <a:pt x="3754" y="8174"/>
                  <a:pt x="3725" y="8180"/>
                  <a:pt x="3721" y="8260"/>
                </a:cubicBezTo>
                <a:cubicBezTo>
                  <a:pt x="3715" y="8393"/>
                  <a:pt x="3699" y="8524"/>
                  <a:pt x="3696" y="8657"/>
                </a:cubicBezTo>
                <a:cubicBezTo>
                  <a:pt x="3684" y="9245"/>
                  <a:pt x="3700" y="9832"/>
                  <a:pt x="3721" y="10418"/>
                </a:cubicBezTo>
                <a:cubicBezTo>
                  <a:pt x="3733" y="10757"/>
                  <a:pt x="3725" y="11096"/>
                  <a:pt x="3746" y="11435"/>
                </a:cubicBezTo>
                <a:cubicBezTo>
                  <a:pt x="3768" y="11799"/>
                  <a:pt x="3774" y="12163"/>
                  <a:pt x="3795" y="12526"/>
                </a:cubicBezTo>
                <a:cubicBezTo>
                  <a:pt x="3810" y="12793"/>
                  <a:pt x="3852" y="13077"/>
                  <a:pt x="3820" y="13345"/>
                </a:cubicBezTo>
                <a:cubicBezTo>
                  <a:pt x="3803" y="13436"/>
                  <a:pt x="3787" y="13527"/>
                  <a:pt x="3770" y="136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98760" y="3875040"/>
            <a:ext cx="9360" cy="233280"/>
          </a:xfrm>
          <a:custGeom>
            <a:avLst/>
            <a:gdLst/>
            <a:ahLst/>
            <a:rect l="l" t="t" r="r" b="b"/>
            <a:pathLst>
              <a:path w="26" h="646">
                <a:moveTo>
                  <a:pt x="4440" y="10765"/>
                </a:moveTo>
                <a:cubicBezTo>
                  <a:pt x="4440" y="10964"/>
                  <a:pt x="4410" y="11205"/>
                  <a:pt x="4465" y="11385"/>
                </a:cubicBezTo>
                <a:cubicBezTo>
                  <a:pt x="4465" y="11393"/>
                  <a:pt x="4465" y="11402"/>
                  <a:pt x="4465" y="114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8960" y="3919680"/>
            <a:ext cx="1440" cy="171360"/>
          </a:xfrm>
          <a:custGeom>
            <a:avLst/>
            <a:gdLst/>
            <a:ahLst/>
            <a:rect l="l" t="t" r="r" b="b"/>
            <a:pathLst>
              <a:path w="1" h="473">
                <a:moveTo>
                  <a:pt x="4887" y="10889"/>
                </a:moveTo>
                <a:cubicBezTo>
                  <a:pt x="4887" y="11046"/>
                  <a:pt x="4887" y="11204"/>
                  <a:pt x="4887" y="113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55880" y="3894120"/>
            <a:ext cx="27000" cy="214200"/>
          </a:xfrm>
          <a:custGeom>
            <a:avLst/>
            <a:gdLst/>
            <a:ahLst/>
            <a:rect l="l" t="t" r="r" b="b"/>
            <a:pathLst>
              <a:path w="76" h="596">
                <a:moveTo>
                  <a:pt x="5432" y="10815"/>
                </a:moveTo>
                <a:cubicBezTo>
                  <a:pt x="5443" y="10985"/>
                  <a:pt x="5432" y="11098"/>
                  <a:pt x="5432" y="11261"/>
                </a:cubicBezTo>
                <a:cubicBezTo>
                  <a:pt x="5432" y="11294"/>
                  <a:pt x="5414" y="11389"/>
                  <a:pt x="5457" y="11410"/>
                </a:cubicBezTo>
                <a:cubicBezTo>
                  <a:pt x="5485" y="11410"/>
                  <a:pt x="5496" y="11408"/>
                  <a:pt x="5507" y="113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60720" y="3875040"/>
            <a:ext cx="9360" cy="250920"/>
          </a:xfrm>
          <a:custGeom>
            <a:avLst/>
            <a:gdLst/>
            <a:ahLst/>
            <a:rect l="l" t="t" r="r" b="b"/>
            <a:pathLst>
              <a:path w="26" h="696">
                <a:moveTo>
                  <a:pt x="6003" y="10765"/>
                </a:moveTo>
                <a:cubicBezTo>
                  <a:pt x="6042" y="10908"/>
                  <a:pt x="6014" y="11010"/>
                  <a:pt x="6003" y="11162"/>
                </a:cubicBezTo>
                <a:cubicBezTo>
                  <a:pt x="5996" y="11254"/>
                  <a:pt x="6014" y="11326"/>
                  <a:pt x="6028" y="11410"/>
                </a:cubicBezTo>
                <a:cubicBezTo>
                  <a:pt x="6028" y="11427"/>
                  <a:pt x="6028" y="11443"/>
                  <a:pt x="6028" y="114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33680" y="3625920"/>
            <a:ext cx="152280" cy="98280"/>
          </a:xfrm>
          <a:custGeom>
            <a:avLst/>
            <a:gdLst/>
            <a:ahLst/>
            <a:rect l="l" t="t" r="r" b="b"/>
            <a:pathLst>
              <a:path w="423" h="274">
                <a:moveTo>
                  <a:pt x="4589" y="10071"/>
                </a:moveTo>
                <a:cubicBezTo>
                  <a:pt x="4571" y="10104"/>
                  <a:pt x="4501" y="10216"/>
                  <a:pt x="4539" y="10269"/>
                </a:cubicBezTo>
                <a:cubicBezTo>
                  <a:pt x="4552" y="10287"/>
                  <a:pt x="4611" y="10294"/>
                  <a:pt x="4638" y="10294"/>
                </a:cubicBezTo>
                <a:cubicBezTo>
                  <a:pt x="4717" y="10294"/>
                  <a:pt x="4747" y="10344"/>
                  <a:pt x="4837" y="10344"/>
                </a:cubicBezTo>
                <a:cubicBezTo>
                  <a:pt x="4891" y="10344"/>
                  <a:pt x="4910" y="10282"/>
                  <a:pt x="4961" y="102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8960" y="3517920"/>
            <a:ext cx="9360" cy="287280"/>
          </a:xfrm>
          <a:custGeom>
            <a:avLst/>
            <a:gdLst/>
            <a:ahLst/>
            <a:rect l="l" t="t" r="r" b="b"/>
            <a:pathLst>
              <a:path w="25" h="795">
                <a:moveTo>
                  <a:pt x="4911" y="9773"/>
                </a:moveTo>
                <a:cubicBezTo>
                  <a:pt x="4905" y="9924"/>
                  <a:pt x="4887" y="10069"/>
                  <a:pt x="4887" y="10220"/>
                </a:cubicBezTo>
                <a:cubicBezTo>
                  <a:pt x="4887" y="10336"/>
                  <a:pt x="4887" y="10451"/>
                  <a:pt x="4887" y="105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51000" y="4133880"/>
            <a:ext cx="133200" cy="1440"/>
          </a:xfrm>
          <a:custGeom>
            <a:avLst/>
            <a:gdLst/>
            <a:ahLst/>
            <a:rect l="l" t="t" r="r" b="b"/>
            <a:pathLst>
              <a:path w="373" h="1">
                <a:moveTo>
                  <a:pt x="3473" y="11485"/>
                </a:moveTo>
                <a:cubicBezTo>
                  <a:pt x="3597" y="11485"/>
                  <a:pt x="3721" y="11485"/>
                  <a:pt x="3845" y="114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41280" y="4241880"/>
            <a:ext cx="241560" cy="17280"/>
          </a:xfrm>
          <a:custGeom>
            <a:avLst/>
            <a:gdLst/>
            <a:ahLst/>
            <a:rect l="l" t="t" r="r" b="b"/>
            <a:pathLst>
              <a:path w="671" h="51">
                <a:moveTo>
                  <a:pt x="3448" y="11832"/>
                </a:moveTo>
                <a:cubicBezTo>
                  <a:pt x="3553" y="11832"/>
                  <a:pt x="3644" y="11816"/>
                  <a:pt x="3746" y="11807"/>
                </a:cubicBezTo>
                <a:cubicBezTo>
                  <a:pt x="3876" y="11796"/>
                  <a:pt x="3992" y="11817"/>
                  <a:pt x="4118" y="117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76200" y="4375080"/>
            <a:ext cx="179640" cy="9720"/>
          </a:xfrm>
          <a:custGeom>
            <a:avLst/>
            <a:gdLst/>
            <a:ahLst/>
            <a:rect l="l" t="t" r="r" b="b"/>
            <a:pathLst>
              <a:path w="497" h="26">
                <a:moveTo>
                  <a:pt x="3547" y="12154"/>
                </a:moveTo>
                <a:cubicBezTo>
                  <a:pt x="3686" y="12154"/>
                  <a:pt x="3811" y="12166"/>
                  <a:pt x="3944" y="12179"/>
                </a:cubicBezTo>
                <a:cubicBezTo>
                  <a:pt x="3977" y="12179"/>
                  <a:pt x="4010" y="12179"/>
                  <a:pt x="4043" y="121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58920" y="4500720"/>
            <a:ext cx="187200" cy="9360"/>
          </a:xfrm>
          <a:custGeom>
            <a:avLst/>
            <a:gdLst/>
            <a:ahLst/>
            <a:rect l="l" t="t" r="r" b="b"/>
            <a:pathLst>
              <a:path w="522" h="25">
                <a:moveTo>
                  <a:pt x="3497" y="12502"/>
                </a:moveTo>
                <a:cubicBezTo>
                  <a:pt x="3637" y="12502"/>
                  <a:pt x="3759" y="12522"/>
                  <a:pt x="3894" y="12526"/>
                </a:cubicBezTo>
                <a:cubicBezTo>
                  <a:pt x="3935" y="12526"/>
                  <a:pt x="3977" y="12526"/>
                  <a:pt x="4018" y="125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4280" y="4660920"/>
            <a:ext cx="223920" cy="19080"/>
          </a:xfrm>
          <a:custGeom>
            <a:avLst/>
            <a:gdLst/>
            <a:ahLst/>
            <a:rect l="l" t="t" r="r" b="b"/>
            <a:pathLst>
              <a:path w="622" h="51">
                <a:moveTo>
                  <a:pt x="3373" y="12948"/>
                </a:moveTo>
                <a:cubicBezTo>
                  <a:pt x="3478" y="12957"/>
                  <a:pt x="3591" y="12958"/>
                  <a:pt x="3696" y="12973"/>
                </a:cubicBezTo>
                <a:cubicBezTo>
                  <a:pt x="3805" y="12989"/>
                  <a:pt x="3881" y="12998"/>
                  <a:pt x="3994" y="129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57200" y="3983040"/>
            <a:ext cx="777960" cy="911160"/>
          </a:xfrm>
          <a:custGeom>
            <a:avLst/>
            <a:gdLst/>
            <a:ahLst/>
            <a:rect l="l" t="t" r="r" b="b"/>
            <a:pathLst>
              <a:path w="2159" h="2531">
                <a:moveTo>
                  <a:pt x="3770" y="11063"/>
                </a:moveTo>
                <a:cubicBezTo>
                  <a:pt x="3797" y="11085"/>
                  <a:pt x="3843" y="11098"/>
                  <a:pt x="3870" y="11137"/>
                </a:cubicBezTo>
                <a:cubicBezTo>
                  <a:pt x="3894" y="11172"/>
                  <a:pt x="3912" y="11223"/>
                  <a:pt x="3944" y="11261"/>
                </a:cubicBezTo>
                <a:cubicBezTo>
                  <a:pt x="4007" y="11335"/>
                  <a:pt x="4059" y="11410"/>
                  <a:pt x="4118" y="11485"/>
                </a:cubicBezTo>
                <a:cubicBezTo>
                  <a:pt x="4186" y="11572"/>
                  <a:pt x="4272" y="11646"/>
                  <a:pt x="4341" y="11733"/>
                </a:cubicBezTo>
                <a:cubicBezTo>
                  <a:pt x="4442" y="11861"/>
                  <a:pt x="4550" y="11988"/>
                  <a:pt x="4663" y="12105"/>
                </a:cubicBezTo>
                <a:cubicBezTo>
                  <a:pt x="4765" y="12210"/>
                  <a:pt x="4869" y="12314"/>
                  <a:pt x="4961" y="12427"/>
                </a:cubicBezTo>
                <a:cubicBezTo>
                  <a:pt x="5058" y="12545"/>
                  <a:pt x="5163" y="12656"/>
                  <a:pt x="5259" y="12774"/>
                </a:cubicBezTo>
                <a:cubicBezTo>
                  <a:pt x="5374" y="12915"/>
                  <a:pt x="5517" y="13031"/>
                  <a:pt x="5631" y="13171"/>
                </a:cubicBezTo>
                <a:cubicBezTo>
                  <a:pt x="5697" y="13253"/>
                  <a:pt x="5763" y="13337"/>
                  <a:pt x="5829" y="13419"/>
                </a:cubicBezTo>
                <a:cubicBezTo>
                  <a:pt x="5857" y="13453"/>
                  <a:pt x="5881" y="13513"/>
                  <a:pt x="5904" y="13543"/>
                </a:cubicBezTo>
                <a:cubicBezTo>
                  <a:pt x="5921" y="13565"/>
                  <a:pt x="5910" y="13546"/>
                  <a:pt x="5928" y="135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09880" y="4697280"/>
            <a:ext cx="214200" cy="268560"/>
          </a:xfrm>
          <a:custGeom>
            <a:avLst/>
            <a:gdLst/>
            <a:ahLst/>
            <a:rect l="l" t="t" r="r" b="b"/>
            <a:pathLst>
              <a:path w="596" h="745">
                <a:moveTo>
                  <a:pt x="5829" y="13047"/>
                </a:moveTo>
                <a:cubicBezTo>
                  <a:pt x="5837" y="13105"/>
                  <a:pt x="5865" y="13170"/>
                  <a:pt x="5904" y="13221"/>
                </a:cubicBezTo>
                <a:cubicBezTo>
                  <a:pt x="5955" y="13288"/>
                  <a:pt x="6011" y="13345"/>
                  <a:pt x="6052" y="13419"/>
                </a:cubicBezTo>
                <a:cubicBezTo>
                  <a:pt x="6085" y="13479"/>
                  <a:pt x="6107" y="13542"/>
                  <a:pt x="6152" y="13593"/>
                </a:cubicBezTo>
                <a:cubicBezTo>
                  <a:pt x="6174" y="13616"/>
                  <a:pt x="6182" y="13621"/>
                  <a:pt x="6176" y="13643"/>
                </a:cubicBezTo>
                <a:cubicBezTo>
                  <a:pt x="6125" y="13681"/>
                  <a:pt x="6112" y="13649"/>
                  <a:pt x="6052" y="13667"/>
                </a:cubicBezTo>
                <a:cubicBezTo>
                  <a:pt x="5958" y="13695"/>
                  <a:pt x="5853" y="13752"/>
                  <a:pt x="5755" y="13767"/>
                </a:cubicBezTo>
                <a:cubicBezTo>
                  <a:pt x="5703" y="13775"/>
                  <a:pt x="5642" y="13830"/>
                  <a:pt x="5606" y="13791"/>
                </a:cubicBezTo>
                <a:cubicBezTo>
                  <a:pt x="5598" y="13775"/>
                  <a:pt x="5589" y="13758"/>
                  <a:pt x="5581" y="137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78000" y="4017960"/>
            <a:ext cx="19080" cy="947880"/>
          </a:xfrm>
          <a:custGeom>
            <a:avLst/>
            <a:gdLst/>
            <a:ahLst/>
            <a:rect l="l" t="t" r="r" b="b"/>
            <a:pathLst>
              <a:path w="51" h="2630">
                <a:moveTo>
                  <a:pt x="6052" y="11162"/>
                </a:moveTo>
                <a:cubicBezTo>
                  <a:pt x="6086" y="11212"/>
                  <a:pt x="6118" y="11214"/>
                  <a:pt x="6102" y="11286"/>
                </a:cubicBezTo>
                <a:cubicBezTo>
                  <a:pt x="6084" y="11368"/>
                  <a:pt x="6067" y="11445"/>
                  <a:pt x="6077" y="11534"/>
                </a:cubicBezTo>
                <a:cubicBezTo>
                  <a:pt x="6093" y="11680"/>
                  <a:pt x="6102" y="11810"/>
                  <a:pt x="6102" y="11956"/>
                </a:cubicBezTo>
                <a:cubicBezTo>
                  <a:pt x="6102" y="12406"/>
                  <a:pt x="6138" y="12878"/>
                  <a:pt x="6077" y="13320"/>
                </a:cubicBezTo>
                <a:cubicBezTo>
                  <a:pt x="6058" y="13459"/>
                  <a:pt x="6081" y="13619"/>
                  <a:pt x="6102" y="13742"/>
                </a:cubicBezTo>
                <a:cubicBezTo>
                  <a:pt x="6114" y="13811"/>
                  <a:pt x="6102" y="13779"/>
                  <a:pt x="6102" y="137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4446720"/>
            <a:ext cx="71280" cy="1440"/>
          </a:xfrm>
          <a:custGeom>
            <a:avLst/>
            <a:gdLst/>
            <a:ahLst/>
            <a:rect l="l" t="t" r="r" b="b"/>
            <a:pathLst>
              <a:path w="199" h="1">
                <a:moveTo>
                  <a:pt x="6350" y="12353"/>
                </a:moveTo>
                <a:cubicBezTo>
                  <a:pt x="6416" y="12353"/>
                  <a:pt x="6482" y="12353"/>
                  <a:pt x="6548" y="123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73200" y="4394160"/>
            <a:ext cx="71640" cy="7920"/>
          </a:xfrm>
          <a:custGeom>
            <a:avLst/>
            <a:gdLst/>
            <a:ahLst/>
            <a:rect l="l" t="t" r="r" b="b"/>
            <a:pathLst>
              <a:path w="199" h="26">
                <a:moveTo>
                  <a:pt x="6871" y="12204"/>
                </a:moveTo>
                <a:cubicBezTo>
                  <a:pt x="6944" y="12209"/>
                  <a:pt x="7000" y="12229"/>
                  <a:pt x="7069" y="122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74920" y="4384800"/>
            <a:ext cx="196920" cy="250560"/>
          </a:xfrm>
          <a:custGeom>
            <a:avLst/>
            <a:gdLst/>
            <a:ahLst/>
            <a:rect l="l" t="t" r="r" b="b"/>
            <a:pathLst>
              <a:path w="547" h="696">
                <a:moveTo>
                  <a:pt x="6821" y="12179"/>
                </a:moveTo>
                <a:cubicBezTo>
                  <a:pt x="6794" y="12254"/>
                  <a:pt x="6772" y="12300"/>
                  <a:pt x="6772" y="12378"/>
                </a:cubicBezTo>
                <a:cubicBezTo>
                  <a:pt x="6772" y="12423"/>
                  <a:pt x="6813" y="12437"/>
                  <a:pt x="6821" y="12452"/>
                </a:cubicBezTo>
                <a:cubicBezTo>
                  <a:pt x="6834" y="12478"/>
                  <a:pt x="6836" y="12498"/>
                  <a:pt x="6871" y="12502"/>
                </a:cubicBezTo>
                <a:cubicBezTo>
                  <a:pt x="6907" y="12506"/>
                  <a:pt x="6928" y="12477"/>
                  <a:pt x="6970" y="12477"/>
                </a:cubicBezTo>
                <a:cubicBezTo>
                  <a:pt x="7009" y="12477"/>
                  <a:pt x="7070" y="12491"/>
                  <a:pt x="7094" y="12526"/>
                </a:cubicBezTo>
                <a:cubicBezTo>
                  <a:pt x="7129" y="12576"/>
                  <a:pt x="7167" y="12662"/>
                  <a:pt x="7144" y="12725"/>
                </a:cubicBezTo>
                <a:cubicBezTo>
                  <a:pt x="7113" y="12812"/>
                  <a:pt x="7081" y="12869"/>
                  <a:pt x="6995" y="12874"/>
                </a:cubicBezTo>
                <a:cubicBezTo>
                  <a:pt x="6906" y="12879"/>
                  <a:pt x="6826" y="12867"/>
                  <a:pt x="6747" y="12824"/>
                </a:cubicBezTo>
                <a:cubicBezTo>
                  <a:pt x="6672" y="12774"/>
                  <a:pt x="6648" y="12758"/>
                  <a:pt x="6598" y="127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77960" y="4116240"/>
            <a:ext cx="152280" cy="189000"/>
          </a:xfrm>
          <a:custGeom>
            <a:avLst/>
            <a:gdLst/>
            <a:ahLst/>
            <a:rect l="l" t="t" r="r" b="b"/>
            <a:pathLst>
              <a:path w="423" h="522">
                <a:moveTo>
                  <a:pt x="4762" y="11559"/>
                </a:moveTo>
                <a:cubicBezTo>
                  <a:pt x="4739" y="11595"/>
                  <a:pt x="4661" y="11710"/>
                  <a:pt x="4663" y="11757"/>
                </a:cubicBezTo>
                <a:cubicBezTo>
                  <a:pt x="4666" y="11825"/>
                  <a:pt x="4707" y="11894"/>
                  <a:pt x="4762" y="11931"/>
                </a:cubicBezTo>
                <a:cubicBezTo>
                  <a:pt x="4827" y="11975"/>
                  <a:pt x="4895" y="11960"/>
                  <a:pt x="4961" y="11931"/>
                </a:cubicBezTo>
                <a:cubicBezTo>
                  <a:pt x="5018" y="11906"/>
                  <a:pt x="5074" y="11822"/>
                  <a:pt x="5085" y="11757"/>
                </a:cubicBezTo>
                <a:cubicBezTo>
                  <a:pt x="5101" y="11666"/>
                  <a:pt x="5036" y="11512"/>
                  <a:pt x="4961" y="11460"/>
                </a:cubicBezTo>
                <a:cubicBezTo>
                  <a:pt x="4932" y="11439"/>
                  <a:pt x="4851" y="11435"/>
                  <a:pt x="4812" y="114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52760" y="4205160"/>
            <a:ext cx="204480" cy="19080"/>
          </a:xfrm>
          <a:custGeom>
            <a:avLst/>
            <a:gdLst/>
            <a:ahLst/>
            <a:rect l="l" t="t" r="r" b="b"/>
            <a:pathLst>
              <a:path w="571" h="51">
                <a:moveTo>
                  <a:pt x="4589" y="11683"/>
                </a:moveTo>
                <a:cubicBezTo>
                  <a:pt x="4704" y="11683"/>
                  <a:pt x="4825" y="11686"/>
                  <a:pt x="4936" y="11708"/>
                </a:cubicBezTo>
                <a:cubicBezTo>
                  <a:pt x="5033" y="11740"/>
                  <a:pt x="5081" y="11749"/>
                  <a:pt x="5159" y="117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93960" y="4249800"/>
            <a:ext cx="61920" cy="9360"/>
          </a:xfrm>
          <a:custGeom>
            <a:avLst/>
            <a:gdLst/>
            <a:ahLst/>
            <a:rect l="l" t="t" r="r" b="b"/>
            <a:pathLst>
              <a:path w="174" h="26">
                <a:moveTo>
                  <a:pt x="5259" y="11807"/>
                </a:moveTo>
                <a:cubicBezTo>
                  <a:pt x="5327" y="11807"/>
                  <a:pt x="5344" y="11816"/>
                  <a:pt x="5407" y="11832"/>
                </a:cubicBezTo>
                <a:cubicBezTo>
                  <a:pt x="5415" y="11832"/>
                  <a:pt x="5424" y="11832"/>
                  <a:pt x="5432" y="118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27160" y="4232160"/>
            <a:ext cx="54000" cy="9720"/>
          </a:xfrm>
          <a:custGeom>
            <a:avLst/>
            <a:gdLst/>
            <a:ahLst/>
            <a:rect l="l" t="t" r="r" b="b"/>
            <a:pathLst>
              <a:path w="149" h="26">
                <a:moveTo>
                  <a:pt x="5631" y="11782"/>
                </a:moveTo>
                <a:cubicBezTo>
                  <a:pt x="5673" y="11750"/>
                  <a:pt x="5699" y="11757"/>
                  <a:pt x="5755" y="11757"/>
                </a:cubicBezTo>
                <a:cubicBezTo>
                  <a:pt x="5763" y="11757"/>
                  <a:pt x="5771" y="11757"/>
                  <a:pt x="5779" y="117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73160" y="4232160"/>
            <a:ext cx="98640" cy="142920"/>
          </a:xfrm>
          <a:custGeom>
            <a:avLst/>
            <a:gdLst/>
            <a:ahLst/>
            <a:rect l="l" t="t" r="r" b="b"/>
            <a:pathLst>
              <a:path w="274" h="398">
                <a:moveTo>
                  <a:pt x="5631" y="11757"/>
                </a:moveTo>
                <a:cubicBezTo>
                  <a:pt x="5589" y="11799"/>
                  <a:pt x="5581" y="11807"/>
                  <a:pt x="5556" y="11832"/>
                </a:cubicBezTo>
                <a:cubicBezTo>
                  <a:pt x="5569" y="11870"/>
                  <a:pt x="5578" y="11860"/>
                  <a:pt x="5606" y="11881"/>
                </a:cubicBezTo>
                <a:cubicBezTo>
                  <a:pt x="5638" y="11905"/>
                  <a:pt x="5676" y="11911"/>
                  <a:pt x="5705" y="11931"/>
                </a:cubicBezTo>
                <a:cubicBezTo>
                  <a:pt x="5743" y="11957"/>
                  <a:pt x="5776" y="12006"/>
                  <a:pt x="5755" y="12055"/>
                </a:cubicBezTo>
                <a:cubicBezTo>
                  <a:pt x="5731" y="12113"/>
                  <a:pt x="5674" y="12114"/>
                  <a:pt x="5631" y="12129"/>
                </a:cubicBezTo>
                <a:cubicBezTo>
                  <a:pt x="5595" y="12142"/>
                  <a:pt x="5535" y="12171"/>
                  <a:pt x="5507" y="12129"/>
                </a:cubicBezTo>
                <a:cubicBezTo>
                  <a:pt x="5472" y="12077"/>
                  <a:pt x="5484" y="12040"/>
                  <a:pt x="5507" y="119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89080" y="4249800"/>
            <a:ext cx="27000" cy="117360"/>
          </a:xfrm>
          <a:custGeom>
            <a:avLst/>
            <a:gdLst/>
            <a:ahLst/>
            <a:rect l="l" t="t" r="r" b="b"/>
            <a:pathLst>
              <a:path w="76" h="323">
                <a:moveTo>
                  <a:pt x="5854" y="11807"/>
                </a:moveTo>
                <a:cubicBezTo>
                  <a:pt x="5847" y="11905"/>
                  <a:pt x="5825" y="11965"/>
                  <a:pt x="5804" y="12055"/>
                </a:cubicBezTo>
                <a:cubicBezTo>
                  <a:pt x="5799" y="12075"/>
                  <a:pt x="5817" y="12166"/>
                  <a:pt x="5854" y="12129"/>
                </a:cubicBezTo>
                <a:cubicBezTo>
                  <a:pt x="5862" y="12113"/>
                  <a:pt x="5871" y="12096"/>
                  <a:pt x="5879" y="120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52800" y="4205160"/>
            <a:ext cx="44280" cy="27000"/>
          </a:xfrm>
          <a:custGeom>
            <a:avLst/>
            <a:gdLst/>
            <a:ahLst/>
            <a:rect l="l" t="t" r="r" b="b"/>
            <a:pathLst>
              <a:path w="125" h="75">
                <a:moveTo>
                  <a:pt x="5978" y="11757"/>
                </a:moveTo>
                <a:cubicBezTo>
                  <a:pt x="6001" y="11751"/>
                  <a:pt x="6056" y="11745"/>
                  <a:pt x="6077" y="11733"/>
                </a:cubicBezTo>
                <a:cubicBezTo>
                  <a:pt x="6147" y="11694"/>
                  <a:pt x="6080" y="11688"/>
                  <a:pt x="6052" y="116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2800" y="1170000"/>
            <a:ext cx="2386080" cy="3510000"/>
          </a:xfrm>
          <a:custGeom>
            <a:avLst/>
            <a:gdLst/>
            <a:ahLst/>
            <a:rect l="l" t="t" r="r" b="b"/>
            <a:pathLst>
              <a:path w="6624" h="9750">
                <a:moveTo>
                  <a:pt x="20365" y="3249"/>
                </a:moveTo>
                <a:cubicBezTo>
                  <a:pt x="20542" y="3355"/>
                  <a:pt x="20678" y="3410"/>
                  <a:pt x="20836" y="3547"/>
                </a:cubicBezTo>
                <a:cubicBezTo>
                  <a:pt x="21392" y="4029"/>
                  <a:pt x="21594" y="4646"/>
                  <a:pt x="21605" y="5358"/>
                </a:cubicBezTo>
                <a:cubicBezTo>
                  <a:pt x="21612" y="5796"/>
                  <a:pt x="21558" y="6195"/>
                  <a:pt x="21456" y="6623"/>
                </a:cubicBezTo>
                <a:cubicBezTo>
                  <a:pt x="21311" y="7228"/>
                  <a:pt x="21076" y="7847"/>
                  <a:pt x="20811" y="8409"/>
                </a:cubicBezTo>
                <a:cubicBezTo>
                  <a:pt x="20466" y="9141"/>
                  <a:pt x="20042" y="9777"/>
                  <a:pt x="19596" y="10443"/>
                </a:cubicBezTo>
                <a:cubicBezTo>
                  <a:pt x="19373" y="10777"/>
                  <a:pt x="19112" y="11053"/>
                  <a:pt x="18802" y="11311"/>
                </a:cubicBezTo>
                <a:cubicBezTo>
                  <a:pt x="18453" y="11602"/>
                  <a:pt x="18045" y="11837"/>
                  <a:pt x="17636" y="12030"/>
                </a:cubicBezTo>
                <a:cubicBezTo>
                  <a:pt x="17267" y="12204"/>
                  <a:pt x="16886" y="12316"/>
                  <a:pt x="16495" y="12427"/>
                </a:cubicBezTo>
                <a:cubicBezTo>
                  <a:pt x="16022" y="12561"/>
                  <a:pt x="15584" y="12710"/>
                  <a:pt x="15156" y="12948"/>
                </a:cubicBezTo>
                <a:cubicBezTo>
                  <a:pt x="15112" y="12970"/>
                  <a:pt x="15100" y="12973"/>
                  <a:pt x="15081" y="12998"/>
                </a:cubicBezTo>
                <a:cubicBezTo>
                  <a:pt x="15063" y="12940"/>
                  <a:pt x="15023" y="12898"/>
                  <a:pt x="15007" y="12824"/>
                </a:cubicBezTo>
                <a:cubicBezTo>
                  <a:pt x="15007" y="12748"/>
                  <a:pt x="15006" y="12722"/>
                  <a:pt x="14982" y="126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dfd293"/>
                </a:solidFill>
                <a:latin typeface="Arial"/>
              </a:rPr>
              <a:t>Homework:</a:t>
            </a:r>
            <a:br>
              <a:rPr sz="6500"/>
            </a:br>
            <a:r>
              <a:rPr b="0" lang="en-US" sz="6500" spc="-1" strike="noStrike">
                <a:solidFill>
                  <a:srgbClr val="dfd293"/>
                </a:solidFill>
                <a:latin typeface="Arial"/>
              </a:rPr>
              <a:t>Pages 453-454</a:t>
            </a:r>
            <a:br>
              <a:rPr sz="6500"/>
            </a:br>
            <a:r>
              <a:rPr b="0" lang="en-US" sz="6500" spc="-1" strike="noStrike">
                <a:solidFill>
                  <a:srgbClr val="dfd293"/>
                </a:solidFill>
                <a:latin typeface="Arial"/>
              </a:rPr>
              <a:t>#25,33,37,39,45,51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(no sketching needed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19840" y="2938320"/>
            <a:ext cx="2340000" cy="1106640"/>
          </a:xfrm>
          <a:custGeom>
            <a:avLst/>
            <a:gdLst/>
            <a:ahLst/>
            <a:rect l="l" t="t" r="r" b="b"/>
            <a:pathLst>
              <a:path w="6499" h="3077">
                <a:moveTo>
                  <a:pt x="16446" y="8508"/>
                </a:moveTo>
                <a:cubicBezTo>
                  <a:pt x="16467" y="8556"/>
                  <a:pt x="16483" y="8650"/>
                  <a:pt x="16495" y="8731"/>
                </a:cubicBezTo>
                <a:cubicBezTo>
                  <a:pt x="16522" y="8906"/>
                  <a:pt x="16520" y="9074"/>
                  <a:pt x="16520" y="9252"/>
                </a:cubicBezTo>
                <a:cubicBezTo>
                  <a:pt x="16520" y="9468"/>
                  <a:pt x="16545" y="9679"/>
                  <a:pt x="16545" y="9897"/>
                </a:cubicBezTo>
                <a:cubicBezTo>
                  <a:pt x="16545" y="10122"/>
                  <a:pt x="16578" y="10348"/>
                  <a:pt x="16594" y="10567"/>
                </a:cubicBezTo>
                <a:cubicBezTo>
                  <a:pt x="16601" y="10670"/>
                  <a:pt x="16594" y="10722"/>
                  <a:pt x="16570" y="10815"/>
                </a:cubicBezTo>
                <a:cubicBezTo>
                  <a:pt x="16570" y="10716"/>
                  <a:pt x="16570" y="10616"/>
                  <a:pt x="16570" y="10517"/>
                </a:cubicBezTo>
              </a:path>
              <a:path w="6499" h="3077">
                <a:moveTo>
                  <a:pt x="16495" y="8409"/>
                </a:moveTo>
                <a:cubicBezTo>
                  <a:pt x="16631" y="8355"/>
                  <a:pt x="16646" y="8341"/>
                  <a:pt x="16818" y="8334"/>
                </a:cubicBezTo>
                <a:cubicBezTo>
                  <a:pt x="17011" y="8327"/>
                  <a:pt x="17197" y="8340"/>
                  <a:pt x="17388" y="8334"/>
                </a:cubicBezTo>
                <a:cubicBezTo>
                  <a:pt x="17908" y="8317"/>
                  <a:pt x="18432" y="8291"/>
                  <a:pt x="18951" y="8285"/>
                </a:cubicBezTo>
                <a:cubicBezTo>
                  <a:pt x="19299" y="8281"/>
                  <a:pt x="19645" y="8247"/>
                  <a:pt x="19993" y="8235"/>
                </a:cubicBezTo>
                <a:cubicBezTo>
                  <a:pt x="20356" y="8223"/>
                  <a:pt x="20722" y="8218"/>
                  <a:pt x="21084" y="8186"/>
                </a:cubicBezTo>
                <a:cubicBezTo>
                  <a:pt x="21347" y="8163"/>
                  <a:pt x="21613" y="8146"/>
                  <a:pt x="21878" y="8161"/>
                </a:cubicBezTo>
                <a:cubicBezTo>
                  <a:pt x="22013" y="8169"/>
                  <a:pt x="22144" y="8177"/>
                  <a:pt x="22275" y="8210"/>
                </a:cubicBezTo>
                <a:cubicBezTo>
                  <a:pt x="22339" y="8226"/>
                  <a:pt x="22353" y="8199"/>
                  <a:pt x="22399" y="8260"/>
                </a:cubicBezTo>
                <a:cubicBezTo>
                  <a:pt x="22451" y="8328"/>
                  <a:pt x="22437" y="8483"/>
                  <a:pt x="22448" y="8558"/>
                </a:cubicBezTo>
                <a:cubicBezTo>
                  <a:pt x="22478" y="8759"/>
                  <a:pt x="22526" y="8952"/>
                  <a:pt x="22572" y="9153"/>
                </a:cubicBezTo>
                <a:cubicBezTo>
                  <a:pt x="22614" y="9335"/>
                  <a:pt x="22648" y="9520"/>
                  <a:pt x="22696" y="9699"/>
                </a:cubicBezTo>
                <a:cubicBezTo>
                  <a:pt x="22753" y="9913"/>
                  <a:pt x="22799" y="10127"/>
                  <a:pt x="22845" y="10344"/>
                </a:cubicBezTo>
                <a:cubicBezTo>
                  <a:pt x="22877" y="10494"/>
                  <a:pt x="22899" y="10640"/>
                  <a:pt x="22920" y="10790"/>
                </a:cubicBezTo>
                <a:cubicBezTo>
                  <a:pt x="22932" y="10877"/>
                  <a:pt x="22961" y="10999"/>
                  <a:pt x="22944" y="11088"/>
                </a:cubicBezTo>
                <a:cubicBezTo>
                  <a:pt x="22935" y="11135"/>
                  <a:pt x="22920" y="11213"/>
                  <a:pt x="22870" y="11237"/>
                </a:cubicBezTo>
                <a:cubicBezTo>
                  <a:pt x="22825" y="11259"/>
                  <a:pt x="22738" y="11218"/>
                  <a:pt x="22696" y="11212"/>
                </a:cubicBezTo>
                <a:cubicBezTo>
                  <a:pt x="22596" y="11198"/>
                  <a:pt x="22500" y="11144"/>
                  <a:pt x="22399" y="11137"/>
                </a:cubicBezTo>
                <a:cubicBezTo>
                  <a:pt x="21996" y="11110"/>
                  <a:pt x="21582" y="11145"/>
                  <a:pt x="21183" y="11162"/>
                </a:cubicBezTo>
                <a:cubicBezTo>
                  <a:pt x="20434" y="11194"/>
                  <a:pt x="19695" y="11122"/>
                  <a:pt x="18951" y="11088"/>
                </a:cubicBezTo>
                <a:cubicBezTo>
                  <a:pt x="18563" y="11070"/>
                  <a:pt x="18174" y="11063"/>
                  <a:pt x="17785" y="11063"/>
                </a:cubicBezTo>
                <a:cubicBezTo>
                  <a:pt x="17551" y="11063"/>
                  <a:pt x="17322" y="11070"/>
                  <a:pt x="17090" y="11088"/>
                </a:cubicBezTo>
                <a:cubicBezTo>
                  <a:pt x="16961" y="11098"/>
                  <a:pt x="16816" y="11088"/>
                  <a:pt x="16694" y="11137"/>
                </a:cubicBezTo>
                <a:cubicBezTo>
                  <a:pt x="16652" y="11154"/>
                  <a:pt x="16637" y="11174"/>
                  <a:pt x="16594" y="11187"/>
                </a:cubicBezTo>
                <a:cubicBezTo>
                  <a:pt x="16554" y="11199"/>
                  <a:pt x="16533" y="11196"/>
                  <a:pt x="16495" y="112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66880" y="1643040"/>
            <a:ext cx="490320" cy="401760"/>
          </a:xfrm>
          <a:custGeom>
            <a:avLst/>
            <a:gdLst/>
            <a:ahLst/>
            <a:rect l="l" t="t" r="r" b="b"/>
            <a:pathLst>
              <a:path w="1365" h="1117">
                <a:moveTo>
                  <a:pt x="2555" y="4688"/>
                </a:moveTo>
                <a:cubicBezTo>
                  <a:pt x="2555" y="4813"/>
                  <a:pt x="2546" y="4888"/>
                  <a:pt x="2505" y="5011"/>
                </a:cubicBezTo>
                <a:cubicBezTo>
                  <a:pt x="2479" y="5087"/>
                  <a:pt x="2448" y="5159"/>
                  <a:pt x="2431" y="5234"/>
                </a:cubicBezTo>
                <a:cubicBezTo>
                  <a:pt x="2431" y="5262"/>
                  <a:pt x="2429" y="5273"/>
                  <a:pt x="2406" y="5283"/>
                </a:cubicBezTo>
                <a:cubicBezTo>
                  <a:pt x="2448" y="5253"/>
                  <a:pt x="2475" y="5259"/>
                  <a:pt x="2530" y="5259"/>
                </a:cubicBezTo>
                <a:cubicBezTo>
                  <a:pt x="2578" y="5259"/>
                  <a:pt x="2639" y="5296"/>
                  <a:pt x="2679" y="5283"/>
                </a:cubicBezTo>
                <a:cubicBezTo>
                  <a:pt x="2728" y="5267"/>
                  <a:pt x="2779" y="5229"/>
                  <a:pt x="2828" y="5209"/>
                </a:cubicBezTo>
                <a:cubicBezTo>
                  <a:pt x="2863" y="5195"/>
                  <a:pt x="2874" y="5169"/>
                  <a:pt x="2902" y="5135"/>
                </a:cubicBezTo>
              </a:path>
              <a:path w="1365" h="1117">
                <a:moveTo>
                  <a:pt x="2927" y="4614"/>
                </a:moveTo>
                <a:cubicBezTo>
                  <a:pt x="2905" y="4735"/>
                  <a:pt x="2902" y="4838"/>
                  <a:pt x="2902" y="4961"/>
                </a:cubicBezTo>
                <a:cubicBezTo>
                  <a:pt x="2902" y="5183"/>
                  <a:pt x="2916" y="5426"/>
                  <a:pt x="2877" y="5631"/>
                </a:cubicBezTo>
                <a:cubicBezTo>
                  <a:pt x="2877" y="5672"/>
                  <a:pt x="2877" y="5696"/>
                  <a:pt x="2877" y="5655"/>
                </a:cubicBezTo>
                <a:cubicBezTo>
                  <a:pt x="2877" y="5556"/>
                  <a:pt x="2893" y="5499"/>
                  <a:pt x="2927" y="5407"/>
                </a:cubicBezTo>
              </a:path>
              <a:path w="1365" h="1117">
                <a:moveTo>
                  <a:pt x="3225" y="4713"/>
                </a:moveTo>
                <a:cubicBezTo>
                  <a:pt x="3260" y="4706"/>
                  <a:pt x="3341" y="4701"/>
                  <a:pt x="3373" y="4688"/>
                </a:cubicBezTo>
                <a:cubicBezTo>
                  <a:pt x="3427" y="4665"/>
                  <a:pt x="3488" y="4657"/>
                  <a:pt x="3547" y="4638"/>
                </a:cubicBezTo>
                <a:cubicBezTo>
                  <a:pt x="3604" y="4620"/>
                  <a:pt x="3629" y="4606"/>
                  <a:pt x="3671" y="4564"/>
                </a:cubicBezTo>
              </a:path>
              <a:path w="1365" h="1117">
                <a:moveTo>
                  <a:pt x="3349" y="4589"/>
                </a:moveTo>
                <a:cubicBezTo>
                  <a:pt x="3300" y="4653"/>
                  <a:pt x="3225" y="4736"/>
                  <a:pt x="3200" y="4812"/>
                </a:cubicBezTo>
                <a:cubicBezTo>
                  <a:pt x="3191" y="4838"/>
                  <a:pt x="3200" y="4883"/>
                  <a:pt x="3200" y="4911"/>
                </a:cubicBezTo>
                <a:cubicBezTo>
                  <a:pt x="3251" y="4911"/>
                  <a:pt x="3273" y="4875"/>
                  <a:pt x="3324" y="4887"/>
                </a:cubicBezTo>
                <a:cubicBezTo>
                  <a:pt x="3395" y="4903"/>
                  <a:pt x="3457" y="4989"/>
                  <a:pt x="3497" y="5035"/>
                </a:cubicBezTo>
                <a:cubicBezTo>
                  <a:pt x="3556" y="5102"/>
                  <a:pt x="3589" y="5165"/>
                  <a:pt x="3572" y="5259"/>
                </a:cubicBezTo>
                <a:cubicBezTo>
                  <a:pt x="3557" y="5342"/>
                  <a:pt x="3501" y="5436"/>
                  <a:pt x="3423" y="5482"/>
                </a:cubicBezTo>
                <a:cubicBezTo>
                  <a:pt x="3392" y="5500"/>
                  <a:pt x="3305" y="5525"/>
                  <a:pt x="3274" y="5531"/>
                </a:cubicBezTo>
                <a:cubicBezTo>
                  <a:pt x="3249" y="5536"/>
                  <a:pt x="3185" y="5512"/>
                  <a:pt x="3200" y="5482"/>
                </a:cubicBezTo>
                <a:cubicBezTo>
                  <a:pt x="3208" y="5474"/>
                  <a:pt x="3217" y="5465"/>
                  <a:pt x="3225" y="5457"/>
                </a:cubicBezTo>
              </a:path>
              <a:path w="1365" h="1117">
                <a:moveTo>
                  <a:pt x="3770" y="5507"/>
                </a:moveTo>
                <a:cubicBezTo>
                  <a:pt x="3742" y="5507"/>
                  <a:pt x="3737" y="5504"/>
                  <a:pt x="3770" y="54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87680" y="1633680"/>
            <a:ext cx="1304640" cy="501480"/>
          </a:xfrm>
          <a:custGeom>
            <a:avLst/>
            <a:gdLst/>
            <a:ahLst/>
            <a:rect l="l" t="t" r="r" b="b"/>
            <a:pathLst>
              <a:path w="3623" h="1390">
                <a:moveTo>
                  <a:pt x="4738" y="5035"/>
                </a:moveTo>
                <a:cubicBezTo>
                  <a:pt x="4726" y="5117"/>
                  <a:pt x="4697" y="5202"/>
                  <a:pt x="4688" y="5283"/>
                </a:cubicBezTo>
                <a:cubicBezTo>
                  <a:pt x="4678" y="5368"/>
                  <a:pt x="4667" y="5507"/>
                  <a:pt x="4713" y="5581"/>
                </a:cubicBezTo>
                <a:cubicBezTo>
                  <a:pt x="4740" y="5624"/>
                  <a:pt x="4787" y="5648"/>
                  <a:pt x="4837" y="5631"/>
                </a:cubicBezTo>
                <a:cubicBezTo>
                  <a:pt x="4921" y="5603"/>
                  <a:pt x="4974" y="5543"/>
                  <a:pt x="5035" y="5482"/>
                </a:cubicBezTo>
                <a:cubicBezTo>
                  <a:pt x="5093" y="5424"/>
                  <a:pt x="5142" y="5341"/>
                  <a:pt x="5159" y="5259"/>
                </a:cubicBezTo>
                <a:cubicBezTo>
                  <a:pt x="5173" y="5191"/>
                  <a:pt x="5184" y="5132"/>
                  <a:pt x="5184" y="5060"/>
                </a:cubicBezTo>
                <a:cubicBezTo>
                  <a:pt x="5184" y="5052"/>
                  <a:pt x="5184" y="5043"/>
                  <a:pt x="5184" y="5035"/>
                </a:cubicBezTo>
                <a:cubicBezTo>
                  <a:pt x="5184" y="4970"/>
                  <a:pt x="5184" y="5121"/>
                  <a:pt x="5184" y="5135"/>
                </a:cubicBezTo>
                <a:cubicBezTo>
                  <a:pt x="5184" y="5232"/>
                  <a:pt x="5183" y="5340"/>
                  <a:pt x="5209" y="5432"/>
                </a:cubicBezTo>
                <a:cubicBezTo>
                  <a:pt x="5222" y="5479"/>
                  <a:pt x="5241" y="5573"/>
                  <a:pt x="5283" y="5606"/>
                </a:cubicBezTo>
                <a:cubicBezTo>
                  <a:pt x="5328" y="5642"/>
                  <a:pt x="5413" y="5641"/>
                  <a:pt x="5457" y="5606"/>
                </a:cubicBezTo>
                <a:cubicBezTo>
                  <a:pt x="5499" y="5564"/>
                  <a:pt x="5507" y="5557"/>
                  <a:pt x="5531" y="5531"/>
                </a:cubicBezTo>
              </a:path>
              <a:path w="3623" h="1390">
                <a:moveTo>
                  <a:pt x="5705" y="5085"/>
                </a:moveTo>
                <a:cubicBezTo>
                  <a:pt x="5787" y="5085"/>
                  <a:pt x="5858" y="5081"/>
                  <a:pt x="5928" y="5060"/>
                </a:cubicBezTo>
                <a:cubicBezTo>
                  <a:pt x="5948" y="5054"/>
                  <a:pt x="5982" y="5060"/>
                  <a:pt x="6003" y="5060"/>
                </a:cubicBezTo>
              </a:path>
              <a:path w="3623" h="1390">
                <a:moveTo>
                  <a:pt x="5730" y="5283"/>
                </a:moveTo>
                <a:cubicBezTo>
                  <a:pt x="5806" y="5283"/>
                  <a:pt x="5858" y="5276"/>
                  <a:pt x="5928" y="5259"/>
                </a:cubicBezTo>
                <a:cubicBezTo>
                  <a:pt x="5975" y="5248"/>
                  <a:pt x="6003" y="5253"/>
                  <a:pt x="6052" y="5234"/>
                </a:cubicBezTo>
              </a:path>
              <a:path w="3623" h="1390">
                <a:moveTo>
                  <a:pt x="6424" y="4713"/>
                </a:moveTo>
                <a:cubicBezTo>
                  <a:pt x="6470" y="4667"/>
                  <a:pt x="6564" y="4551"/>
                  <a:pt x="6648" y="4564"/>
                </a:cubicBezTo>
                <a:cubicBezTo>
                  <a:pt x="6700" y="4572"/>
                  <a:pt x="6747" y="4643"/>
                  <a:pt x="6772" y="4688"/>
                </a:cubicBezTo>
                <a:cubicBezTo>
                  <a:pt x="6806" y="4750"/>
                  <a:pt x="6834" y="4890"/>
                  <a:pt x="6821" y="4961"/>
                </a:cubicBezTo>
                <a:cubicBezTo>
                  <a:pt x="6803" y="5059"/>
                  <a:pt x="6771" y="5120"/>
                  <a:pt x="6722" y="5209"/>
                </a:cubicBezTo>
                <a:cubicBezTo>
                  <a:pt x="6680" y="5285"/>
                  <a:pt x="6618" y="5381"/>
                  <a:pt x="6524" y="5407"/>
                </a:cubicBezTo>
                <a:cubicBezTo>
                  <a:pt x="6489" y="5417"/>
                  <a:pt x="6401" y="5411"/>
                  <a:pt x="6375" y="5383"/>
                </a:cubicBezTo>
                <a:cubicBezTo>
                  <a:pt x="6345" y="5351"/>
                  <a:pt x="6365" y="5266"/>
                  <a:pt x="6400" y="5234"/>
                </a:cubicBezTo>
                <a:cubicBezTo>
                  <a:pt x="6438" y="5199"/>
                  <a:pt x="6519" y="5147"/>
                  <a:pt x="6573" y="5159"/>
                </a:cubicBezTo>
                <a:cubicBezTo>
                  <a:pt x="6659" y="5178"/>
                  <a:pt x="6686" y="5237"/>
                  <a:pt x="6722" y="5308"/>
                </a:cubicBezTo>
                <a:cubicBezTo>
                  <a:pt x="6745" y="5354"/>
                  <a:pt x="6791" y="5409"/>
                  <a:pt x="6796" y="5457"/>
                </a:cubicBezTo>
                <a:cubicBezTo>
                  <a:pt x="6800" y="5493"/>
                  <a:pt x="6802" y="5520"/>
                  <a:pt x="6821" y="5482"/>
                </a:cubicBezTo>
              </a:path>
              <a:path w="3623" h="1390">
                <a:moveTo>
                  <a:pt x="7119" y="5110"/>
                </a:moveTo>
                <a:cubicBezTo>
                  <a:pt x="7078" y="5231"/>
                  <a:pt x="7057" y="5282"/>
                  <a:pt x="7069" y="5383"/>
                </a:cubicBezTo>
                <a:cubicBezTo>
                  <a:pt x="7076" y="5448"/>
                  <a:pt x="7098" y="5451"/>
                  <a:pt x="7169" y="5457"/>
                </a:cubicBezTo>
                <a:cubicBezTo>
                  <a:pt x="7210" y="5460"/>
                  <a:pt x="7261" y="5408"/>
                  <a:pt x="7293" y="5383"/>
                </a:cubicBezTo>
              </a:path>
              <a:path w="3623" h="1390">
                <a:moveTo>
                  <a:pt x="7193" y="4762"/>
                </a:moveTo>
                <a:lnTo>
                  <a:pt x="7193" y="4762"/>
                </a:lnTo>
              </a:path>
              <a:path w="3623" h="1390">
                <a:moveTo>
                  <a:pt x="7665" y="5110"/>
                </a:moveTo>
                <a:cubicBezTo>
                  <a:pt x="7747" y="5102"/>
                  <a:pt x="7780" y="5085"/>
                  <a:pt x="7863" y="5060"/>
                </a:cubicBezTo>
              </a:path>
              <a:path w="3623" h="1390">
                <a:moveTo>
                  <a:pt x="8310" y="4961"/>
                </a:moveTo>
                <a:cubicBezTo>
                  <a:pt x="8310" y="5097"/>
                  <a:pt x="8297" y="5227"/>
                  <a:pt x="8285" y="5358"/>
                </a:cubicBezTo>
                <a:cubicBezTo>
                  <a:pt x="8271" y="5502"/>
                  <a:pt x="8320" y="5671"/>
                  <a:pt x="8260" y="5804"/>
                </a:cubicBezTo>
                <a:cubicBezTo>
                  <a:pt x="8221" y="5892"/>
                  <a:pt x="8220" y="5928"/>
                  <a:pt x="8136" y="5928"/>
                </a:cubicBezTo>
                <a:cubicBezTo>
                  <a:pt x="8069" y="5928"/>
                  <a:pt x="7999" y="5792"/>
                  <a:pt x="7987" y="5755"/>
                </a:cubicBezTo>
                <a:cubicBezTo>
                  <a:pt x="7987" y="5730"/>
                  <a:pt x="7987" y="5705"/>
                  <a:pt x="7987" y="5680"/>
                </a:cubicBezTo>
              </a:path>
              <a:path w="3623" h="1390">
                <a:moveTo>
                  <a:pt x="8210" y="4614"/>
                </a:moveTo>
                <a:cubicBezTo>
                  <a:pt x="8210" y="4589"/>
                  <a:pt x="8210" y="4564"/>
                  <a:pt x="8210" y="4539"/>
                </a:cubicBezTo>
                <a:cubicBezTo>
                  <a:pt x="8235" y="4539"/>
                  <a:pt x="8243" y="4539"/>
                  <a:pt x="8260" y="45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97160" y="1527120"/>
            <a:ext cx="231840" cy="704880"/>
          </a:xfrm>
          <a:custGeom>
            <a:avLst/>
            <a:gdLst/>
            <a:ahLst/>
            <a:rect l="l" t="t" r="r" b="b"/>
            <a:pathLst>
              <a:path w="646" h="1960">
                <a:moveTo>
                  <a:pt x="9128" y="4366"/>
                </a:moveTo>
                <a:cubicBezTo>
                  <a:pt x="9128" y="4394"/>
                  <a:pt x="9125" y="4404"/>
                  <a:pt x="9103" y="4415"/>
                </a:cubicBezTo>
              </a:path>
              <a:path w="646" h="1960">
                <a:moveTo>
                  <a:pt x="9252" y="4911"/>
                </a:moveTo>
                <a:cubicBezTo>
                  <a:pt x="9286" y="5028"/>
                  <a:pt x="9380" y="5231"/>
                  <a:pt x="9376" y="5358"/>
                </a:cubicBezTo>
                <a:cubicBezTo>
                  <a:pt x="9373" y="5467"/>
                  <a:pt x="9352" y="5630"/>
                  <a:pt x="9302" y="5730"/>
                </a:cubicBezTo>
                <a:cubicBezTo>
                  <a:pt x="9236" y="5861"/>
                  <a:pt x="9142" y="5936"/>
                  <a:pt x="9054" y="6052"/>
                </a:cubicBezTo>
                <a:cubicBezTo>
                  <a:pt x="9021" y="6095"/>
                  <a:pt x="8967" y="6188"/>
                  <a:pt x="8905" y="6176"/>
                </a:cubicBezTo>
                <a:cubicBezTo>
                  <a:pt x="8880" y="6176"/>
                  <a:pt x="8872" y="6176"/>
                  <a:pt x="8880" y="6152"/>
                </a:cubicBezTo>
              </a:path>
              <a:path w="646" h="1960">
                <a:moveTo>
                  <a:pt x="9128" y="4390"/>
                </a:moveTo>
                <a:cubicBezTo>
                  <a:pt x="9136" y="4415"/>
                  <a:pt x="9145" y="4440"/>
                  <a:pt x="9153" y="4465"/>
                </a:cubicBezTo>
                <a:cubicBezTo>
                  <a:pt x="9189" y="4438"/>
                  <a:pt x="9202" y="4434"/>
                  <a:pt x="9227" y="4415"/>
                </a:cubicBezTo>
                <a:cubicBezTo>
                  <a:pt x="9272" y="4381"/>
                  <a:pt x="9258" y="4319"/>
                  <a:pt x="9252" y="4291"/>
                </a:cubicBezTo>
                <a:cubicBezTo>
                  <a:pt x="9252" y="4283"/>
                  <a:pt x="9252" y="4274"/>
                  <a:pt x="9252" y="4266"/>
                </a:cubicBezTo>
                <a:cubicBezTo>
                  <a:pt x="9183" y="4233"/>
                  <a:pt x="9182" y="4291"/>
                  <a:pt x="9153" y="4341"/>
                </a:cubicBezTo>
                <a:cubicBezTo>
                  <a:pt x="9106" y="4421"/>
                  <a:pt x="9103" y="4366"/>
                  <a:pt x="9128" y="4465"/>
                </a:cubicBezTo>
                <a:cubicBezTo>
                  <a:pt x="9137" y="4500"/>
                  <a:pt x="9181" y="4509"/>
                  <a:pt x="9227" y="4514"/>
                </a:cubicBezTo>
                <a:cubicBezTo>
                  <a:pt x="9253" y="4517"/>
                  <a:pt x="9328" y="4480"/>
                  <a:pt x="9351" y="4465"/>
                </a:cubicBezTo>
                <a:cubicBezTo>
                  <a:pt x="9393" y="4437"/>
                  <a:pt x="9401" y="4412"/>
                  <a:pt x="9401" y="4366"/>
                </a:cubicBezTo>
                <a:cubicBezTo>
                  <a:pt x="9401" y="4341"/>
                  <a:pt x="9401" y="4333"/>
                  <a:pt x="9401" y="4316"/>
                </a:cubicBezTo>
                <a:cubicBezTo>
                  <a:pt x="9334" y="4316"/>
                  <a:pt x="9305" y="4320"/>
                  <a:pt x="9252" y="4366"/>
                </a:cubicBezTo>
                <a:cubicBezTo>
                  <a:pt x="9221" y="4393"/>
                  <a:pt x="9212" y="4404"/>
                  <a:pt x="9203" y="4440"/>
                </a:cubicBezTo>
                <a:cubicBezTo>
                  <a:pt x="9241" y="4440"/>
                  <a:pt x="9307" y="4456"/>
                  <a:pt x="9327" y="4415"/>
                </a:cubicBezTo>
                <a:cubicBezTo>
                  <a:pt x="9337" y="4396"/>
                  <a:pt x="9366" y="4343"/>
                  <a:pt x="9351" y="4316"/>
                </a:cubicBezTo>
                <a:cubicBezTo>
                  <a:pt x="9337" y="4290"/>
                  <a:pt x="9318" y="4243"/>
                  <a:pt x="9277" y="4266"/>
                </a:cubicBezTo>
                <a:cubicBezTo>
                  <a:pt x="9251" y="4281"/>
                  <a:pt x="9224" y="4319"/>
                  <a:pt x="9203" y="4341"/>
                </a:cubicBezTo>
              </a:path>
              <a:path w="646" h="1960">
                <a:moveTo>
                  <a:pt x="9227" y="4887"/>
                </a:moveTo>
                <a:cubicBezTo>
                  <a:pt x="9260" y="4906"/>
                  <a:pt x="9301" y="4920"/>
                  <a:pt x="9327" y="4961"/>
                </a:cubicBezTo>
                <a:cubicBezTo>
                  <a:pt x="9395" y="5069"/>
                  <a:pt x="9431" y="5191"/>
                  <a:pt x="9475" y="5308"/>
                </a:cubicBezTo>
                <a:cubicBezTo>
                  <a:pt x="9523" y="5436"/>
                  <a:pt x="9543" y="5505"/>
                  <a:pt x="9500" y="5631"/>
                </a:cubicBezTo>
                <a:cubicBezTo>
                  <a:pt x="9462" y="5743"/>
                  <a:pt x="9434" y="5796"/>
                  <a:pt x="9351" y="5879"/>
                </a:cubicBezTo>
                <a:cubicBezTo>
                  <a:pt x="9295" y="5935"/>
                  <a:pt x="9220" y="6008"/>
                  <a:pt x="9153" y="6052"/>
                </a:cubicBezTo>
                <a:cubicBezTo>
                  <a:pt x="9095" y="6090"/>
                  <a:pt x="9084" y="6099"/>
                  <a:pt x="9054" y="6152"/>
                </a:cubicBezTo>
                <a:cubicBezTo>
                  <a:pt x="9059" y="6114"/>
                  <a:pt x="9060" y="6083"/>
                  <a:pt x="9079" y="6052"/>
                </a:cubicBezTo>
                <a:cubicBezTo>
                  <a:pt x="9106" y="6008"/>
                  <a:pt x="9132" y="5975"/>
                  <a:pt x="9153" y="5928"/>
                </a:cubicBezTo>
                <a:cubicBezTo>
                  <a:pt x="9180" y="5869"/>
                  <a:pt x="9238" y="5820"/>
                  <a:pt x="9252" y="5755"/>
                </a:cubicBezTo>
                <a:cubicBezTo>
                  <a:pt x="9265" y="5696"/>
                  <a:pt x="9290" y="5639"/>
                  <a:pt x="9302" y="5581"/>
                </a:cubicBezTo>
                <a:cubicBezTo>
                  <a:pt x="9311" y="5537"/>
                  <a:pt x="9345" y="5474"/>
                  <a:pt x="9351" y="5457"/>
                </a:cubicBezTo>
                <a:cubicBezTo>
                  <a:pt x="9351" y="5449"/>
                  <a:pt x="9351" y="5440"/>
                  <a:pt x="9351" y="5432"/>
                </a:cubicBezTo>
                <a:cubicBezTo>
                  <a:pt x="9372" y="5453"/>
                  <a:pt x="9390" y="5460"/>
                  <a:pt x="9401" y="5507"/>
                </a:cubicBezTo>
                <a:cubicBezTo>
                  <a:pt x="9426" y="5613"/>
                  <a:pt x="9413" y="5812"/>
                  <a:pt x="9376" y="5904"/>
                </a:cubicBezTo>
                <a:cubicBezTo>
                  <a:pt x="9351" y="5966"/>
                  <a:pt x="9311" y="6000"/>
                  <a:pt x="9277" y="6052"/>
                </a:cubicBezTo>
                <a:cubicBezTo>
                  <a:pt x="9251" y="6092"/>
                  <a:pt x="9223" y="6132"/>
                  <a:pt x="9203" y="6152"/>
                </a:cubicBezTo>
                <a:cubicBezTo>
                  <a:pt x="9178" y="6177"/>
                  <a:pt x="9143" y="6189"/>
                  <a:pt x="9128" y="6201"/>
                </a:cubicBezTo>
                <a:cubicBezTo>
                  <a:pt x="9103" y="6201"/>
                  <a:pt x="9095" y="6201"/>
                  <a:pt x="9128" y="62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98920" y="1785960"/>
            <a:ext cx="419040" cy="206280"/>
          </a:xfrm>
          <a:custGeom>
            <a:avLst/>
            <a:gdLst/>
            <a:ahLst/>
            <a:rect l="l" t="t" r="r" b="b"/>
            <a:pathLst>
              <a:path w="1167" h="571">
                <a:moveTo>
                  <a:pt x="10021" y="5110"/>
                </a:moveTo>
                <a:cubicBezTo>
                  <a:pt x="10015" y="5239"/>
                  <a:pt x="10002" y="5296"/>
                  <a:pt x="10021" y="5407"/>
                </a:cubicBezTo>
                <a:cubicBezTo>
                  <a:pt x="10034" y="5482"/>
                  <a:pt x="10064" y="5506"/>
                  <a:pt x="10145" y="5531"/>
                </a:cubicBezTo>
                <a:cubicBezTo>
                  <a:pt x="10195" y="5546"/>
                  <a:pt x="10250" y="5527"/>
                  <a:pt x="10294" y="5507"/>
                </a:cubicBezTo>
                <a:cubicBezTo>
                  <a:pt x="10365" y="5474"/>
                  <a:pt x="10374" y="5441"/>
                  <a:pt x="10418" y="5383"/>
                </a:cubicBezTo>
                <a:cubicBezTo>
                  <a:pt x="10447" y="5344"/>
                  <a:pt x="10460" y="5294"/>
                  <a:pt x="10492" y="5283"/>
                </a:cubicBezTo>
                <a:cubicBezTo>
                  <a:pt x="10492" y="5330"/>
                  <a:pt x="10472" y="5362"/>
                  <a:pt x="10468" y="5407"/>
                </a:cubicBezTo>
                <a:cubicBezTo>
                  <a:pt x="10466" y="5427"/>
                  <a:pt x="10495" y="5500"/>
                  <a:pt x="10517" y="5507"/>
                </a:cubicBezTo>
                <a:cubicBezTo>
                  <a:pt x="10571" y="5524"/>
                  <a:pt x="10645" y="5503"/>
                  <a:pt x="10691" y="5482"/>
                </a:cubicBezTo>
                <a:cubicBezTo>
                  <a:pt x="10738" y="5461"/>
                  <a:pt x="10801" y="5409"/>
                  <a:pt x="10815" y="5358"/>
                </a:cubicBezTo>
                <a:cubicBezTo>
                  <a:pt x="10833" y="5291"/>
                  <a:pt x="10803" y="5213"/>
                  <a:pt x="10765" y="5159"/>
                </a:cubicBezTo>
                <a:cubicBezTo>
                  <a:pt x="10731" y="5111"/>
                  <a:pt x="10683" y="5110"/>
                  <a:pt x="10641" y="5085"/>
                </a:cubicBezTo>
                <a:cubicBezTo>
                  <a:pt x="10595" y="5057"/>
                  <a:pt x="10616" y="5011"/>
                  <a:pt x="10616" y="5011"/>
                </a:cubicBezTo>
                <a:cubicBezTo>
                  <a:pt x="10626" y="4979"/>
                  <a:pt x="10651" y="4971"/>
                  <a:pt x="10691" y="4961"/>
                </a:cubicBezTo>
              </a:path>
              <a:path w="1167" h="571">
                <a:moveTo>
                  <a:pt x="10939" y="5011"/>
                </a:moveTo>
                <a:cubicBezTo>
                  <a:pt x="11005" y="5011"/>
                  <a:pt x="11071" y="5011"/>
                  <a:pt x="11137" y="5011"/>
                </a:cubicBezTo>
              </a:path>
              <a:path w="1167" h="571">
                <a:moveTo>
                  <a:pt x="10889" y="5234"/>
                </a:moveTo>
                <a:cubicBezTo>
                  <a:pt x="10980" y="5234"/>
                  <a:pt x="11071" y="5234"/>
                  <a:pt x="11162" y="52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70240" y="1687680"/>
            <a:ext cx="366840" cy="322200"/>
          </a:xfrm>
          <a:custGeom>
            <a:avLst/>
            <a:gdLst/>
            <a:ahLst/>
            <a:rect l="l" t="t" r="r" b="b"/>
            <a:pathLst>
              <a:path w="1018" h="894">
                <a:moveTo>
                  <a:pt x="11658" y="5035"/>
                </a:moveTo>
                <a:cubicBezTo>
                  <a:pt x="11633" y="5159"/>
                  <a:pt x="11590" y="5281"/>
                  <a:pt x="11584" y="5407"/>
                </a:cubicBezTo>
                <a:cubicBezTo>
                  <a:pt x="11582" y="5441"/>
                  <a:pt x="11598" y="5567"/>
                  <a:pt x="11633" y="5581"/>
                </a:cubicBezTo>
                <a:cubicBezTo>
                  <a:pt x="11682" y="5600"/>
                  <a:pt x="11792" y="5576"/>
                  <a:pt x="11832" y="5556"/>
                </a:cubicBezTo>
                <a:cubicBezTo>
                  <a:pt x="11895" y="5524"/>
                  <a:pt x="11926" y="5442"/>
                  <a:pt x="11956" y="5383"/>
                </a:cubicBezTo>
              </a:path>
              <a:path w="1018" h="894">
                <a:moveTo>
                  <a:pt x="11683" y="4688"/>
                </a:moveTo>
                <a:cubicBezTo>
                  <a:pt x="11658" y="4688"/>
                  <a:pt x="11650" y="4688"/>
                  <a:pt x="11683" y="4688"/>
                </a:cubicBezTo>
              </a:path>
              <a:path w="1018" h="894">
                <a:moveTo>
                  <a:pt x="12452" y="4762"/>
                </a:moveTo>
                <a:cubicBezTo>
                  <a:pt x="12428" y="4892"/>
                  <a:pt x="12388" y="5025"/>
                  <a:pt x="12402" y="5159"/>
                </a:cubicBezTo>
                <a:cubicBezTo>
                  <a:pt x="12410" y="5235"/>
                  <a:pt x="12482" y="5394"/>
                  <a:pt x="12427" y="5358"/>
                </a:cubicBezTo>
              </a:path>
              <a:path w="1018" h="894">
                <a:moveTo>
                  <a:pt x="12179" y="5135"/>
                </a:moveTo>
                <a:cubicBezTo>
                  <a:pt x="12275" y="5135"/>
                  <a:pt x="12360" y="5120"/>
                  <a:pt x="12452" y="5110"/>
                </a:cubicBezTo>
                <a:cubicBezTo>
                  <a:pt x="12526" y="5110"/>
                  <a:pt x="12551" y="5110"/>
                  <a:pt x="12601" y="51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97280" y="1652760"/>
            <a:ext cx="276480" cy="473040"/>
          </a:xfrm>
          <a:custGeom>
            <a:avLst/>
            <a:gdLst/>
            <a:ahLst/>
            <a:rect l="l" t="t" r="r" b="b"/>
            <a:pathLst>
              <a:path w="770" h="1316">
                <a:moveTo>
                  <a:pt x="13072" y="4663"/>
                </a:moveTo>
                <a:cubicBezTo>
                  <a:pt x="13179" y="4644"/>
                  <a:pt x="13247" y="4619"/>
                  <a:pt x="13345" y="4663"/>
                </a:cubicBezTo>
                <a:cubicBezTo>
                  <a:pt x="13429" y="4700"/>
                  <a:pt x="13419" y="4727"/>
                  <a:pt x="13419" y="4812"/>
                </a:cubicBezTo>
                <a:cubicBezTo>
                  <a:pt x="13419" y="4887"/>
                  <a:pt x="13378" y="4945"/>
                  <a:pt x="13345" y="5011"/>
                </a:cubicBezTo>
                <a:cubicBezTo>
                  <a:pt x="13303" y="5094"/>
                  <a:pt x="13224" y="5135"/>
                  <a:pt x="13171" y="5209"/>
                </a:cubicBezTo>
                <a:cubicBezTo>
                  <a:pt x="13138" y="5255"/>
                  <a:pt x="13100" y="5318"/>
                  <a:pt x="13072" y="5358"/>
                </a:cubicBezTo>
                <a:cubicBezTo>
                  <a:pt x="13037" y="5408"/>
                  <a:pt x="13069" y="5427"/>
                  <a:pt x="13122" y="5432"/>
                </a:cubicBezTo>
                <a:cubicBezTo>
                  <a:pt x="13191" y="5438"/>
                  <a:pt x="13256" y="5434"/>
                  <a:pt x="13320" y="5407"/>
                </a:cubicBezTo>
                <a:cubicBezTo>
                  <a:pt x="13353" y="5391"/>
                  <a:pt x="13386" y="5374"/>
                  <a:pt x="13419" y="5358"/>
                </a:cubicBezTo>
              </a:path>
              <a:path w="770" h="1316">
                <a:moveTo>
                  <a:pt x="13667" y="5060"/>
                </a:moveTo>
                <a:cubicBezTo>
                  <a:pt x="13667" y="5308"/>
                  <a:pt x="13682" y="5565"/>
                  <a:pt x="13643" y="5804"/>
                </a:cubicBezTo>
                <a:cubicBezTo>
                  <a:pt x="13633" y="5866"/>
                  <a:pt x="13637" y="5860"/>
                  <a:pt x="13593" y="5904"/>
                </a:cubicBezTo>
                <a:cubicBezTo>
                  <a:pt x="13528" y="5904"/>
                  <a:pt x="13526" y="5889"/>
                  <a:pt x="13494" y="5829"/>
                </a:cubicBezTo>
                <a:cubicBezTo>
                  <a:pt x="13440" y="5726"/>
                  <a:pt x="13398" y="5683"/>
                  <a:pt x="13395" y="5556"/>
                </a:cubicBezTo>
                <a:cubicBezTo>
                  <a:pt x="13395" y="5440"/>
                  <a:pt x="13395" y="5407"/>
                  <a:pt x="13395" y="5333"/>
                </a:cubicBezTo>
              </a:path>
              <a:path w="770" h="1316">
                <a:moveTo>
                  <a:pt x="13816" y="4589"/>
                </a:moveTo>
                <a:cubicBezTo>
                  <a:pt x="13816" y="4605"/>
                  <a:pt x="13816" y="4622"/>
                  <a:pt x="13816" y="46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16000" y="2776680"/>
            <a:ext cx="509760" cy="312480"/>
          </a:xfrm>
          <a:custGeom>
            <a:avLst/>
            <a:gdLst/>
            <a:ahLst/>
            <a:rect l="l" t="t" r="r" b="b"/>
            <a:pathLst>
              <a:path w="1414" h="869">
                <a:moveTo>
                  <a:pt x="3101" y="7739"/>
                </a:moveTo>
                <a:cubicBezTo>
                  <a:pt x="3108" y="7793"/>
                  <a:pt x="3110" y="7858"/>
                  <a:pt x="3125" y="7913"/>
                </a:cubicBezTo>
                <a:cubicBezTo>
                  <a:pt x="3148" y="7996"/>
                  <a:pt x="3155" y="8077"/>
                  <a:pt x="3175" y="8161"/>
                </a:cubicBezTo>
                <a:cubicBezTo>
                  <a:pt x="3198" y="8258"/>
                  <a:pt x="3274" y="8309"/>
                  <a:pt x="3299" y="8409"/>
                </a:cubicBezTo>
                <a:cubicBezTo>
                  <a:pt x="3312" y="8460"/>
                  <a:pt x="3336" y="8507"/>
                  <a:pt x="3349" y="8558"/>
                </a:cubicBezTo>
                <a:cubicBezTo>
                  <a:pt x="3349" y="8582"/>
                  <a:pt x="3349" y="8590"/>
                  <a:pt x="3373" y="8582"/>
                </a:cubicBezTo>
                <a:cubicBezTo>
                  <a:pt x="3373" y="8511"/>
                  <a:pt x="3374" y="8468"/>
                  <a:pt x="3398" y="8409"/>
                </a:cubicBezTo>
                <a:cubicBezTo>
                  <a:pt x="3431" y="8325"/>
                  <a:pt x="3435" y="8245"/>
                  <a:pt x="3473" y="8161"/>
                </a:cubicBezTo>
                <a:cubicBezTo>
                  <a:pt x="3511" y="8076"/>
                  <a:pt x="3541" y="7997"/>
                  <a:pt x="3572" y="7913"/>
                </a:cubicBezTo>
                <a:cubicBezTo>
                  <a:pt x="3593" y="7857"/>
                  <a:pt x="3649" y="7837"/>
                  <a:pt x="3671" y="7789"/>
                </a:cubicBezTo>
                <a:cubicBezTo>
                  <a:pt x="3685" y="7759"/>
                  <a:pt x="3723" y="7734"/>
                  <a:pt x="3696" y="7714"/>
                </a:cubicBezTo>
                <a:cubicBezTo>
                  <a:pt x="3688" y="7714"/>
                  <a:pt x="3679" y="7714"/>
                  <a:pt x="3671" y="7714"/>
                </a:cubicBezTo>
              </a:path>
              <a:path w="1414" h="869">
                <a:moveTo>
                  <a:pt x="4043" y="7888"/>
                </a:moveTo>
                <a:cubicBezTo>
                  <a:pt x="4144" y="7919"/>
                  <a:pt x="4146" y="7904"/>
                  <a:pt x="4242" y="7888"/>
                </a:cubicBezTo>
                <a:cubicBezTo>
                  <a:pt x="4300" y="7878"/>
                  <a:pt x="4516" y="7888"/>
                  <a:pt x="4490" y="7888"/>
                </a:cubicBezTo>
              </a:path>
              <a:path w="1414" h="869">
                <a:moveTo>
                  <a:pt x="4043" y="8186"/>
                </a:moveTo>
                <a:cubicBezTo>
                  <a:pt x="4113" y="8186"/>
                  <a:pt x="4153" y="8199"/>
                  <a:pt x="4217" y="8210"/>
                </a:cubicBezTo>
                <a:cubicBezTo>
                  <a:pt x="4290" y="8223"/>
                  <a:pt x="4351" y="8273"/>
                  <a:pt x="4390" y="8210"/>
                </a:cubicBezTo>
                <a:cubicBezTo>
                  <a:pt x="4413" y="8188"/>
                  <a:pt x="4421" y="8183"/>
                  <a:pt x="4415" y="81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03240" y="2759040"/>
            <a:ext cx="563760" cy="349200"/>
          </a:xfrm>
          <a:custGeom>
            <a:avLst/>
            <a:gdLst/>
            <a:ahLst/>
            <a:rect l="l" t="t" r="r" b="b"/>
            <a:pathLst>
              <a:path w="1563" h="968">
                <a:moveTo>
                  <a:pt x="5011" y="7938"/>
                </a:moveTo>
                <a:cubicBezTo>
                  <a:pt x="5043" y="8015"/>
                  <a:pt x="5014" y="8030"/>
                  <a:pt x="5011" y="8111"/>
                </a:cubicBezTo>
                <a:cubicBezTo>
                  <a:pt x="5007" y="8217"/>
                  <a:pt x="5023" y="8312"/>
                  <a:pt x="5035" y="8409"/>
                </a:cubicBezTo>
                <a:cubicBezTo>
                  <a:pt x="5044" y="8479"/>
                  <a:pt x="5043" y="8603"/>
                  <a:pt x="5135" y="8632"/>
                </a:cubicBezTo>
                <a:cubicBezTo>
                  <a:pt x="5258" y="8671"/>
                  <a:pt x="5295" y="8596"/>
                  <a:pt x="5358" y="8558"/>
                </a:cubicBezTo>
                <a:cubicBezTo>
                  <a:pt x="5408" y="8528"/>
                  <a:pt x="5450" y="8481"/>
                  <a:pt x="5482" y="8409"/>
                </a:cubicBezTo>
                <a:cubicBezTo>
                  <a:pt x="5513" y="8340"/>
                  <a:pt x="5552" y="8260"/>
                  <a:pt x="5556" y="8186"/>
                </a:cubicBezTo>
                <a:cubicBezTo>
                  <a:pt x="5560" y="8111"/>
                  <a:pt x="5577" y="8098"/>
                  <a:pt x="5556" y="8037"/>
                </a:cubicBezTo>
                <a:cubicBezTo>
                  <a:pt x="5556" y="8127"/>
                  <a:pt x="5567" y="8201"/>
                  <a:pt x="5581" y="8285"/>
                </a:cubicBezTo>
                <a:cubicBezTo>
                  <a:pt x="5596" y="8372"/>
                  <a:pt x="5600" y="8440"/>
                  <a:pt x="5680" y="8483"/>
                </a:cubicBezTo>
                <a:cubicBezTo>
                  <a:pt x="5746" y="8518"/>
                  <a:pt x="5738" y="8539"/>
                  <a:pt x="5804" y="8558"/>
                </a:cubicBezTo>
                <a:cubicBezTo>
                  <a:pt x="5866" y="8511"/>
                  <a:pt x="5881" y="8510"/>
                  <a:pt x="5953" y="8483"/>
                </a:cubicBezTo>
              </a:path>
              <a:path w="1563" h="968">
                <a:moveTo>
                  <a:pt x="6350" y="7665"/>
                </a:moveTo>
                <a:cubicBezTo>
                  <a:pt x="6330" y="7766"/>
                  <a:pt x="6304" y="7861"/>
                  <a:pt x="6300" y="7962"/>
                </a:cubicBezTo>
                <a:cubicBezTo>
                  <a:pt x="6296" y="8076"/>
                  <a:pt x="6307" y="8179"/>
                  <a:pt x="6325" y="8285"/>
                </a:cubicBezTo>
                <a:cubicBezTo>
                  <a:pt x="6328" y="8303"/>
                  <a:pt x="6331" y="8434"/>
                  <a:pt x="6350" y="8434"/>
                </a:cubicBezTo>
                <a:cubicBezTo>
                  <a:pt x="6350" y="8426"/>
                  <a:pt x="6350" y="8417"/>
                  <a:pt x="6350" y="8409"/>
                </a:cubicBezTo>
              </a:path>
              <a:path w="1563" h="968">
                <a:moveTo>
                  <a:pt x="6152" y="8037"/>
                </a:moveTo>
                <a:cubicBezTo>
                  <a:pt x="6292" y="8037"/>
                  <a:pt x="6433" y="8037"/>
                  <a:pt x="6573" y="80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44840" y="2705040"/>
            <a:ext cx="687240" cy="403200"/>
          </a:xfrm>
          <a:custGeom>
            <a:avLst/>
            <a:gdLst/>
            <a:ahLst/>
            <a:rect l="l" t="t" r="r" b="b"/>
            <a:pathLst>
              <a:path w="1911" h="1117">
                <a:moveTo>
                  <a:pt x="7218" y="7565"/>
                </a:moveTo>
                <a:cubicBezTo>
                  <a:pt x="7309" y="7538"/>
                  <a:pt x="7349" y="7516"/>
                  <a:pt x="7441" y="7516"/>
                </a:cubicBezTo>
                <a:cubicBezTo>
                  <a:pt x="7508" y="7516"/>
                  <a:pt x="7561" y="7552"/>
                  <a:pt x="7590" y="7615"/>
                </a:cubicBezTo>
                <a:cubicBezTo>
                  <a:pt x="7634" y="7712"/>
                  <a:pt x="7607" y="7772"/>
                  <a:pt x="7565" y="7863"/>
                </a:cubicBezTo>
                <a:cubicBezTo>
                  <a:pt x="7521" y="7959"/>
                  <a:pt x="7481" y="8005"/>
                  <a:pt x="7417" y="8086"/>
                </a:cubicBezTo>
                <a:cubicBezTo>
                  <a:pt x="7348" y="8174"/>
                  <a:pt x="7301" y="8239"/>
                  <a:pt x="7218" y="8310"/>
                </a:cubicBezTo>
                <a:cubicBezTo>
                  <a:pt x="7177" y="8345"/>
                  <a:pt x="7121" y="8395"/>
                  <a:pt x="7094" y="8434"/>
                </a:cubicBezTo>
                <a:cubicBezTo>
                  <a:pt x="7066" y="8473"/>
                  <a:pt x="7067" y="8531"/>
                  <a:pt x="7094" y="8558"/>
                </a:cubicBezTo>
                <a:cubicBezTo>
                  <a:pt x="7164" y="8628"/>
                  <a:pt x="7588" y="8539"/>
                  <a:pt x="7640" y="8508"/>
                </a:cubicBezTo>
                <a:cubicBezTo>
                  <a:pt x="7656" y="8500"/>
                  <a:pt x="7673" y="8491"/>
                  <a:pt x="7689" y="8483"/>
                </a:cubicBezTo>
              </a:path>
              <a:path w="1911" h="1117">
                <a:moveTo>
                  <a:pt x="7938" y="8111"/>
                </a:moveTo>
                <a:cubicBezTo>
                  <a:pt x="7924" y="8165"/>
                  <a:pt x="7898" y="8225"/>
                  <a:pt x="7888" y="8285"/>
                </a:cubicBezTo>
                <a:cubicBezTo>
                  <a:pt x="7879" y="8341"/>
                  <a:pt x="7883" y="8396"/>
                  <a:pt x="7888" y="8434"/>
                </a:cubicBezTo>
                <a:cubicBezTo>
                  <a:pt x="7897" y="8503"/>
                  <a:pt x="7940" y="8507"/>
                  <a:pt x="8012" y="8558"/>
                </a:cubicBezTo>
                <a:cubicBezTo>
                  <a:pt x="8035" y="8540"/>
                  <a:pt x="8148" y="8497"/>
                  <a:pt x="8161" y="8483"/>
                </a:cubicBezTo>
                <a:cubicBezTo>
                  <a:pt x="8207" y="8434"/>
                  <a:pt x="8228" y="8387"/>
                  <a:pt x="8260" y="8334"/>
                </a:cubicBezTo>
                <a:cubicBezTo>
                  <a:pt x="8285" y="8294"/>
                  <a:pt x="8285" y="8285"/>
                  <a:pt x="8285" y="8235"/>
                </a:cubicBezTo>
                <a:cubicBezTo>
                  <a:pt x="8285" y="8288"/>
                  <a:pt x="8301" y="8309"/>
                  <a:pt x="8310" y="8359"/>
                </a:cubicBezTo>
                <a:cubicBezTo>
                  <a:pt x="8325" y="8442"/>
                  <a:pt x="8347" y="8452"/>
                  <a:pt x="8409" y="8508"/>
                </a:cubicBezTo>
                <a:cubicBezTo>
                  <a:pt x="8478" y="8569"/>
                  <a:pt x="8539" y="8540"/>
                  <a:pt x="8607" y="8582"/>
                </a:cubicBezTo>
                <a:cubicBezTo>
                  <a:pt x="8624" y="8599"/>
                  <a:pt x="8640" y="8615"/>
                  <a:pt x="8657" y="8632"/>
                </a:cubicBezTo>
                <a:cubicBezTo>
                  <a:pt x="8679" y="8620"/>
                  <a:pt x="8871" y="8569"/>
                  <a:pt x="8880" y="8558"/>
                </a:cubicBezTo>
                <a:cubicBezTo>
                  <a:pt x="8914" y="8516"/>
                  <a:pt x="8964" y="8417"/>
                  <a:pt x="8979" y="8359"/>
                </a:cubicBezTo>
                <a:cubicBezTo>
                  <a:pt x="8994" y="8300"/>
                  <a:pt x="8917" y="8255"/>
                  <a:pt x="8905" y="8210"/>
                </a:cubicBezTo>
                <a:cubicBezTo>
                  <a:pt x="8886" y="8137"/>
                  <a:pt x="8859" y="8155"/>
                  <a:pt x="8830" y="8111"/>
                </a:cubicBezTo>
                <a:cubicBezTo>
                  <a:pt x="8795" y="8058"/>
                  <a:pt x="8826" y="8109"/>
                  <a:pt x="8830" y="8161"/>
                </a:cubicBezTo>
                <a:cubicBezTo>
                  <a:pt x="8830" y="8169"/>
                  <a:pt x="8830" y="8178"/>
                  <a:pt x="8830" y="81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35000" y="3375000"/>
            <a:ext cx="385920" cy="304920"/>
          </a:xfrm>
          <a:custGeom>
            <a:avLst/>
            <a:gdLst/>
            <a:ahLst/>
            <a:rect l="l" t="t" r="r" b="b"/>
            <a:pathLst>
              <a:path w="1068" h="845">
                <a:moveTo>
                  <a:pt x="2877" y="9451"/>
                </a:moveTo>
                <a:cubicBezTo>
                  <a:pt x="2913" y="9522"/>
                  <a:pt x="2943" y="9595"/>
                  <a:pt x="2952" y="9674"/>
                </a:cubicBezTo>
                <a:cubicBezTo>
                  <a:pt x="2964" y="9780"/>
                  <a:pt x="2964" y="9903"/>
                  <a:pt x="2977" y="9996"/>
                </a:cubicBezTo>
                <a:cubicBezTo>
                  <a:pt x="2989" y="10080"/>
                  <a:pt x="2966" y="10146"/>
                  <a:pt x="3001" y="10220"/>
                </a:cubicBezTo>
                <a:cubicBezTo>
                  <a:pt x="3047" y="10205"/>
                  <a:pt x="3042" y="10123"/>
                  <a:pt x="3076" y="10071"/>
                </a:cubicBezTo>
                <a:cubicBezTo>
                  <a:pt x="3120" y="10004"/>
                  <a:pt x="3108" y="9903"/>
                  <a:pt x="3150" y="9823"/>
                </a:cubicBezTo>
                <a:cubicBezTo>
                  <a:pt x="3202" y="9724"/>
                  <a:pt x="3242" y="9619"/>
                  <a:pt x="3299" y="9525"/>
                </a:cubicBezTo>
                <a:cubicBezTo>
                  <a:pt x="3323" y="9485"/>
                  <a:pt x="3356" y="9399"/>
                  <a:pt x="3398" y="9376"/>
                </a:cubicBezTo>
                <a:cubicBezTo>
                  <a:pt x="3423" y="9376"/>
                  <a:pt x="3431" y="9376"/>
                  <a:pt x="3448" y="9376"/>
                </a:cubicBezTo>
              </a:path>
              <a:path w="1068" h="845">
                <a:moveTo>
                  <a:pt x="3671" y="9599"/>
                </a:moveTo>
                <a:cubicBezTo>
                  <a:pt x="3737" y="9599"/>
                  <a:pt x="3804" y="9599"/>
                  <a:pt x="3870" y="9599"/>
                </a:cubicBezTo>
              </a:path>
              <a:path w="1068" h="845">
                <a:moveTo>
                  <a:pt x="3597" y="9823"/>
                </a:moveTo>
                <a:cubicBezTo>
                  <a:pt x="3656" y="9823"/>
                  <a:pt x="3703" y="9829"/>
                  <a:pt x="3746" y="9823"/>
                </a:cubicBezTo>
                <a:cubicBezTo>
                  <a:pt x="3810" y="9815"/>
                  <a:pt x="3879" y="9823"/>
                  <a:pt x="3944" y="98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71760" y="3303720"/>
            <a:ext cx="687240" cy="482400"/>
          </a:xfrm>
          <a:custGeom>
            <a:avLst/>
            <a:gdLst/>
            <a:ahLst/>
            <a:rect l="l" t="t" r="r" b="b"/>
            <a:pathLst>
              <a:path w="1911" h="1340">
                <a:moveTo>
                  <a:pt x="4390" y="9376"/>
                </a:moveTo>
                <a:cubicBezTo>
                  <a:pt x="4406" y="9334"/>
                  <a:pt x="4423" y="9230"/>
                  <a:pt x="4465" y="9227"/>
                </a:cubicBezTo>
                <a:cubicBezTo>
                  <a:pt x="4585" y="9218"/>
                  <a:pt x="4508" y="9185"/>
                  <a:pt x="4614" y="9227"/>
                </a:cubicBezTo>
                <a:cubicBezTo>
                  <a:pt x="4702" y="9262"/>
                  <a:pt x="4701" y="9268"/>
                  <a:pt x="4738" y="9376"/>
                </a:cubicBezTo>
                <a:cubicBezTo>
                  <a:pt x="4786" y="9519"/>
                  <a:pt x="4763" y="9683"/>
                  <a:pt x="4713" y="9823"/>
                </a:cubicBezTo>
                <a:cubicBezTo>
                  <a:pt x="4682" y="9909"/>
                  <a:pt x="4601" y="9944"/>
                  <a:pt x="4539" y="9996"/>
                </a:cubicBezTo>
                <a:cubicBezTo>
                  <a:pt x="4497" y="10032"/>
                  <a:pt x="4468" y="10065"/>
                  <a:pt x="4415" y="10071"/>
                </a:cubicBezTo>
                <a:cubicBezTo>
                  <a:pt x="4407" y="10071"/>
                  <a:pt x="4398" y="10071"/>
                  <a:pt x="4390" y="10071"/>
                </a:cubicBezTo>
                <a:cubicBezTo>
                  <a:pt x="4355" y="10010"/>
                  <a:pt x="4371" y="9981"/>
                  <a:pt x="4415" y="9922"/>
                </a:cubicBezTo>
                <a:cubicBezTo>
                  <a:pt x="4445" y="9882"/>
                  <a:pt x="4492" y="9853"/>
                  <a:pt x="4539" y="9847"/>
                </a:cubicBezTo>
                <a:cubicBezTo>
                  <a:pt x="4600" y="9840"/>
                  <a:pt x="4665" y="9854"/>
                  <a:pt x="4688" y="9897"/>
                </a:cubicBezTo>
                <a:cubicBezTo>
                  <a:pt x="4743" y="9999"/>
                  <a:pt x="4727" y="9961"/>
                  <a:pt x="4762" y="10071"/>
                </a:cubicBezTo>
                <a:cubicBezTo>
                  <a:pt x="4782" y="10135"/>
                  <a:pt x="4773" y="10151"/>
                  <a:pt x="4762" y="10220"/>
                </a:cubicBezTo>
              </a:path>
              <a:path w="1911" h="1340">
                <a:moveTo>
                  <a:pt x="5159" y="9674"/>
                </a:moveTo>
                <a:cubicBezTo>
                  <a:pt x="5136" y="9754"/>
                  <a:pt x="5113" y="9814"/>
                  <a:pt x="5110" y="9897"/>
                </a:cubicBezTo>
                <a:cubicBezTo>
                  <a:pt x="5107" y="9967"/>
                  <a:pt x="5129" y="10015"/>
                  <a:pt x="5159" y="10071"/>
                </a:cubicBezTo>
                <a:cubicBezTo>
                  <a:pt x="5180" y="10111"/>
                  <a:pt x="5248" y="10159"/>
                  <a:pt x="5308" y="10120"/>
                </a:cubicBezTo>
                <a:cubicBezTo>
                  <a:pt x="5330" y="10077"/>
                  <a:pt x="5334" y="10065"/>
                  <a:pt x="5358" y="10046"/>
                </a:cubicBezTo>
              </a:path>
              <a:path w="1911" h="1340">
                <a:moveTo>
                  <a:pt x="5209" y="9376"/>
                </a:moveTo>
                <a:lnTo>
                  <a:pt x="5209" y="9376"/>
                </a:lnTo>
              </a:path>
              <a:path w="1911" h="1340">
                <a:moveTo>
                  <a:pt x="5581" y="9773"/>
                </a:moveTo>
                <a:cubicBezTo>
                  <a:pt x="5667" y="9773"/>
                  <a:pt x="5703" y="9753"/>
                  <a:pt x="5779" y="9748"/>
                </a:cubicBezTo>
                <a:cubicBezTo>
                  <a:pt x="5829" y="9748"/>
                  <a:pt x="5846" y="9748"/>
                  <a:pt x="5879" y="9748"/>
                </a:cubicBezTo>
              </a:path>
              <a:path w="1911" h="1340">
                <a:moveTo>
                  <a:pt x="6201" y="9599"/>
                </a:moveTo>
                <a:cubicBezTo>
                  <a:pt x="6221" y="9691"/>
                  <a:pt x="6226" y="9754"/>
                  <a:pt x="6226" y="9847"/>
                </a:cubicBezTo>
                <a:cubicBezTo>
                  <a:pt x="6226" y="10010"/>
                  <a:pt x="6273" y="10301"/>
                  <a:pt x="6201" y="10443"/>
                </a:cubicBezTo>
                <a:cubicBezTo>
                  <a:pt x="6185" y="10475"/>
                  <a:pt x="6154" y="10546"/>
                  <a:pt x="6102" y="10517"/>
                </a:cubicBezTo>
                <a:cubicBezTo>
                  <a:pt x="6040" y="10482"/>
                  <a:pt x="6017" y="10422"/>
                  <a:pt x="6003" y="10344"/>
                </a:cubicBezTo>
                <a:cubicBezTo>
                  <a:pt x="6003" y="10327"/>
                  <a:pt x="6003" y="10311"/>
                  <a:pt x="6003" y="10294"/>
                </a:cubicBezTo>
              </a:path>
              <a:path w="1911" h="1340">
                <a:moveTo>
                  <a:pt x="6201" y="9327"/>
                </a:moveTo>
                <a:cubicBezTo>
                  <a:pt x="6242" y="9307"/>
                  <a:pt x="6248" y="9298"/>
                  <a:pt x="6276" y="93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82920" y="3429000"/>
            <a:ext cx="142920" cy="169920"/>
          </a:xfrm>
          <a:custGeom>
            <a:avLst/>
            <a:gdLst/>
            <a:ahLst/>
            <a:rect l="l" t="t" r="r" b="b"/>
            <a:pathLst>
              <a:path w="398" h="472">
                <a:moveTo>
                  <a:pt x="6995" y="9525"/>
                </a:moveTo>
                <a:cubicBezTo>
                  <a:pt x="6995" y="9645"/>
                  <a:pt x="7015" y="9730"/>
                  <a:pt x="7020" y="9847"/>
                </a:cubicBezTo>
                <a:cubicBezTo>
                  <a:pt x="7021" y="9873"/>
                  <a:pt x="7043" y="10000"/>
                  <a:pt x="7045" y="9996"/>
                </a:cubicBezTo>
                <a:cubicBezTo>
                  <a:pt x="7045" y="9988"/>
                  <a:pt x="7045" y="9979"/>
                  <a:pt x="7045" y="9971"/>
                </a:cubicBezTo>
              </a:path>
              <a:path w="398" h="472">
                <a:moveTo>
                  <a:pt x="6896" y="9674"/>
                </a:moveTo>
                <a:cubicBezTo>
                  <a:pt x="7001" y="9674"/>
                  <a:pt x="7102" y="9679"/>
                  <a:pt x="7193" y="9699"/>
                </a:cubicBezTo>
                <a:cubicBezTo>
                  <a:pt x="7261" y="9714"/>
                  <a:pt x="7254" y="9687"/>
                  <a:pt x="7293" y="96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84320" y="3348000"/>
            <a:ext cx="938520" cy="430200"/>
          </a:xfrm>
          <a:custGeom>
            <a:avLst/>
            <a:gdLst/>
            <a:ahLst/>
            <a:rect l="l" t="t" r="r" b="b"/>
            <a:pathLst>
              <a:path w="2605" h="1191">
                <a:moveTo>
                  <a:pt x="8235" y="9327"/>
                </a:moveTo>
                <a:cubicBezTo>
                  <a:pt x="8279" y="9308"/>
                  <a:pt x="8333" y="9285"/>
                  <a:pt x="8384" y="9302"/>
                </a:cubicBezTo>
                <a:cubicBezTo>
                  <a:pt x="8473" y="9332"/>
                  <a:pt x="8531" y="9585"/>
                  <a:pt x="8483" y="9674"/>
                </a:cubicBezTo>
                <a:cubicBezTo>
                  <a:pt x="8451" y="9733"/>
                  <a:pt x="8379" y="9828"/>
                  <a:pt x="8334" y="9897"/>
                </a:cubicBezTo>
                <a:cubicBezTo>
                  <a:pt x="8307" y="9939"/>
                  <a:pt x="8204" y="10026"/>
                  <a:pt x="8161" y="10046"/>
                </a:cubicBezTo>
                <a:cubicBezTo>
                  <a:pt x="8107" y="10071"/>
                  <a:pt x="8054" y="10042"/>
                  <a:pt x="8037" y="9996"/>
                </a:cubicBezTo>
                <a:cubicBezTo>
                  <a:pt x="8014" y="9932"/>
                  <a:pt x="8024" y="9906"/>
                  <a:pt x="8037" y="9847"/>
                </a:cubicBezTo>
                <a:cubicBezTo>
                  <a:pt x="8087" y="9847"/>
                  <a:pt x="8123" y="9875"/>
                  <a:pt x="8161" y="9897"/>
                </a:cubicBezTo>
                <a:cubicBezTo>
                  <a:pt x="8216" y="9929"/>
                  <a:pt x="8224" y="10010"/>
                  <a:pt x="8285" y="10046"/>
                </a:cubicBezTo>
                <a:cubicBezTo>
                  <a:pt x="8324" y="10069"/>
                  <a:pt x="8358" y="10071"/>
                  <a:pt x="8409" y="10071"/>
                </a:cubicBezTo>
                <a:cubicBezTo>
                  <a:pt x="8462" y="10071"/>
                  <a:pt x="8482" y="10035"/>
                  <a:pt x="8508" y="9996"/>
                </a:cubicBezTo>
              </a:path>
              <a:path w="2605" h="1191">
                <a:moveTo>
                  <a:pt x="8781" y="9699"/>
                </a:moveTo>
                <a:cubicBezTo>
                  <a:pt x="8781" y="9776"/>
                  <a:pt x="8758" y="9899"/>
                  <a:pt x="8806" y="9971"/>
                </a:cubicBezTo>
                <a:cubicBezTo>
                  <a:pt x="8848" y="10034"/>
                  <a:pt x="8853" y="10046"/>
                  <a:pt x="8930" y="10046"/>
                </a:cubicBezTo>
                <a:cubicBezTo>
                  <a:pt x="8981" y="10046"/>
                  <a:pt x="8999" y="10044"/>
                  <a:pt x="9004" y="9996"/>
                </a:cubicBezTo>
              </a:path>
              <a:path w="2605" h="1191">
                <a:moveTo>
                  <a:pt x="8806" y="9401"/>
                </a:moveTo>
                <a:cubicBezTo>
                  <a:pt x="8828" y="9378"/>
                  <a:pt x="8833" y="9370"/>
                  <a:pt x="8855" y="9376"/>
                </a:cubicBezTo>
              </a:path>
              <a:path w="2605" h="1191">
                <a:moveTo>
                  <a:pt x="9401" y="9376"/>
                </a:moveTo>
                <a:cubicBezTo>
                  <a:pt x="9401" y="9509"/>
                  <a:pt x="9391" y="9622"/>
                  <a:pt x="9376" y="9748"/>
                </a:cubicBezTo>
                <a:cubicBezTo>
                  <a:pt x="9371" y="9793"/>
                  <a:pt x="9386" y="9875"/>
                  <a:pt x="9401" y="9922"/>
                </a:cubicBezTo>
                <a:cubicBezTo>
                  <a:pt x="9427" y="10004"/>
                  <a:pt x="9410" y="9977"/>
                  <a:pt x="9401" y="9922"/>
                </a:cubicBezTo>
              </a:path>
              <a:path w="2605" h="1191">
                <a:moveTo>
                  <a:pt x="9178" y="9674"/>
                </a:moveTo>
                <a:cubicBezTo>
                  <a:pt x="9302" y="9674"/>
                  <a:pt x="9426" y="9674"/>
                  <a:pt x="9550" y="9674"/>
                </a:cubicBezTo>
              </a:path>
              <a:path w="2605" h="1191">
                <a:moveTo>
                  <a:pt x="9872" y="9475"/>
                </a:moveTo>
                <a:cubicBezTo>
                  <a:pt x="9864" y="9532"/>
                  <a:pt x="9827" y="9565"/>
                  <a:pt x="9823" y="9624"/>
                </a:cubicBezTo>
                <a:cubicBezTo>
                  <a:pt x="9819" y="9685"/>
                  <a:pt x="9869" y="9722"/>
                  <a:pt x="9922" y="9748"/>
                </a:cubicBezTo>
                <a:cubicBezTo>
                  <a:pt x="10001" y="9787"/>
                  <a:pt x="10138" y="9747"/>
                  <a:pt x="10195" y="9699"/>
                </a:cubicBezTo>
              </a:path>
              <a:path w="2605" h="1191">
                <a:moveTo>
                  <a:pt x="10244" y="9302"/>
                </a:moveTo>
                <a:cubicBezTo>
                  <a:pt x="10213" y="9355"/>
                  <a:pt x="10207" y="9437"/>
                  <a:pt x="10195" y="9500"/>
                </a:cubicBezTo>
                <a:cubicBezTo>
                  <a:pt x="10181" y="9577"/>
                  <a:pt x="10151" y="9734"/>
                  <a:pt x="10170" y="9823"/>
                </a:cubicBezTo>
                <a:cubicBezTo>
                  <a:pt x="10179" y="9865"/>
                  <a:pt x="10182" y="9956"/>
                  <a:pt x="10195" y="9996"/>
                </a:cubicBezTo>
                <a:cubicBezTo>
                  <a:pt x="10203" y="10013"/>
                  <a:pt x="10212" y="10029"/>
                  <a:pt x="10220" y="10046"/>
                </a:cubicBezTo>
              </a:path>
              <a:path w="2605" h="1191">
                <a:moveTo>
                  <a:pt x="10517" y="9823"/>
                </a:moveTo>
                <a:cubicBezTo>
                  <a:pt x="10537" y="9923"/>
                  <a:pt x="10561" y="10041"/>
                  <a:pt x="10542" y="10145"/>
                </a:cubicBezTo>
                <a:cubicBezTo>
                  <a:pt x="10525" y="10238"/>
                  <a:pt x="10489" y="10325"/>
                  <a:pt x="10468" y="10418"/>
                </a:cubicBezTo>
                <a:cubicBezTo>
                  <a:pt x="10458" y="10463"/>
                  <a:pt x="10456" y="10474"/>
                  <a:pt x="10418" y="10492"/>
                </a:cubicBezTo>
                <a:cubicBezTo>
                  <a:pt x="10352" y="10460"/>
                  <a:pt x="10351" y="10418"/>
                  <a:pt x="10344" y="10344"/>
                </a:cubicBezTo>
              </a:path>
              <a:path w="2605" h="1191">
                <a:moveTo>
                  <a:pt x="10616" y="9327"/>
                </a:moveTo>
                <a:lnTo>
                  <a:pt x="10616" y="9327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27080" y="4062240"/>
            <a:ext cx="125280" cy="98640"/>
          </a:xfrm>
          <a:custGeom>
            <a:avLst/>
            <a:gdLst/>
            <a:ahLst/>
            <a:rect l="l" t="t" r="r" b="b"/>
            <a:pathLst>
              <a:path w="348" h="274">
                <a:moveTo>
                  <a:pt x="2853" y="11286"/>
                </a:moveTo>
                <a:cubicBezTo>
                  <a:pt x="2908" y="11297"/>
                  <a:pt x="2942" y="11311"/>
                  <a:pt x="3001" y="11311"/>
                </a:cubicBezTo>
                <a:cubicBezTo>
                  <a:pt x="3053" y="11311"/>
                  <a:pt x="3084" y="11299"/>
                  <a:pt x="3125" y="11286"/>
                </a:cubicBezTo>
                <a:cubicBezTo>
                  <a:pt x="3158" y="11286"/>
                  <a:pt x="3175" y="11286"/>
                  <a:pt x="3200" y="11286"/>
                </a:cubicBezTo>
              </a:path>
              <a:path w="348" h="274">
                <a:moveTo>
                  <a:pt x="2902" y="11509"/>
                </a:moveTo>
                <a:cubicBezTo>
                  <a:pt x="2940" y="11537"/>
                  <a:pt x="2953" y="11534"/>
                  <a:pt x="3001" y="11534"/>
                </a:cubicBezTo>
                <a:cubicBezTo>
                  <a:pt x="3057" y="11534"/>
                  <a:pt x="3071" y="11559"/>
                  <a:pt x="3125" y="11559"/>
                </a:cubicBezTo>
                <a:cubicBezTo>
                  <a:pt x="3150" y="11559"/>
                  <a:pt x="3158" y="11559"/>
                  <a:pt x="3175" y="115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1840" y="3973680"/>
            <a:ext cx="955440" cy="544320"/>
          </a:xfrm>
          <a:custGeom>
            <a:avLst/>
            <a:gdLst/>
            <a:ahLst/>
            <a:rect l="l" t="t" r="r" b="b"/>
            <a:pathLst>
              <a:path w="2655" h="1514">
                <a:moveTo>
                  <a:pt x="3994" y="11212"/>
                </a:moveTo>
                <a:cubicBezTo>
                  <a:pt x="3989" y="11298"/>
                  <a:pt x="3989" y="11385"/>
                  <a:pt x="3944" y="11460"/>
                </a:cubicBezTo>
                <a:cubicBezTo>
                  <a:pt x="3922" y="11496"/>
                  <a:pt x="3904" y="11518"/>
                  <a:pt x="3894" y="11559"/>
                </a:cubicBezTo>
                <a:cubicBezTo>
                  <a:pt x="3945" y="11559"/>
                  <a:pt x="3953" y="11570"/>
                  <a:pt x="3994" y="11584"/>
                </a:cubicBezTo>
                <a:cubicBezTo>
                  <a:pt x="4001" y="11586"/>
                  <a:pt x="4140" y="11609"/>
                  <a:pt x="4142" y="11609"/>
                </a:cubicBezTo>
                <a:cubicBezTo>
                  <a:pt x="4184" y="11605"/>
                  <a:pt x="4270" y="11581"/>
                  <a:pt x="4291" y="11534"/>
                </a:cubicBezTo>
                <a:cubicBezTo>
                  <a:pt x="4291" y="11526"/>
                  <a:pt x="4291" y="11517"/>
                  <a:pt x="4291" y="11509"/>
                </a:cubicBezTo>
              </a:path>
              <a:path w="2655" h="1514">
                <a:moveTo>
                  <a:pt x="4266" y="11088"/>
                </a:moveTo>
                <a:cubicBezTo>
                  <a:pt x="4242" y="11154"/>
                  <a:pt x="4225" y="11240"/>
                  <a:pt x="4217" y="11311"/>
                </a:cubicBezTo>
                <a:cubicBezTo>
                  <a:pt x="4196" y="11486"/>
                  <a:pt x="4210" y="11687"/>
                  <a:pt x="4242" y="11857"/>
                </a:cubicBezTo>
                <a:cubicBezTo>
                  <a:pt x="4242" y="11881"/>
                  <a:pt x="4242" y="11889"/>
                  <a:pt x="4266" y="11881"/>
                </a:cubicBezTo>
              </a:path>
              <a:path w="2655" h="1514">
                <a:moveTo>
                  <a:pt x="4638" y="11658"/>
                </a:moveTo>
                <a:cubicBezTo>
                  <a:pt x="4679" y="11843"/>
                  <a:pt x="4689" y="11875"/>
                  <a:pt x="4663" y="12030"/>
                </a:cubicBezTo>
                <a:cubicBezTo>
                  <a:pt x="4651" y="12101"/>
                  <a:pt x="4640" y="12127"/>
                  <a:pt x="4589" y="12179"/>
                </a:cubicBezTo>
                <a:cubicBezTo>
                  <a:pt x="4548" y="12221"/>
                  <a:pt x="4500" y="12202"/>
                  <a:pt x="4465" y="12154"/>
                </a:cubicBezTo>
                <a:cubicBezTo>
                  <a:pt x="4429" y="12104"/>
                  <a:pt x="4411" y="12037"/>
                  <a:pt x="4390" y="11981"/>
                </a:cubicBezTo>
              </a:path>
              <a:path w="2655" h="1514">
                <a:moveTo>
                  <a:pt x="4713" y="11162"/>
                </a:moveTo>
                <a:cubicBezTo>
                  <a:pt x="4783" y="11114"/>
                  <a:pt x="4744" y="11120"/>
                  <a:pt x="4812" y="11137"/>
                </a:cubicBezTo>
              </a:path>
              <a:path w="2655" h="1514">
                <a:moveTo>
                  <a:pt x="5209" y="11385"/>
                </a:moveTo>
                <a:cubicBezTo>
                  <a:pt x="5209" y="11444"/>
                  <a:pt x="5209" y="11821"/>
                  <a:pt x="5209" y="11832"/>
                </a:cubicBezTo>
              </a:path>
              <a:path w="2655" h="1514">
                <a:moveTo>
                  <a:pt x="4986" y="11584"/>
                </a:moveTo>
                <a:cubicBezTo>
                  <a:pt x="5098" y="11584"/>
                  <a:pt x="5204" y="11594"/>
                  <a:pt x="5308" y="11559"/>
                </a:cubicBezTo>
              </a:path>
              <a:path w="2655" h="1514">
                <a:moveTo>
                  <a:pt x="5631" y="11187"/>
                </a:moveTo>
                <a:cubicBezTo>
                  <a:pt x="5711" y="11126"/>
                  <a:pt x="5714" y="11129"/>
                  <a:pt x="5804" y="11162"/>
                </a:cubicBezTo>
                <a:cubicBezTo>
                  <a:pt x="5865" y="11184"/>
                  <a:pt x="5934" y="11215"/>
                  <a:pt x="5953" y="11286"/>
                </a:cubicBezTo>
                <a:cubicBezTo>
                  <a:pt x="5968" y="11341"/>
                  <a:pt x="5924" y="11406"/>
                  <a:pt x="5879" y="11435"/>
                </a:cubicBezTo>
                <a:cubicBezTo>
                  <a:pt x="5848" y="11455"/>
                  <a:pt x="5787" y="11495"/>
                  <a:pt x="5755" y="11509"/>
                </a:cubicBezTo>
                <a:cubicBezTo>
                  <a:pt x="5747" y="11509"/>
                  <a:pt x="5738" y="11509"/>
                  <a:pt x="5730" y="11509"/>
                </a:cubicBezTo>
                <a:cubicBezTo>
                  <a:pt x="5746" y="11557"/>
                  <a:pt x="5778" y="11541"/>
                  <a:pt x="5829" y="11559"/>
                </a:cubicBezTo>
                <a:cubicBezTo>
                  <a:pt x="5917" y="11590"/>
                  <a:pt x="6002" y="11685"/>
                  <a:pt x="6052" y="11757"/>
                </a:cubicBezTo>
                <a:cubicBezTo>
                  <a:pt x="6088" y="11809"/>
                  <a:pt x="6076" y="11881"/>
                  <a:pt x="6052" y="11931"/>
                </a:cubicBezTo>
                <a:cubicBezTo>
                  <a:pt x="6039" y="11958"/>
                  <a:pt x="5956" y="11980"/>
                  <a:pt x="5928" y="11981"/>
                </a:cubicBezTo>
                <a:cubicBezTo>
                  <a:pt x="5860" y="11981"/>
                  <a:pt x="5841" y="11984"/>
                  <a:pt x="5804" y="11956"/>
                </a:cubicBezTo>
              </a:path>
              <a:path w="2655" h="1514">
                <a:moveTo>
                  <a:pt x="4415" y="12080"/>
                </a:moveTo>
                <a:cubicBezTo>
                  <a:pt x="4442" y="12119"/>
                  <a:pt x="4457" y="12149"/>
                  <a:pt x="4514" y="12129"/>
                </a:cubicBezTo>
                <a:cubicBezTo>
                  <a:pt x="4595" y="12101"/>
                  <a:pt x="4589" y="12097"/>
                  <a:pt x="4638" y="12030"/>
                </a:cubicBezTo>
                <a:cubicBezTo>
                  <a:pt x="4666" y="11993"/>
                  <a:pt x="4702" y="11929"/>
                  <a:pt x="4713" y="11881"/>
                </a:cubicBezTo>
                <a:cubicBezTo>
                  <a:pt x="4730" y="11806"/>
                  <a:pt x="4713" y="11711"/>
                  <a:pt x="4713" y="11633"/>
                </a:cubicBezTo>
                <a:cubicBezTo>
                  <a:pt x="4673" y="11646"/>
                  <a:pt x="4688" y="11682"/>
                  <a:pt x="4688" y="11733"/>
                </a:cubicBezTo>
                <a:cubicBezTo>
                  <a:pt x="4688" y="11798"/>
                  <a:pt x="4727" y="11841"/>
                  <a:pt x="4738" y="11906"/>
                </a:cubicBezTo>
                <a:cubicBezTo>
                  <a:pt x="4754" y="11999"/>
                  <a:pt x="4778" y="12042"/>
                  <a:pt x="4862" y="12105"/>
                </a:cubicBezTo>
                <a:cubicBezTo>
                  <a:pt x="4923" y="12151"/>
                  <a:pt x="4960" y="12154"/>
                  <a:pt x="5035" y="12154"/>
                </a:cubicBezTo>
                <a:cubicBezTo>
                  <a:pt x="5093" y="12154"/>
                  <a:pt x="5134" y="12162"/>
                  <a:pt x="5184" y="12129"/>
                </a:cubicBezTo>
                <a:cubicBezTo>
                  <a:pt x="5218" y="12107"/>
                  <a:pt x="5209" y="12089"/>
                  <a:pt x="5209" y="12055"/>
                </a:cubicBezTo>
              </a:path>
              <a:path w="2655" h="1514">
                <a:moveTo>
                  <a:pt x="6524" y="11609"/>
                </a:moveTo>
                <a:cubicBezTo>
                  <a:pt x="6524" y="11704"/>
                  <a:pt x="6537" y="11792"/>
                  <a:pt x="6548" y="11881"/>
                </a:cubicBezTo>
                <a:cubicBezTo>
                  <a:pt x="6571" y="12074"/>
                  <a:pt x="6565" y="12318"/>
                  <a:pt x="6524" y="12502"/>
                </a:cubicBezTo>
                <a:cubicBezTo>
                  <a:pt x="6509" y="12570"/>
                  <a:pt x="6464" y="12559"/>
                  <a:pt x="6400" y="12526"/>
                </a:cubicBezTo>
                <a:cubicBezTo>
                  <a:pt x="6307" y="12477"/>
                  <a:pt x="6276" y="12339"/>
                  <a:pt x="6251" y="12254"/>
                </a:cubicBezTo>
                <a:cubicBezTo>
                  <a:pt x="6243" y="12221"/>
                  <a:pt x="6234" y="12187"/>
                  <a:pt x="6226" y="12154"/>
                </a:cubicBezTo>
              </a:path>
              <a:path w="2655" h="1514">
                <a:moveTo>
                  <a:pt x="6400" y="11038"/>
                </a:moveTo>
                <a:cubicBezTo>
                  <a:pt x="6446" y="11038"/>
                  <a:pt x="6423" y="11055"/>
                  <a:pt x="6400" y="110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8960" y="4660920"/>
            <a:ext cx="438120" cy="500040"/>
          </a:xfrm>
          <a:custGeom>
            <a:avLst/>
            <a:gdLst/>
            <a:ahLst/>
            <a:rect l="l" t="t" r="r" b="b"/>
            <a:pathLst>
              <a:path w="1217" h="1390">
                <a:moveTo>
                  <a:pt x="1637" y="13295"/>
                </a:moveTo>
                <a:cubicBezTo>
                  <a:pt x="1754" y="13295"/>
                  <a:pt x="1967" y="13337"/>
                  <a:pt x="2059" y="13271"/>
                </a:cubicBezTo>
              </a:path>
              <a:path w="1217" h="1390">
                <a:moveTo>
                  <a:pt x="1662" y="13246"/>
                </a:moveTo>
                <a:cubicBezTo>
                  <a:pt x="1641" y="13302"/>
                  <a:pt x="1637" y="13336"/>
                  <a:pt x="1637" y="13395"/>
                </a:cubicBezTo>
                <a:cubicBezTo>
                  <a:pt x="1637" y="13419"/>
                  <a:pt x="1637" y="13428"/>
                  <a:pt x="1637" y="13444"/>
                </a:cubicBezTo>
                <a:cubicBezTo>
                  <a:pt x="1674" y="13444"/>
                  <a:pt x="1709" y="13437"/>
                  <a:pt x="1736" y="13419"/>
                </a:cubicBezTo>
                <a:cubicBezTo>
                  <a:pt x="1789" y="13385"/>
                  <a:pt x="1810" y="13397"/>
                  <a:pt x="1860" y="13444"/>
                </a:cubicBezTo>
                <a:cubicBezTo>
                  <a:pt x="1965" y="13545"/>
                  <a:pt x="1948" y="13542"/>
                  <a:pt x="1984" y="13667"/>
                </a:cubicBezTo>
                <a:cubicBezTo>
                  <a:pt x="2006" y="13745"/>
                  <a:pt x="2009" y="13806"/>
                  <a:pt x="2009" y="13891"/>
                </a:cubicBezTo>
                <a:cubicBezTo>
                  <a:pt x="2009" y="13962"/>
                  <a:pt x="1979" y="13979"/>
                  <a:pt x="1935" y="14015"/>
                </a:cubicBezTo>
                <a:cubicBezTo>
                  <a:pt x="1881" y="14058"/>
                  <a:pt x="1864" y="14025"/>
                  <a:pt x="1811" y="14015"/>
                </a:cubicBezTo>
                <a:cubicBezTo>
                  <a:pt x="1744" y="14002"/>
                  <a:pt x="1737" y="13990"/>
                  <a:pt x="1687" y="13940"/>
                </a:cubicBezTo>
                <a:cubicBezTo>
                  <a:pt x="1634" y="13887"/>
                  <a:pt x="1670" y="13858"/>
                  <a:pt x="1712" y="13816"/>
                </a:cubicBezTo>
                <a:cubicBezTo>
                  <a:pt x="1737" y="13791"/>
                  <a:pt x="1761" y="13767"/>
                  <a:pt x="1786" y="13742"/>
                </a:cubicBezTo>
              </a:path>
              <a:path w="1217" h="1390">
                <a:moveTo>
                  <a:pt x="2431" y="13320"/>
                </a:moveTo>
                <a:cubicBezTo>
                  <a:pt x="2431" y="13521"/>
                  <a:pt x="2432" y="13722"/>
                  <a:pt x="2456" y="13915"/>
                </a:cubicBezTo>
                <a:cubicBezTo>
                  <a:pt x="2466" y="13991"/>
                  <a:pt x="2467" y="14091"/>
                  <a:pt x="2456" y="14139"/>
                </a:cubicBezTo>
                <a:cubicBezTo>
                  <a:pt x="2444" y="14196"/>
                  <a:pt x="2456" y="14128"/>
                  <a:pt x="2456" y="14114"/>
                </a:cubicBezTo>
              </a:path>
              <a:path w="1217" h="1390">
                <a:moveTo>
                  <a:pt x="2257" y="12948"/>
                </a:moveTo>
                <a:cubicBezTo>
                  <a:pt x="2330" y="13012"/>
                  <a:pt x="2397" y="13067"/>
                  <a:pt x="2456" y="13146"/>
                </a:cubicBezTo>
                <a:cubicBezTo>
                  <a:pt x="2542" y="13261"/>
                  <a:pt x="2631" y="13369"/>
                  <a:pt x="2704" y="13494"/>
                </a:cubicBezTo>
                <a:cubicBezTo>
                  <a:pt x="2767" y="13602"/>
                  <a:pt x="2838" y="13740"/>
                  <a:pt x="2853" y="13866"/>
                </a:cubicBezTo>
                <a:cubicBezTo>
                  <a:pt x="2864" y="13960"/>
                  <a:pt x="2864" y="14078"/>
                  <a:pt x="2828" y="14163"/>
                </a:cubicBezTo>
                <a:cubicBezTo>
                  <a:pt x="2806" y="14214"/>
                  <a:pt x="2779" y="14280"/>
                  <a:pt x="2729" y="14312"/>
                </a:cubicBezTo>
                <a:cubicBezTo>
                  <a:pt x="2665" y="14353"/>
                  <a:pt x="2634" y="14339"/>
                  <a:pt x="2580" y="143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4795920"/>
            <a:ext cx="366840" cy="392040"/>
          </a:xfrm>
          <a:custGeom>
            <a:avLst/>
            <a:gdLst/>
            <a:ahLst/>
            <a:rect l="l" t="t" r="r" b="b"/>
            <a:pathLst>
              <a:path w="1018" h="1093">
                <a:moveTo>
                  <a:pt x="3497" y="13543"/>
                </a:moveTo>
                <a:cubicBezTo>
                  <a:pt x="3550" y="13596"/>
                  <a:pt x="3519" y="13561"/>
                  <a:pt x="3547" y="13643"/>
                </a:cubicBezTo>
                <a:cubicBezTo>
                  <a:pt x="3577" y="13733"/>
                  <a:pt x="3630" y="13846"/>
                  <a:pt x="3646" y="13940"/>
                </a:cubicBezTo>
                <a:cubicBezTo>
                  <a:pt x="3663" y="14040"/>
                  <a:pt x="3685" y="14117"/>
                  <a:pt x="3721" y="14213"/>
                </a:cubicBezTo>
                <a:cubicBezTo>
                  <a:pt x="3746" y="14280"/>
                  <a:pt x="3772" y="14333"/>
                  <a:pt x="3820" y="14387"/>
                </a:cubicBezTo>
                <a:cubicBezTo>
                  <a:pt x="3848" y="14418"/>
                  <a:pt x="3819" y="14398"/>
                  <a:pt x="3870" y="14412"/>
                </a:cubicBezTo>
                <a:cubicBezTo>
                  <a:pt x="3888" y="14361"/>
                  <a:pt x="3910" y="14298"/>
                  <a:pt x="3919" y="14238"/>
                </a:cubicBezTo>
                <a:cubicBezTo>
                  <a:pt x="3932" y="14147"/>
                  <a:pt x="3959" y="14055"/>
                  <a:pt x="3969" y="13965"/>
                </a:cubicBezTo>
                <a:cubicBezTo>
                  <a:pt x="3983" y="13843"/>
                  <a:pt x="4019" y="13743"/>
                  <a:pt x="4043" y="13618"/>
                </a:cubicBezTo>
                <a:cubicBezTo>
                  <a:pt x="4054" y="13562"/>
                  <a:pt x="4048" y="13471"/>
                  <a:pt x="4068" y="13419"/>
                </a:cubicBezTo>
                <a:cubicBezTo>
                  <a:pt x="4085" y="13376"/>
                  <a:pt x="4090" y="13338"/>
                  <a:pt x="4118" y="13320"/>
                </a:cubicBezTo>
                <a:cubicBezTo>
                  <a:pt x="4126" y="13320"/>
                  <a:pt x="4134" y="13320"/>
                  <a:pt x="4142" y="13320"/>
                </a:cubicBezTo>
              </a:path>
              <a:path w="1018" h="1093">
                <a:moveTo>
                  <a:pt x="4242" y="13841"/>
                </a:moveTo>
                <a:cubicBezTo>
                  <a:pt x="4288" y="13850"/>
                  <a:pt x="4431" y="13889"/>
                  <a:pt x="4490" y="13866"/>
                </a:cubicBezTo>
                <a:cubicBezTo>
                  <a:pt x="4498" y="13858"/>
                  <a:pt x="4506" y="13849"/>
                  <a:pt x="4514" y="13841"/>
                </a:cubicBezTo>
              </a:path>
              <a:path w="1018" h="1093">
                <a:moveTo>
                  <a:pt x="4316" y="14089"/>
                </a:moveTo>
                <a:cubicBezTo>
                  <a:pt x="4414" y="14129"/>
                  <a:pt x="4428" y="14145"/>
                  <a:pt x="4490" y="141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85960" y="4857840"/>
            <a:ext cx="920880" cy="563400"/>
          </a:xfrm>
          <a:custGeom>
            <a:avLst/>
            <a:gdLst/>
            <a:ahLst/>
            <a:rect l="l" t="t" r="r" b="b"/>
            <a:pathLst>
              <a:path w="2556" h="1563">
                <a:moveTo>
                  <a:pt x="5060" y="13543"/>
                </a:moveTo>
                <a:cubicBezTo>
                  <a:pt x="5024" y="13645"/>
                  <a:pt x="4981" y="13758"/>
                  <a:pt x="4961" y="13866"/>
                </a:cubicBezTo>
                <a:cubicBezTo>
                  <a:pt x="4943" y="13962"/>
                  <a:pt x="4949" y="14102"/>
                  <a:pt x="4986" y="14188"/>
                </a:cubicBezTo>
                <a:cubicBezTo>
                  <a:pt x="5016" y="14260"/>
                  <a:pt x="5045" y="14298"/>
                  <a:pt x="5110" y="14337"/>
                </a:cubicBezTo>
                <a:cubicBezTo>
                  <a:pt x="5171" y="14374"/>
                  <a:pt x="5228" y="14372"/>
                  <a:pt x="5283" y="14337"/>
                </a:cubicBezTo>
                <a:cubicBezTo>
                  <a:pt x="5339" y="14301"/>
                  <a:pt x="5415" y="14235"/>
                  <a:pt x="5432" y="14163"/>
                </a:cubicBezTo>
                <a:cubicBezTo>
                  <a:pt x="5446" y="14102"/>
                  <a:pt x="5420" y="14040"/>
                  <a:pt x="5407" y="14015"/>
                </a:cubicBezTo>
                <a:cubicBezTo>
                  <a:pt x="5407" y="14007"/>
                  <a:pt x="5407" y="13998"/>
                  <a:pt x="5407" y="13990"/>
                </a:cubicBezTo>
                <a:cubicBezTo>
                  <a:pt x="5363" y="13990"/>
                  <a:pt x="5358" y="13997"/>
                  <a:pt x="5333" y="14015"/>
                </a:cubicBezTo>
                <a:cubicBezTo>
                  <a:pt x="5301" y="14038"/>
                  <a:pt x="5286" y="14124"/>
                  <a:pt x="5283" y="14163"/>
                </a:cubicBezTo>
                <a:cubicBezTo>
                  <a:pt x="5279" y="14224"/>
                  <a:pt x="5282" y="14294"/>
                  <a:pt x="5333" y="14337"/>
                </a:cubicBezTo>
                <a:cubicBezTo>
                  <a:pt x="5391" y="14386"/>
                  <a:pt x="5396" y="14379"/>
                  <a:pt x="5457" y="14362"/>
                </a:cubicBezTo>
              </a:path>
              <a:path w="2556" h="1563">
                <a:moveTo>
                  <a:pt x="5779" y="13990"/>
                </a:moveTo>
                <a:cubicBezTo>
                  <a:pt x="5772" y="14065"/>
                  <a:pt x="5755" y="14110"/>
                  <a:pt x="5755" y="14188"/>
                </a:cubicBezTo>
                <a:cubicBezTo>
                  <a:pt x="5755" y="14316"/>
                  <a:pt x="5796" y="14364"/>
                  <a:pt x="5879" y="14461"/>
                </a:cubicBezTo>
                <a:cubicBezTo>
                  <a:pt x="5906" y="14493"/>
                  <a:pt x="5915" y="14486"/>
                  <a:pt x="5953" y="14486"/>
                </a:cubicBezTo>
              </a:path>
              <a:path w="2556" h="1563">
                <a:moveTo>
                  <a:pt x="5755" y="13643"/>
                </a:moveTo>
                <a:lnTo>
                  <a:pt x="5755" y="13643"/>
                </a:lnTo>
              </a:path>
              <a:path w="2556" h="1563">
                <a:moveTo>
                  <a:pt x="6226" y="14089"/>
                </a:moveTo>
                <a:cubicBezTo>
                  <a:pt x="6272" y="14102"/>
                  <a:pt x="6371" y="14136"/>
                  <a:pt x="6424" y="14114"/>
                </a:cubicBezTo>
                <a:cubicBezTo>
                  <a:pt x="6462" y="14098"/>
                  <a:pt x="6508" y="14059"/>
                  <a:pt x="6548" y="14039"/>
                </a:cubicBezTo>
              </a:path>
              <a:path w="2556" h="1563">
                <a:moveTo>
                  <a:pt x="6846" y="13494"/>
                </a:moveTo>
                <a:cubicBezTo>
                  <a:pt x="6811" y="13589"/>
                  <a:pt x="6741" y="13694"/>
                  <a:pt x="6722" y="13791"/>
                </a:cubicBezTo>
                <a:cubicBezTo>
                  <a:pt x="6705" y="13877"/>
                  <a:pt x="6683" y="13980"/>
                  <a:pt x="6672" y="14064"/>
                </a:cubicBezTo>
                <a:cubicBezTo>
                  <a:pt x="6658" y="14172"/>
                  <a:pt x="6710" y="14283"/>
                  <a:pt x="6772" y="14362"/>
                </a:cubicBezTo>
                <a:cubicBezTo>
                  <a:pt x="6813" y="14414"/>
                  <a:pt x="6883" y="14433"/>
                  <a:pt x="6945" y="14436"/>
                </a:cubicBezTo>
                <a:cubicBezTo>
                  <a:pt x="7027" y="14440"/>
                  <a:pt x="7080" y="14403"/>
                  <a:pt x="7119" y="14337"/>
                </a:cubicBezTo>
                <a:cubicBezTo>
                  <a:pt x="7146" y="14292"/>
                  <a:pt x="7205" y="14216"/>
                  <a:pt x="7193" y="14163"/>
                </a:cubicBezTo>
                <a:cubicBezTo>
                  <a:pt x="7181" y="14109"/>
                  <a:pt x="7158" y="14077"/>
                  <a:pt x="7119" y="14039"/>
                </a:cubicBezTo>
                <a:cubicBezTo>
                  <a:pt x="7085" y="14006"/>
                  <a:pt x="7055" y="14016"/>
                  <a:pt x="7020" y="14039"/>
                </a:cubicBezTo>
                <a:cubicBezTo>
                  <a:pt x="6987" y="14061"/>
                  <a:pt x="6958" y="14150"/>
                  <a:pt x="6970" y="14188"/>
                </a:cubicBezTo>
                <a:cubicBezTo>
                  <a:pt x="6990" y="14253"/>
                  <a:pt x="7008" y="14295"/>
                  <a:pt x="7069" y="14337"/>
                </a:cubicBezTo>
                <a:cubicBezTo>
                  <a:pt x="7094" y="14354"/>
                  <a:pt x="7119" y="14370"/>
                  <a:pt x="7144" y="14387"/>
                </a:cubicBezTo>
              </a:path>
              <a:path w="2556" h="1563">
                <a:moveTo>
                  <a:pt x="7516" y="14015"/>
                </a:moveTo>
                <a:cubicBezTo>
                  <a:pt x="7516" y="14270"/>
                  <a:pt x="7538" y="14536"/>
                  <a:pt x="7491" y="14784"/>
                </a:cubicBezTo>
                <a:cubicBezTo>
                  <a:pt x="7480" y="14842"/>
                  <a:pt x="7468" y="15015"/>
                  <a:pt x="7392" y="15056"/>
                </a:cubicBezTo>
                <a:cubicBezTo>
                  <a:pt x="7333" y="15088"/>
                  <a:pt x="7285" y="14985"/>
                  <a:pt x="7268" y="14957"/>
                </a:cubicBezTo>
                <a:cubicBezTo>
                  <a:pt x="7228" y="14890"/>
                  <a:pt x="7227" y="14786"/>
                  <a:pt x="7218" y="14709"/>
                </a:cubicBezTo>
              </a:path>
              <a:path w="2556" h="1563">
                <a:moveTo>
                  <a:pt x="7342" y="13568"/>
                </a:moveTo>
                <a:cubicBezTo>
                  <a:pt x="7350" y="13568"/>
                  <a:pt x="7359" y="13568"/>
                  <a:pt x="7367" y="135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55960" y="4732200"/>
            <a:ext cx="615960" cy="501840"/>
          </a:xfrm>
          <a:custGeom>
            <a:avLst/>
            <a:gdLst/>
            <a:ahLst/>
            <a:rect l="l" t="t" r="r" b="b"/>
            <a:pathLst>
              <a:path w="1713" h="1391">
                <a:moveTo>
                  <a:pt x="8756" y="13593"/>
                </a:moveTo>
                <a:cubicBezTo>
                  <a:pt x="8733" y="13616"/>
                  <a:pt x="8725" y="13620"/>
                  <a:pt x="8731" y="13643"/>
                </a:cubicBezTo>
                <a:cubicBezTo>
                  <a:pt x="8726" y="13603"/>
                  <a:pt x="8712" y="13574"/>
                  <a:pt x="8706" y="13543"/>
                </a:cubicBezTo>
                <a:cubicBezTo>
                  <a:pt x="8693" y="13479"/>
                  <a:pt x="8686" y="13425"/>
                  <a:pt x="8657" y="13370"/>
                </a:cubicBezTo>
                <a:cubicBezTo>
                  <a:pt x="8623" y="13306"/>
                  <a:pt x="8633" y="13254"/>
                  <a:pt x="8582" y="13196"/>
                </a:cubicBezTo>
                <a:cubicBezTo>
                  <a:pt x="8523" y="13129"/>
                  <a:pt x="8486" y="13143"/>
                  <a:pt x="8434" y="13196"/>
                </a:cubicBezTo>
                <a:cubicBezTo>
                  <a:pt x="8370" y="13261"/>
                  <a:pt x="8378" y="13314"/>
                  <a:pt x="8359" y="13395"/>
                </a:cubicBezTo>
                <a:cubicBezTo>
                  <a:pt x="8333" y="13506"/>
                  <a:pt x="8321" y="13627"/>
                  <a:pt x="8310" y="13742"/>
                </a:cubicBezTo>
                <a:cubicBezTo>
                  <a:pt x="8292" y="13930"/>
                  <a:pt x="8310" y="14129"/>
                  <a:pt x="8334" y="14312"/>
                </a:cubicBezTo>
                <a:cubicBezTo>
                  <a:pt x="8341" y="14365"/>
                  <a:pt x="8349" y="14435"/>
                  <a:pt x="8409" y="14461"/>
                </a:cubicBezTo>
                <a:cubicBezTo>
                  <a:pt x="8417" y="14461"/>
                  <a:pt x="8426" y="14461"/>
                  <a:pt x="8434" y="14461"/>
                </a:cubicBezTo>
              </a:path>
              <a:path w="1713" h="1391">
                <a:moveTo>
                  <a:pt x="8210" y="13940"/>
                </a:moveTo>
                <a:cubicBezTo>
                  <a:pt x="8308" y="13968"/>
                  <a:pt x="8408" y="14021"/>
                  <a:pt x="8508" y="14039"/>
                </a:cubicBezTo>
                <a:cubicBezTo>
                  <a:pt x="8560" y="14039"/>
                  <a:pt x="8578" y="14040"/>
                  <a:pt x="8607" y="14064"/>
                </a:cubicBezTo>
              </a:path>
              <a:path w="1713" h="1391">
                <a:moveTo>
                  <a:pt x="8806" y="14238"/>
                </a:moveTo>
                <a:cubicBezTo>
                  <a:pt x="8817" y="14312"/>
                  <a:pt x="8830" y="14487"/>
                  <a:pt x="8830" y="14412"/>
                </a:cubicBezTo>
                <a:cubicBezTo>
                  <a:pt x="8830" y="14354"/>
                  <a:pt x="8830" y="14296"/>
                  <a:pt x="8830" y="14238"/>
                </a:cubicBezTo>
              </a:path>
              <a:path w="1713" h="1391">
                <a:moveTo>
                  <a:pt x="8930" y="13767"/>
                </a:moveTo>
                <a:cubicBezTo>
                  <a:pt x="8967" y="13776"/>
                  <a:pt x="9006" y="13805"/>
                  <a:pt x="9029" y="13841"/>
                </a:cubicBezTo>
                <a:cubicBezTo>
                  <a:pt x="9103" y="13955"/>
                  <a:pt x="9075" y="14156"/>
                  <a:pt x="9079" y="14288"/>
                </a:cubicBezTo>
                <a:cubicBezTo>
                  <a:pt x="9081" y="14348"/>
                  <a:pt x="9060" y="14380"/>
                  <a:pt x="9054" y="14436"/>
                </a:cubicBezTo>
                <a:cubicBezTo>
                  <a:pt x="9048" y="14495"/>
                  <a:pt x="9073" y="14402"/>
                  <a:pt x="9079" y="14387"/>
                </a:cubicBezTo>
                <a:cubicBezTo>
                  <a:pt x="9102" y="14331"/>
                  <a:pt x="9135" y="14271"/>
                  <a:pt x="9153" y="14213"/>
                </a:cubicBezTo>
                <a:cubicBezTo>
                  <a:pt x="9170" y="14157"/>
                  <a:pt x="9192" y="14113"/>
                  <a:pt x="9252" y="14089"/>
                </a:cubicBezTo>
                <a:cubicBezTo>
                  <a:pt x="9316" y="14063"/>
                  <a:pt x="9343" y="14115"/>
                  <a:pt x="9351" y="14163"/>
                </a:cubicBezTo>
                <a:cubicBezTo>
                  <a:pt x="9364" y="14244"/>
                  <a:pt x="9304" y="14461"/>
                  <a:pt x="9376" y="14511"/>
                </a:cubicBezTo>
                <a:cubicBezTo>
                  <a:pt x="9417" y="14531"/>
                  <a:pt x="9423" y="14540"/>
                  <a:pt x="9451" y="14536"/>
                </a:cubicBezTo>
              </a:path>
              <a:path w="1713" h="1391">
                <a:moveTo>
                  <a:pt x="9798" y="13990"/>
                </a:moveTo>
                <a:cubicBezTo>
                  <a:pt x="9685" y="14046"/>
                  <a:pt x="9652" y="14055"/>
                  <a:pt x="9599" y="14163"/>
                </a:cubicBezTo>
                <a:cubicBezTo>
                  <a:pt x="9556" y="14251"/>
                  <a:pt x="9586" y="14297"/>
                  <a:pt x="9599" y="14387"/>
                </a:cubicBezTo>
                <a:cubicBezTo>
                  <a:pt x="9605" y="14430"/>
                  <a:pt x="9644" y="14503"/>
                  <a:pt x="9674" y="14511"/>
                </a:cubicBezTo>
                <a:cubicBezTo>
                  <a:pt x="9682" y="14511"/>
                  <a:pt x="9691" y="14511"/>
                  <a:pt x="9699" y="14511"/>
                </a:cubicBezTo>
                <a:cubicBezTo>
                  <a:pt x="9765" y="14494"/>
                  <a:pt x="9774" y="14453"/>
                  <a:pt x="9798" y="14387"/>
                </a:cubicBezTo>
                <a:cubicBezTo>
                  <a:pt x="9852" y="14239"/>
                  <a:pt x="9845" y="14093"/>
                  <a:pt x="9872" y="13940"/>
                </a:cubicBezTo>
                <a:cubicBezTo>
                  <a:pt x="9887" y="13854"/>
                  <a:pt x="9897" y="13781"/>
                  <a:pt x="9897" y="13692"/>
                </a:cubicBezTo>
                <a:cubicBezTo>
                  <a:pt x="9951" y="13665"/>
                  <a:pt x="9879" y="13780"/>
                  <a:pt x="9872" y="13841"/>
                </a:cubicBezTo>
                <a:cubicBezTo>
                  <a:pt x="9859" y="13949"/>
                  <a:pt x="9847" y="14053"/>
                  <a:pt x="9847" y="14163"/>
                </a:cubicBezTo>
                <a:cubicBezTo>
                  <a:pt x="9847" y="14280"/>
                  <a:pt x="9847" y="14378"/>
                  <a:pt x="9872" y="14486"/>
                </a:cubicBezTo>
                <a:cubicBezTo>
                  <a:pt x="9872" y="14511"/>
                  <a:pt x="9872" y="14519"/>
                  <a:pt x="9897" y="145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14840" y="4884840"/>
            <a:ext cx="536400" cy="393480"/>
          </a:xfrm>
          <a:custGeom>
            <a:avLst/>
            <a:gdLst/>
            <a:ahLst/>
            <a:rect l="l" t="t" r="r" b="b"/>
            <a:pathLst>
              <a:path w="1489" h="1093">
                <a:moveTo>
                  <a:pt x="10517" y="13791"/>
                </a:moveTo>
                <a:cubicBezTo>
                  <a:pt x="10517" y="13961"/>
                  <a:pt x="10519" y="14123"/>
                  <a:pt x="10542" y="14288"/>
                </a:cubicBezTo>
                <a:cubicBezTo>
                  <a:pt x="10551" y="14357"/>
                  <a:pt x="10580" y="14428"/>
                  <a:pt x="10592" y="14486"/>
                </a:cubicBezTo>
                <a:cubicBezTo>
                  <a:pt x="10592" y="14503"/>
                  <a:pt x="10592" y="14519"/>
                  <a:pt x="10592" y="14536"/>
                </a:cubicBezTo>
              </a:path>
              <a:path w="1489" h="1093">
                <a:moveTo>
                  <a:pt x="10319" y="14139"/>
                </a:moveTo>
                <a:cubicBezTo>
                  <a:pt x="10388" y="14139"/>
                  <a:pt x="10450" y="14152"/>
                  <a:pt x="10517" y="14163"/>
                </a:cubicBezTo>
                <a:cubicBezTo>
                  <a:pt x="10651" y="14185"/>
                  <a:pt x="10636" y="14190"/>
                  <a:pt x="10740" y="14139"/>
                </a:cubicBezTo>
              </a:path>
              <a:path w="1489" h="1093">
                <a:moveTo>
                  <a:pt x="10939" y="13568"/>
                </a:moveTo>
                <a:cubicBezTo>
                  <a:pt x="10939" y="13675"/>
                  <a:pt x="10917" y="13761"/>
                  <a:pt x="10914" y="13866"/>
                </a:cubicBezTo>
                <a:cubicBezTo>
                  <a:pt x="10909" y="14028"/>
                  <a:pt x="10857" y="14351"/>
                  <a:pt x="10939" y="14486"/>
                </a:cubicBezTo>
                <a:cubicBezTo>
                  <a:pt x="10939" y="14532"/>
                  <a:pt x="10949" y="14462"/>
                  <a:pt x="10964" y="14436"/>
                </a:cubicBezTo>
                <a:cubicBezTo>
                  <a:pt x="10999" y="14374"/>
                  <a:pt x="11004" y="14305"/>
                  <a:pt x="11038" y="14238"/>
                </a:cubicBezTo>
                <a:cubicBezTo>
                  <a:pt x="11071" y="14172"/>
                  <a:pt x="11110" y="14122"/>
                  <a:pt x="11187" y="14114"/>
                </a:cubicBezTo>
                <a:cubicBezTo>
                  <a:pt x="11233" y="14109"/>
                  <a:pt x="11298" y="14170"/>
                  <a:pt x="11311" y="14213"/>
                </a:cubicBezTo>
                <a:cubicBezTo>
                  <a:pt x="11335" y="14294"/>
                  <a:pt x="11347" y="14401"/>
                  <a:pt x="11361" y="14486"/>
                </a:cubicBezTo>
                <a:cubicBezTo>
                  <a:pt x="11365" y="14510"/>
                  <a:pt x="11385" y="14594"/>
                  <a:pt x="11410" y="14536"/>
                </a:cubicBezTo>
                <a:cubicBezTo>
                  <a:pt x="11410" y="14528"/>
                  <a:pt x="11410" y="14519"/>
                  <a:pt x="11410" y="14511"/>
                </a:cubicBezTo>
              </a:path>
              <a:path w="1489" h="1093">
                <a:moveTo>
                  <a:pt x="11435" y="14412"/>
                </a:moveTo>
                <a:cubicBezTo>
                  <a:pt x="11450" y="14325"/>
                  <a:pt x="11463" y="14373"/>
                  <a:pt x="11534" y="14337"/>
                </a:cubicBezTo>
                <a:cubicBezTo>
                  <a:pt x="11636" y="14285"/>
                  <a:pt x="11694" y="14271"/>
                  <a:pt x="11782" y="14188"/>
                </a:cubicBezTo>
                <a:cubicBezTo>
                  <a:pt x="11804" y="14166"/>
                  <a:pt x="11813" y="14161"/>
                  <a:pt x="11807" y="14139"/>
                </a:cubicBezTo>
                <a:cubicBezTo>
                  <a:pt x="11768" y="14129"/>
                  <a:pt x="11752" y="14114"/>
                  <a:pt x="11708" y="14114"/>
                </a:cubicBezTo>
                <a:cubicBezTo>
                  <a:pt x="11618" y="14114"/>
                  <a:pt x="11585" y="14152"/>
                  <a:pt x="11534" y="14213"/>
                </a:cubicBezTo>
                <a:cubicBezTo>
                  <a:pt x="11475" y="14284"/>
                  <a:pt x="11476" y="14308"/>
                  <a:pt x="11485" y="14387"/>
                </a:cubicBezTo>
                <a:cubicBezTo>
                  <a:pt x="11496" y="14481"/>
                  <a:pt x="11548" y="14581"/>
                  <a:pt x="11633" y="14635"/>
                </a:cubicBezTo>
                <a:cubicBezTo>
                  <a:pt x="11687" y="14669"/>
                  <a:pt x="11748" y="14660"/>
                  <a:pt x="11807" y="146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94160" y="4867200"/>
            <a:ext cx="1409760" cy="507960"/>
          </a:xfrm>
          <a:custGeom>
            <a:avLst/>
            <a:gdLst/>
            <a:ahLst/>
            <a:rect l="l" t="t" r="r" b="b"/>
            <a:pathLst>
              <a:path w="3920" h="1414">
                <a:moveTo>
                  <a:pt x="12477" y="14089"/>
                </a:moveTo>
                <a:cubicBezTo>
                  <a:pt x="12382" y="14137"/>
                  <a:pt x="12293" y="14174"/>
                  <a:pt x="12229" y="14263"/>
                </a:cubicBezTo>
                <a:cubicBezTo>
                  <a:pt x="12176" y="14337"/>
                  <a:pt x="12204" y="14436"/>
                  <a:pt x="12229" y="14511"/>
                </a:cubicBezTo>
                <a:cubicBezTo>
                  <a:pt x="12259" y="14599"/>
                  <a:pt x="12301" y="14638"/>
                  <a:pt x="12378" y="14684"/>
                </a:cubicBezTo>
                <a:cubicBezTo>
                  <a:pt x="12432" y="14716"/>
                  <a:pt x="12497" y="14696"/>
                  <a:pt x="12526" y="14635"/>
                </a:cubicBezTo>
                <a:cubicBezTo>
                  <a:pt x="12559" y="14536"/>
                  <a:pt x="12576" y="14486"/>
                  <a:pt x="12601" y="14412"/>
                </a:cubicBezTo>
              </a:path>
              <a:path w="3920" h="1414">
                <a:moveTo>
                  <a:pt x="12601" y="13667"/>
                </a:moveTo>
                <a:cubicBezTo>
                  <a:pt x="12565" y="13560"/>
                  <a:pt x="12592" y="13511"/>
                  <a:pt x="12526" y="13519"/>
                </a:cubicBezTo>
                <a:cubicBezTo>
                  <a:pt x="12518" y="13621"/>
                  <a:pt x="12502" y="13712"/>
                  <a:pt x="12502" y="13816"/>
                </a:cubicBezTo>
                <a:cubicBezTo>
                  <a:pt x="12502" y="13942"/>
                  <a:pt x="12526" y="14059"/>
                  <a:pt x="12526" y="14188"/>
                </a:cubicBezTo>
                <a:cubicBezTo>
                  <a:pt x="12526" y="14290"/>
                  <a:pt x="12551" y="14383"/>
                  <a:pt x="12551" y="14486"/>
                </a:cubicBezTo>
                <a:cubicBezTo>
                  <a:pt x="12551" y="14544"/>
                  <a:pt x="12548" y="14564"/>
                  <a:pt x="12576" y="14610"/>
                </a:cubicBezTo>
              </a:path>
              <a:path w="3920" h="1414">
                <a:moveTo>
                  <a:pt x="12874" y="14263"/>
                </a:moveTo>
                <a:cubicBezTo>
                  <a:pt x="12887" y="14344"/>
                  <a:pt x="12891" y="14526"/>
                  <a:pt x="12923" y="14610"/>
                </a:cubicBezTo>
                <a:cubicBezTo>
                  <a:pt x="12946" y="14633"/>
                  <a:pt x="12954" y="14644"/>
                  <a:pt x="12948" y="14610"/>
                </a:cubicBezTo>
              </a:path>
              <a:path w="3920" h="1414">
                <a:moveTo>
                  <a:pt x="12948" y="13965"/>
                </a:moveTo>
                <a:cubicBezTo>
                  <a:pt x="12956" y="13957"/>
                  <a:pt x="12965" y="13948"/>
                  <a:pt x="12973" y="13940"/>
                </a:cubicBezTo>
              </a:path>
              <a:path w="3920" h="1414">
                <a:moveTo>
                  <a:pt x="13122" y="14486"/>
                </a:moveTo>
                <a:cubicBezTo>
                  <a:pt x="13146" y="14577"/>
                  <a:pt x="13137" y="14665"/>
                  <a:pt x="13196" y="14684"/>
                </a:cubicBezTo>
                <a:cubicBezTo>
                  <a:pt x="13196" y="14563"/>
                  <a:pt x="13202" y="14451"/>
                  <a:pt x="13221" y="14337"/>
                </a:cubicBezTo>
                <a:cubicBezTo>
                  <a:pt x="13234" y="14263"/>
                  <a:pt x="13250" y="14251"/>
                  <a:pt x="13320" y="14213"/>
                </a:cubicBezTo>
                <a:cubicBezTo>
                  <a:pt x="13386" y="14178"/>
                  <a:pt x="13444" y="14188"/>
                  <a:pt x="13519" y="14188"/>
                </a:cubicBezTo>
              </a:path>
              <a:path w="3920" h="1414">
                <a:moveTo>
                  <a:pt x="13494" y="14536"/>
                </a:moveTo>
                <a:cubicBezTo>
                  <a:pt x="13550" y="14558"/>
                  <a:pt x="13627" y="14610"/>
                  <a:pt x="13692" y="14585"/>
                </a:cubicBezTo>
                <a:cubicBezTo>
                  <a:pt x="13790" y="14547"/>
                  <a:pt x="13783" y="14483"/>
                  <a:pt x="13816" y="14412"/>
                </a:cubicBezTo>
                <a:cubicBezTo>
                  <a:pt x="13843" y="14354"/>
                  <a:pt x="13843" y="14364"/>
                  <a:pt x="13791" y="14312"/>
                </a:cubicBezTo>
                <a:cubicBezTo>
                  <a:pt x="13756" y="14277"/>
                  <a:pt x="13707" y="14287"/>
                  <a:pt x="13667" y="14312"/>
                </a:cubicBezTo>
                <a:cubicBezTo>
                  <a:pt x="13626" y="14337"/>
                  <a:pt x="13555" y="14411"/>
                  <a:pt x="13543" y="14461"/>
                </a:cubicBezTo>
                <a:cubicBezTo>
                  <a:pt x="13529" y="14519"/>
                  <a:pt x="13537" y="14610"/>
                  <a:pt x="13568" y="14660"/>
                </a:cubicBezTo>
                <a:cubicBezTo>
                  <a:pt x="13599" y="14709"/>
                  <a:pt x="13678" y="14780"/>
                  <a:pt x="13742" y="14759"/>
                </a:cubicBezTo>
                <a:cubicBezTo>
                  <a:pt x="13775" y="14742"/>
                  <a:pt x="13808" y="14726"/>
                  <a:pt x="13841" y="14709"/>
                </a:cubicBezTo>
              </a:path>
              <a:path w="3920" h="1414">
                <a:moveTo>
                  <a:pt x="14263" y="14337"/>
                </a:moveTo>
                <a:cubicBezTo>
                  <a:pt x="14228" y="14325"/>
                  <a:pt x="14239" y="14293"/>
                  <a:pt x="14188" y="14288"/>
                </a:cubicBezTo>
                <a:cubicBezTo>
                  <a:pt x="14153" y="14284"/>
                  <a:pt x="14062" y="14335"/>
                  <a:pt x="14039" y="14362"/>
                </a:cubicBezTo>
                <a:cubicBezTo>
                  <a:pt x="13990" y="14420"/>
                  <a:pt x="13990" y="14489"/>
                  <a:pt x="13990" y="14560"/>
                </a:cubicBezTo>
                <a:cubicBezTo>
                  <a:pt x="13990" y="14639"/>
                  <a:pt x="14043" y="14719"/>
                  <a:pt x="14114" y="14759"/>
                </a:cubicBezTo>
                <a:cubicBezTo>
                  <a:pt x="14228" y="14824"/>
                  <a:pt x="14273" y="14807"/>
                  <a:pt x="14387" y="14759"/>
                </a:cubicBezTo>
              </a:path>
              <a:path w="3920" h="1414">
                <a:moveTo>
                  <a:pt x="14585" y="14039"/>
                </a:moveTo>
                <a:cubicBezTo>
                  <a:pt x="14561" y="14152"/>
                  <a:pt x="14560" y="14245"/>
                  <a:pt x="14560" y="14362"/>
                </a:cubicBezTo>
                <a:cubicBezTo>
                  <a:pt x="14560" y="14470"/>
                  <a:pt x="14562" y="14580"/>
                  <a:pt x="14585" y="14684"/>
                </a:cubicBezTo>
                <a:cubicBezTo>
                  <a:pt x="14602" y="14762"/>
                  <a:pt x="14629" y="14830"/>
                  <a:pt x="14635" y="14908"/>
                </a:cubicBezTo>
                <a:cubicBezTo>
                  <a:pt x="14638" y="14949"/>
                  <a:pt x="14635" y="14874"/>
                  <a:pt x="14635" y="14833"/>
                </a:cubicBezTo>
              </a:path>
              <a:path w="3920" h="1414">
                <a:moveTo>
                  <a:pt x="14387" y="14337"/>
                </a:moveTo>
                <a:cubicBezTo>
                  <a:pt x="14472" y="14354"/>
                  <a:pt x="14552" y="14404"/>
                  <a:pt x="14635" y="14436"/>
                </a:cubicBezTo>
                <a:cubicBezTo>
                  <a:pt x="14695" y="14459"/>
                  <a:pt x="14781" y="14454"/>
                  <a:pt x="14833" y="14486"/>
                </a:cubicBezTo>
                <a:cubicBezTo>
                  <a:pt x="14887" y="14518"/>
                  <a:pt x="14883" y="14554"/>
                  <a:pt x="14883" y="14610"/>
                </a:cubicBezTo>
                <a:cubicBezTo>
                  <a:pt x="14883" y="14673"/>
                  <a:pt x="14858" y="14719"/>
                  <a:pt x="14858" y="14784"/>
                </a:cubicBezTo>
                <a:cubicBezTo>
                  <a:pt x="14858" y="14842"/>
                  <a:pt x="14856" y="14862"/>
                  <a:pt x="14883" y="14908"/>
                </a:cubicBezTo>
                <a:cubicBezTo>
                  <a:pt x="14905" y="14849"/>
                  <a:pt x="14914" y="14777"/>
                  <a:pt x="14932" y="14709"/>
                </a:cubicBezTo>
              </a:path>
              <a:path w="3920" h="1414">
                <a:moveTo>
                  <a:pt x="14932" y="14163"/>
                </a:moveTo>
                <a:cubicBezTo>
                  <a:pt x="14971" y="14125"/>
                  <a:pt x="14974" y="14155"/>
                  <a:pt x="15007" y="14188"/>
                </a:cubicBezTo>
              </a:path>
              <a:path w="3920" h="1414">
                <a:moveTo>
                  <a:pt x="15081" y="14635"/>
                </a:moveTo>
                <a:cubicBezTo>
                  <a:pt x="15088" y="14748"/>
                  <a:pt x="15093" y="14790"/>
                  <a:pt x="15156" y="14883"/>
                </a:cubicBezTo>
                <a:cubicBezTo>
                  <a:pt x="15204" y="14954"/>
                  <a:pt x="15288" y="14893"/>
                  <a:pt x="15329" y="14858"/>
                </a:cubicBezTo>
                <a:cubicBezTo>
                  <a:pt x="15373" y="14821"/>
                  <a:pt x="15397" y="14737"/>
                  <a:pt x="15404" y="14684"/>
                </a:cubicBezTo>
                <a:cubicBezTo>
                  <a:pt x="15415" y="14598"/>
                  <a:pt x="15380" y="14521"/>
                  <a:pt x="15329" y="14461"/>
                </a:cubicBezTo>
                <a:cubicBezTo>
                  <a:pt x="15302" y="14429"/>
                  <a:pt x="15253" y="14374"/>
                  <a:pt x="15205" y="14387"/>
                </a:cubicBezTo>
                <a:cubicBezTo>
                  <a:pt x="15137" y="14405"/>
                  <a:pt x="15110" y="14450"/>
                  <a:pt x="15106" y="14511"/>
                </a:cubicBezTo>
                <a:cubicBezTo>
                  <a:pt x="15100" y="14609"/>
                  <a:pt x="15113" y="14646"/>
                  <a:pt x="15180" y="14709"/>
                </a:cubicBezTo>
                <a:cubicBezTo>
                  <a:pt x="15231" y="14760"/>
                  <a:pt x="15249" y="14776"/>
                  <a:pt x="15304" y="14759"/>
                </a:cubicBezTo>
              </a:path>
              <a:path w="3920" h="1414">
                <a:moveTo>
                  <a:pt x="15602" y="14511"/>
                </a:moveTo>
                <a:cubicBezTo>
                  <a:pt x="15580" y="14598"/>
                  <a:pt x="15577" y="14669"/>
                  <a:pt x="15577" y="14759"/>
                </a:cubicBezTo>
                <a:cubicBezTo>
                  <a:pt x="15577" y="14817"/>
                  <a:pt x="15575" y="14837"/>
                  <a:pt x="15602" y="14883"/>
                </a:cubicBezTo>
                <a:cubicBezTo>
                  <a:pt x="15640" y="14817"/>
                  <a:pt x="15668" y="14763"/>
                  <a:pt x="15677" y="14684"/>
                </a:cubicBezTo>
                <a:cubicBezTo>
                  <a:pt x="15687" y="14601"/>
                  <a:pt x="15701" y="14534"/>
                  <a:pt x="15751" y="14461"/>
                </a:cubicBezTo>
                <a:cubicBezTo>
                  <a:pt x="15768" y="14437"/>
                  <a:pt x="15852" y="14413"/>
                  <a:pt x="15875" y="14436"/>
                </a:cubicBezTo>
                <a:cubicBezTo>
                  <a:pt x="15923" y="14484"/>
                  <a:pt x="15973" y="14569"/>
                  <a:pt x="15999" y="14635"/>
                </a:cubicBezTo>
                <a:cubicBezTo>
                  <a:pt x="16013" y="14670"/>
                  <a:pt x="16030" y="14806"/>
                  <a:pt x="16049" y="14833"/>
                </a:cubicBezTo>
                <a:cubicBezTo>
                  <a:pt x="16075" y="14870"/>
                  <a:pt x="16080" y="14844"/>
                  <a:pt x="16123" y="148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65920" y="5010120"/>
            <a:ext cx="911160" cy="606600"/>
          </a:xfrm>
          <a:custGeom>
            <a:avLst/>
            <a:gdLst/>
            <a:ahLst/>
            <a:rect l="l" t="t" r="r" b="b"/>
            <a:pathLst>
              <a:path w="2531" h="1688">
                <a:moveTo>
                  <a:pt x="16892" y="14560"/>
                </a:moveTo>
                <a:cubicBezTo>
                  <a:pt x="16930" y="14496"/>
                  <a:pt x="16955" y="14426"/>
                  <a:pt x="16917" y="14362"/>
                </a:cubicBezTo>
                <a:cubicBezTo>
                  <a:pt x="16888" y="14312"/>
                  <a:pt x="16823" y="14294"/>
                  <a:pt x="16768" y="14312"/>
                </a:cubicBezTo>
                <a:cubicBezTo>
                  <a:pt x="16698" y="14335"/>
                  <a:pt x="16655" y="14376"/>
                  <a:pt x="16619" y="14436"/>
                </a:cubicBezTo>
                <a:cubicBezTo>
                  <a:pt x="16566" y="14524"/>
                  <a:pt x="16579" y="14546"/>
                  <a:pt x="16594" y="14635"/>
                </a:cubicBezTo>
                <a:cubicBezTo>
                  <a:pt x="16606" y="14709"/>
                  <a:pt x="16606" y="14750"/>
                  <a:pt x="16694" y="14759"/>
                </a:cubicBezTo>
                <a:cubicBezTo>
                  <a:pt x="16749" y="14765"/>
                  <a:pt x="16787" y="14758"/>
                  <a:pt x="16818" y="14709"/>
                </a:cubicBezTo>
                <a:cubicBezTo>
                  <a:pt x="16847" y="14663"/>
                  <a:pt x="16867" y="14601"/>
                  <a:pt x="16892" y="14560"/>
                </a:cubicBezTo>
                <a:cubicBezTo>
                  <a:pt x="16900" y="14552"/>
                  <a:pt x="16909" y="14544"/>
                  <a:pt x="16917" y="14536"/>
                </a:cubicBezTo>
                <a:cubicBezTo>
                  <a:pt x="16917" y="14611"/>
                  <a:pt x="16893" y="14703"/>
                  <a:pt x="16942" y="14759"/>
                </a:cubicBezTo>
                <a:cubicBezTo>
                  <a:pt x="16991" y="14815"/>
                  <a:pt x="17008" y="14851"/>
                  <a:pt x="17066" y="14808"/>
                </a:cubicBezTo>
              </a:path>
              <a:path w="2531" h="1688">
                <a:moveTo>
                  <a:pt x="17165" y="14337"/>
                </a:moveTo>
                <a:cubicBezTo>
                  <a:pt x="17165" y="14453"/>
                  <a:pt x="17165" y="14568"/>
                  <a:pt x="17165" y="14684"/>
                </a:cubicBezTo>
                <a:cubicBezTo>
                  <a:pt x="17214" y="14701"/>
                  <a:pt x="17213" y="14607"/>
                  <a:pt x="17239" y="14536"/>
                </a:cubicBezTo>
                <a:cubicBezTo>
                  <a:pt x="17263" y="14470"/>
                  <a:pt x="17291" y="14400"/>
                  <a:pt x="17314" y="14337"/>
                </a:cubicBezTo>
                <a:cubicBezTo>
                  <a:pt x="17314" y="14309"/>
                  <a:pt x="17316" y="14299"/>
                  <a:pt x="17338" y="14288"/>
                </a:cubicBezTo>
                <a:cubicBezTo>
                  <a:pt x="17402" y="14288"/>
                  <a:pt x="17444" y="14320"/>
                  <a:pt x="17462" y="14387"/>
                </a:cubicBezTo>
                <a:cubicBezTo>
                  <a:pt x="17480" y="14454"/>
                  <a:pt x="17501" y="14542"/>
                  <a:pt x="17512" y="14610"/>
                </a:cubicBezTo>
                <a:cubicBezTo>
                  <a:pt x="17522" y="14668"/>
                  <a:pt x="17528" y="14689"/>
                  <a:pt x="17562" y="14734"/>
                </a:cubicBezTo>
              </a:path>
              <a:path w="2531" h="1688">
                <a:moveTo>
                  <a:pt x="17909" y="14263"/>
                </a:moveTo>
                <a:cubicBezTo>
                  <a:pt x="17757" y="14271"/>
                  <a:pt x="17748" y="14244"/>
                  <a:pt x="17686" y="14362"/>
                </a:cubicBezTo>
                <a:cubicBezTo>
                  <a:pt x="17635" y="14458"/>
                  <a:pt x="17691" y="14470"/>
                  <a:pt x="17711" y="14560"/>
                </a:cubicBezTo>
                <a:cubicBezTo>
                  <a:pt x="17726" y="14625"/>
                  <a:pt x="17746" y="14640"/>
                  <a:pt x="17810" y="14660"/>
                </a:cubicBezTo>
                <a:cubicBezTo>
                  <a:pt x="17818" y="14660"/>
                  <a:pt x="17827" y="14660"/>
                  <a:pt x="17835" y="14660"/>
                </a:cubicBezTo>
                <a:cubicBezTo>
                  <a:pt x="17876" y="14618"/>
                  <a:pt x="17921" y="14541"/>
                  <a:pt x="17934" y="14486"/>
                </a:cubicBezTo>
                <a:cubicBezTo>
                  <a:pt x="17945" y="14438"/>
                  <a:pt x="17934" y="14437"/>
                  <a:pt x="17934" y="14387"/>
                </a:cubicBezTo>
                <a:cubicBezTo>
                  <a:pt x="17903" y="14468"/>
                  <a:pt x="17887" y="14547"/>
                  <a:pt x="17884" y="14635"/>
                </a:cubicBezTo>
                <a:cubicBezTo>
                  <a:pt x="17879" y="14768"/>
                  <a:pt x="17879" y="14902"/>
                  <a:pt x="17859" y="15032"/>
                </a:cubicBezTo>
                <a:cubicBezTo>
                  <a:pt x="17835" y="15192"/>
                  <a:pt x="17776" y="15335"/>
                  <a:pt x="17711" y="15478"/>
                </a:cubicBezTo>
                <a:cubicBezTo>
                  <a:pt x="17682" y="15543"/>
                  <a:pt x="17622" y="15567"/>
                  <a:pt x="17562" y="15602"/>
                </a:cubicBezTo>
                <a:cubicBezTo>
                  <a:pt x="17484" y="15498"/>
                  <a:pt x="17443" y="15431"/>
                  <a:pt x="17438" y="15304"/>
                </a:cubicBezTo>
                <a:cubicBezTo>
                  <a:pt x="17438" y="15229"/>
                  <a:pt x="17438" y="15203"/>
                  <a:pt x="17462" y="15156"/>
                </a:cubicBezTo>
              </a:path>
              <a:path w="2531" h="1688">
                <a:moveTo>
                  <a:pt x="18132" y="13915"/>
                </a:moveTo>
                <a:cubicBezTo>
                  <a:pt x="18166" y="14005"/>
                  <a:pt x="18157" y="14090"/>
                  <a:pt x="18157" y="14188"/>
                </a:cubicBezTo>
                <a:cubicBezTo>
                  <a:pt x="18157" y="14357"/>
                  <a:pt x="18164" y="14521"/>
                  <a:pt x="18182" y="14684"/>
                </a:cubicBezTo>
                <a:cubicBezTo>
                  <a:pt x="18184" y="14705"/>
                  <a:pt x="18160" y="14883"/>
                  <a:pt x="18207" y="14883"/>
                </a:cubicBezTo>
                <a:cubicBezTo>
                  <a:pt x="18207" y="14858"/>
                  <a:pt x="18207" y="14850"/>
                  <a:pt x="18231" y="14858"/>
                </a:cubicBezTo>
              </a:path>
              <a:path w="2531" h="1688">
                <a:moveTo>
                  <a:pt x="18355" y="14660"/>
                </a:moveTo>
                <a:cubicBezTo>
                  <a:pt x="18451" y="14631"/>
                  <a:pt x="18473" y="14613"/>
                  <a:pt x="18554" y="14560"/>
                </a:cubicBezTo>
                <a:cubicBezTo>
                  <a:pt x="18600" y="14530"/>
                  <a:pt x="18662" y="14495"/>
                  <a:pt x="18678" y="14436"/>
                </a:cubicBezTo>
                <a:cubicBezTo>
                  <a:pt x="18692" y="14384"/>
                  <a:pt x="18679" y="14343"/>
                  <a:pt x="18628" y="14337"/>
                </a:cubicBezTo>
                <a:cubicBezTo>
                  <a:pt x="18581" y="14332"/>
                  <a:pt x="18510" y="14325"/>
                  <a:pt x="18479" y="14362"/>
                </a:cubicBezTo>
                <a:cubicBezTo>
                  <a:pt x="18427" y="14425"/>
                  <a:pt x="18410" y="14528"/>
                  <a:pt x="18430" y="14610"/>
                </a:cubicBezTo>
                <a:cubicBezTo>
                  <a:pt x="18451" y="14699"/>
                  <a:pt x="18528" y="14764"/>
                  <a:pt x="18579" y="14833"/>
                </a:cubicBezTo>
                <a:cubicBezTo>
                  <a:pt x="18657" y="14937"/>
                  <a:pt x="18728" y="15032"/>
                  <a:pt x="18852" y="15081"/>
                </a:cubicBezTo>
                <a:cubicBezTo>
                  <a:pt x="18943" y="15117"/>
                  <a:pt x="18993" y="15104"/>
                  <a:pt x="19075" y="15056"/>
                </a:cubicBezTo>
                <a:cubicBezTo>
                  <a:pt x="19083" y="15048"/>
                  <a:pt x="19092" y="15040"/>
                  <a:pt x="19100" y="150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7040" y="5259240"/>
            <a:ext cx="2036880" cy="1019160"/>
          </a:xfrm>
          <a:custGeom>
            <a:avLst/>
            <a:gdLst/>
            <a:ahLst/>
            <a:rect l="l" t="t" r="r" b="b"/>
            <a:pathLst>
              <a:path w="5657" h="2829">
                <a:moveTo>
                  <a:pt x="1463" y="16073"/>
                </a:moveTo>
                <a:cubicBezTo>
                  <a:pt x="1641" y="16073"/>
                  <a:pt x="1788" y="16073"/>
                  <a:pt x="1960" y="16024"/>
                </a:cubicBezTo>
              </a:path>
              <a:path w="5657" h="2829">
                <a:moveTo>
                  <a:pt x="1488" y="16222"/>
                </a:moveTo>
                <a:cubicBezTo>
                  <a:pt x="1599" y="16229"/>
                  <a:pt x="1698" y="16247"/>
                  <a:pt x="1811" y="16247"/>
                </a:cubicBezTo>
                <a:cubicBezTo>
                  <a:pt x="1844" y="16247"/>
                  <a:pt x="1877" y="16247"/>
                  <a:pt x="1910" y="16247"/>
                </a:cubicBezTo>
              </a:path>
              <a:path w="5657" h="2829">
                <a:moveTo>
                  <a:pt x="1588" y="16396"/>
                </a:moveTo>
                <a:cubicBezTo>
                  <a:pt x="1680" y="16437"/>
                  <a:pt x="1764" y="16447"/>
                  <a:pt x="1860" y="16470"/>
                </a:cubicBezTo>
              </a:path>
              <a:path w="5657" h="2829">
                <a:moveTo>
                  <a:pt x="1513" y="16644"/>
                </a:moveTo>
                <a:cubicBezTo>
                  <a:pt x="1653" y="16664"/>
                  <a:pt x="1677" y="16673"/>
                  <a:pt x="1761" y="16669"/>
                </a:cubicBezTo>
              </a:path>
              <a:path w="5657" h="2829">
                <a:moveTo>
                  <a:pt x="1463" y="16818"/>
                </a:moveTo>
                <a:cubicBezTo>
                  <a:pt x="1545" y="16825"/>
                  <a:pt x="1603" y="16836"/>
                  <a:pt x="1687" y="16842"/>
                </a:cubicBezTo>
              </a:path>
              <a:path w="5657" h="2829">
                <a:moveTo>
                  <a:pt x="1538" y="17115"/>
                </a:moveTo>
                <a:cubicBezTo>
                  <a:pt x="1679" y="17115"/>
                  <a:pt x="1759" y="17122"/>
                  <a:pt x="1885" y="17090"/>
                </a:cubicBezTo>
              </a:path>
              <a:path w="5657" h="2829">
                <a:moveTo>
                  <a:pt x="3200" y="16966"/>
                </a:moveTo>
                <a:cubicBezTo>
                  <a:pt x="3220" y="16971"/>
                  <a:pt x="3304" y="16991"/>
                  <a:pt x="3249" y="16991"/>
                </a:cubicBezTo>
                <a:cubicBezTo>
                  <a:pt x="3207" y="16991"/>
                  <a:pt x="3212" y="17001"/>
                  <a:pt x="3200" y="16966"/>
                </a:cubicBezTo>
              </a:path>
              <a:path w="5657" h="2829">
                <a:moveTo>
                  <a:pt x="1612" y="15677"/>
                </a:moveTo>
                <a:cubicBezTo>
                  <a:pt x="1741" y="15804"/>
                  <a:pt x="1865" y="15941"/>
                  <a:pt x="2009" y="16049"/>
                </a:cubicBezTo>
                <a:cubicBezTo>
                  <a:pt x="2113" y="16127"/>
                  <a:pt x="2205" y="16218"/>
                  <a:pt x="2307" y="16297"/>
                </a:cubicBezTo>
                <a:cubicBezTo>
                  <a:pt x="2411" y="16377"/>
                  <a:pt x="2525" y="16439"/>
                  <a:pt x="2629" y="16520"/>
                </a:cubicBezTo>
                <a:cubicBezTo>
                  <a:pt x="2766" y="16627"/>
                  <a:pt x="2901" y="16753"/>
                  <a:pt x="3051" y="16842"/>
                </a:cubicBezTo>
                <a:cubicBezTo>
                  <a:pt x="3116" y="16881"/>
                  <a:pt x="3182" y="16895"/>
                  <a:pt x="3249" y="16917"/>
                </a:cubicBezTo>
                <a:cubicBezTo>
                  <a:pt x="3284" y="16929"/>
                  <a:pt x="3307" y="16971"/>
                  <a:pt x="3349" y="16966"/>
                </a:cubicBezTo>
                <a:cubicBezTo>
                  <a:pt x="3349" y="16958"/>
                  <a:pt x="3349" y="16950"/>
                  <a:pt x="3349" y="16942"/>
                </a:cubicBezTo>
              </a:path>
              <a:path w="5657" h="2829">
                <a:moveTo>
                  <a:pt x="3051" y="16520"/>
                </a:moveTo>
                <a:cubicBezTo>
                  <a:pt x="3011" y="16475"/>
                  <a:pt x="2979" y="16409"/>
                  <a:pt x="2927" y="16396"/>
                </a:cubicBezTo>
                <a:cubicBezTo>
                  <a:pt x="2938" y="16438"/>
                  <a:pt x="2957" y="16476"/>
                  <a:pt x="2977" y="16520"/>
                </a:cubicBezTo>
                <a:cubicBezTo>
                  <a:pt x="3015" y="16603"/>
                  <a:pt x="3058" y="16690"/>
                  <a:pt x="3101" y="16768"/>
                </a:cubicBezTo>
                <a:cubicBezTo>
                  <a:pt x="3140" y="16838"/>
                  <a:pt x="3180" y="16925"/>
                  <a:pt x="3225" y="16991"/>
                </a:cubicBezTo>
                <a:cubicBezTo>
                  <a:pt x="3247" y="17023"/>
                  <a:pt x="3251" y="17035"/>
                  <a:pt x="3274" y="17066"/>
                </a:cubicBezTo>
                <a:cubicBezTo>
                  <a:pt x="3245" y="17073"/>
                  <a:pt x="3171" y="17116"/>
                  <a:pt x="3150" y="17140"/>
                </a:cubicBezTo>
                <a:cubicBezTo>
                  <a:pt x="3093" y="17206"/>
                  <a:pt x="3042" y="17303"/>
                  <a:pt x="2977" y="17363"/>
                </a:cubicBezTo>
                <a:cubicBezTo>
                  <a:pt x="2917" y="17403"/>
                  <a:pt x="2905" y="17407"/>
                  <a:pt x="2877" y="17438"/>
                </a:cubicBezTo>
              </a:path>
              <a:path w="5657" h="2829">
                <a:moveTo>
                  <a:pt x="3423" y="15726"/>
                </a:moveTo>
                <a:cubicBezTo>
                  <a:pt x="3466" y="15784"/>
                  <a:pt x="3426" y="15828"/>
                  <a:pt x="3423" y="15900"/>
                </a:cubicBezTo>
                <a:cubicBezTo>
                  <a:pt x="3418" y="16009"/>
                  <a:pt x="3438" y="16137"/>
                  <a:pt x="3448" y="16247"/>
                </a:cubicBezTo>
                <a:cubicBezTo>
                  <a:pt x="3464" y="16419"/>
                  <a:pt x="3497" y="16570"/>
                  <a:pt x="3497" y="16743"/>
                </a:cubicBezTo>
                <a:cubicBezTo>
                  <a:pt x="3497" y="16834"/>
                  <a:pt x="3497" y="16925"/>
                  <a:pt x="3497" y="17016"/>
                </a:cubicBezTo>
              </a:path>
              <a:path w="5657" h="2829">
                <a:moveTo>
                  <a:pt x="2232" y="14610"/>
                </a:moveTo>
                <a:cubicBezTo>
                  <a:pt x="2232" y="14785"/>
                  <a:pt x="2222" y="14782"/>
                  <a:pt x="2307" y="14908"/>
                </a:cubicBezTo>
                <a:cubicBezTo>
                  <a:pt x="2338" y="14953"/>
                  <a:pt x="2373" y="15016"/>
                  <a:pt x="2431" y="15032"/>
                </a:cubicBezTo>
                <a:cubicBezTo>
                  <a:pt x="2453" y="15038"/>
                  <a:pt x="2548" y="15026"/>
                  <a:pt x="2555" y="15007"/>
                </a:cubicBezTo>
                <a:cubicBezTo>
                  <a:pt x="2578" y="14942"/>
                  <a:pt x="2546" y="14899"/>
                  <a:pt x="2505" y="14858"/>
                </a:cubicBezTo>
                <a:cubicBezTo>
                  <a:pt x="2447" y="14800"/>
                  <a:pt x="2438" y="14814"/>
                  <a:pt x="2381" y="14833"/>
                </a:cubicBezTo>
                <a:cubicBezTo>
                  <a:pt x="2347" y="14844"/>
                  <a:pt x="2321" y="14906"/>
                  <a:pt x="2332" y="14957"/>
                </a:cubicBezTo>
                <a:cubicBezTo>
                  <a:pt x="2350" y="15042"/>
                  <a:pt x="2416" y="15135"/>
                  <a:pt x="2480" y="15180"/>
                </a:cubicBezTo>
              </a:path>
              <a:path w="5657" h="2829">
                <a:moveTo>
                  <a:pt x="3894" y="16173"/>
                </a:moveTo>
                <a:cubicBezTo>
                  <a:pt x="3933" y="16163"/>
                  <a:pt x="3949" y="16148"/>
                  <a:pt x="3994" y="16148"/>
                </a:cubicBezTo>
                <a:cubicBezTo>
                  <a:pt x="4052" y="16148"/>
                  <a:pt x="4072" y="16150"/>
                  <a:pt x="4118" y="16123"/>
                </a:cubicBezTo>
              </a:path>
              <a:path w="5657" h="2829">
                <a:moveTo>
                  <a:pt x="4366" y="15999"/>
                </a:moveTo>
                <a:cubicBezTo>
                  <a:pt x="4345" y="16067"/>
                  <a:pt x="4320" y="16128"/>
                  <a:pt x="4316" y="16197"/>
                </a:cubicBezTo>
                <a:cubicBezTo>
                  <a:pt x="4312" y="16271"/>
                  <a:pt x="4348" y="16359"/>
                  <a:pt x="4390" y="16421"/>
                </a:cubicBezTo>
                <a:cubicBezTo>
                  <a:pt x="4425" y="16472"/>
                  <a:pt x="4457" y="16470"/>
                  <a:pt x="4514" y="16470"/>
                </a:cubicBezTo>
                <a:cubicBezTo>
                  <a:pt x="4577" y="16470"/>
                  <a:pt x="4600" y="16397"/>
                  <a:pt x="4614" y="16346"/>
                </a:cubicBezTo>
                <a:cubicBezTo>
                  <a:pt x="4624" y="16308"/>
                  <a:pt x="4600" y="16263"/>
                  <a:pt x="4564" y="16247"/>
                </a:cubicBezTo>
                <a:cubicBezTo>
                  <a:pt x="4537" y="16235"/>
                  <a:pt x="4485" y="16217"/>
                  <a:pt x="4465" y="16247"/>
                </a:cubicBezTo>
                <a:cubicBezTo>
                  <a:pt x="4428" y="16303"/>
                  <a:pt x="4432" y="16386"/>
                  <a:pt x="4415" y="16446"/>
                </a:cubicBezTo>
                <a:cubicBezTo>
                  <a:pt x="4395" y="16486"/>
                  <a:pt x="4386" y="16492"/>
                  <a:pt x="4390" y="16520"/>
                </a:cubicBezTo>
              </a:path>
              <a:path w="5657" h="2829">
                <a:moveTo>
                  <a:pt x="4961" y="15280"/>
                </a:moveTo>
                <a:cubicBezTo>
                  <a:pt x="4961" y="15237"/>
                  <a:pt x="4966" y="15220"/>
                  <a:pt x="5011" y="15205"/>
                </a:cubicBezTo>
                <a:cubicBezTo>
                  <a:pt x="5072" y="15184"/>
                  <a:pt x="5155" y="15215"/>
                  <a:pt x="5209" y="15230"/>
                </a:cubicBezTo>
                <a:cubicBezTo>
                  <a:pt x="5305" y="15257"/>
                  <a:pt x="5336" y="15290"/>
                  <a:pt x="5407" y="15354"/>
                </a:cubicBezTo>
                <a:cubicBezTo>
                  <a:pt x="5470" y="15411"/>
                  <a:pt x="5401" y="15442"/>
                  <a:pt x="5358" y="15478"/>
                </a:cubicBezTo>
                <a:cubicBezTo>
                  <a:pt x="5303" y="15524"/>
                  <a:pt x="5269" y="15533"/>
                  <a:pt x="5209" y="15553"/>
                </a:cubicBezTo>
                <a:cubicBezTo>
                  <a:pt x="5192" y="15559"/>
                  <a:pt x="5091" y="15617"/>
                  <a:pt x="5085" y="15627"/>
                </a:cubicBezTo>
                <a:cubicBezTo>
                  <a:pt x="5085" y="15635"/>
                  <a:pt x="5085" y="15644"/>
                  <a:pt x="5085" y="15652"/>
                </a:cubicBezTo>
                <a:cubicBezTo>
                  <a:pt x="5029" y="15652"/>
                  <a:pt x="5116" y="15628"/>
                  <a:pt x="5135" y="15627"/>
                </a:cubicBezTo>
                <a:cubicBezTo>
                  <a:pt x="5227" y="15620"/>
                  <a:pt x="5324" y="15615"/>
                  <a:pt x="5407" y="15652"/>
                </a:cubicBezTo>
                <a:cubicBezTo>
                  <a:pt x="5485" y="15687"/>
                  <a:pt x="5540" y="15752"/>
                  <a:pt x="5581" y="15825"/>
                </a:cubicBezTo>
                <a:cubicBezTo>
                  <a:pt x="5608" y="15873"/>
                  <a:pt x="5633" y="15960"/>
                  <a:pt x="5581" y="15999"/>
                </a:cubicBezTo>
                <a:cubicBezTo>
                  <a:pt x="5527" y="16041"/>
                  <a:pt x="5447" y="16024"/>
                  <a:pt x="5383" y="16024"/>
                </a:cubicBezTo>
                <a:cubicBezTo>
                  <a:pt x="5282" y="16024"/>
                  <a:pt x="5232" y="15968"/>
                  <a:pt x="5135" y="15949"/>
                </a:cubicBezTo>
                <a:cubicBezTo>
                  <a:pt x="5088" y="15940"/>
                  <a:pt x="5035" y="15930"/>
                  <a:pt x="5011" y="15875"/>
                </a:cubicBezTo>
                <a:cubicBezTo>
                  <a:pt x="4997" y="15843"/>
                  <a:pt x="5025" y="15801"/>
                  <a:pt x="5035" y="15776"/>
                </a:cubicBezTo>
              </a:path>
              <a:path w="5657" h="2829">
                <a:moveTo>
                  <a:pt x="5879" y="15404"/>
                </a:moveTo>
                <a:cubicBezTo>
                  <a:pt x="5906" y="15529"/>
                  <a:pt x="5925" y="15650"/>
                  <a:pt x="5953" y="15776"/>
                </a:cubicBezTo>
                <a:cubicBezTo>
                  <a:pt x="5977" y="15886"/>
                  <a:pt x="6002" y="15988"/>
                  <a:pt x="6028" y="16098"/>
                </a:cubicBezTo>
                <a:cubicBezTo>
                  <a:pt x="6039" y="16144"/>
                  <a:pt x="6019" y="16150"/>
                  <a:pt x="6052" y="16173"/>
                </a:cubicBezTo>
              </a:path>
              <a:path w="5657" h="2829">
                <a:moveTo>
                  <a:pt x="6325" y="15453"/>
                </a:moveTo>
                <a:cubicBezTo>
                  <a:pt x="6352" y="15449"/>
                  <a:pt x="6584" y="15447"/>
                  <a:pt x="6623" y="15429"/>
                </a:cubicBezTo>
                <a:cubicBezTo>
                  <a:pt x="6631" y="15421"/>
                  <a:pt x="6640" y="15412"/>
                  <a:pt x="6648" y="15404"/>
                </a:cubicBezTo>
              </a:path>
              <a:path w="5657" h="2829">
                <a:moveTo>
                  <a:pt x="6375" y="15379"/>
                </a:moveTo>
                <a:cubicBezTo>
                  <a:pt x="6359" y="15401"/>
                  <a:pt x="6276" y="15484"/>
                  <a:pt x="6300" y="15528"/>
                </a:cubicBezTo>
                <a:cubicBezTo>
                  <a:pt x="6321" y="15566"/>
                  <a:pt x="6342" y="15594"/>
                  <a:pt x="6375" y="15627"/>
                </a:cubicBezTo>
                <a:cubicBezTo>
                  <a:pt x="6414" y="15666"/>
                  <a:pt x="6448" y="15663"/>
                  <a:pt x="6499" y="15677"/>
                </a:cubicBezTo>
                <a:cubicBezTo>
                  <a:pt x="6549" y="15690"/>
                  <a:pt x="6628" y="15721"/>
                  <a:pt x="6672" y="15751"/>
                </a:cubicBezTo>
                <a:cubicBezTo>
                  <a:pt x="6717" y="15782"/>
                  <a:pt x="6719" y="15876"/>
                  <a:pt x="6722" y="15925"/>
                </a:cubicBezTo>
                <a:cubicBezTo>
                  <a:pt x="6724" y="15963"/>
                  <a:pt x="6704" y="16070"/>
                  <a:pt x="6672" y="16098"/>
                </a:cubicBezTo>
                <a:cubicBezTo>
                  <a:pt x="6632" y="16133"/>
                  <a:pt x="6583" y="16148"/>
                  <a:pt x="6524" y="16148"/>
                </a:cubicBezTo>
                <a:cubicBezTo>
                  <a:pt x="6468" y="16148"/>
                  <a:pt x="6403" y="16162"/>
                  <a:pt x="6375" y="16098"/>
                </a:cubicBezTo>
                <a:cubicBezTo>
                  <a:pt x="6351" y="16044"/>
                  <a:pt x="6354" y="16045"/>
                  <a:pt x="6400" y="15999"/>
                </a:cubicBezTo>
              </a:path>
              <a:path w="5657" h="2829">
                <a:moveTo>
                  <a:pt x="6871" y="15453"/>
                </a:moveTo>
                <a:cubicBezTo>
                  <a:pt x="6886" y="15513"/>
                  <a:pt x="6921" y="15517"/>
                  <a:pt x="6970" y="15553"/>
                </a:cubicBezTo>
                <a:cubicBezTo>
                  <a:pt x="6997" y="15573"/>
                  <a:pt x="7045" y="15602"/>
                  <a:pt x="7069" y="15553"/>
                </a:cubicBezTo>
                <a:cubicBezTo>
                  <a:pt x="7087" y="15517"/>
                  <a:pt x="7109" y="15507"/>
                  <a:pt x="7119" y="15478"/>
                </a:cubicBezTo>
                <a:cubicBezTo>
                  <a:pt x="7094" y="15445"/>
                  <a:pt x="7086" y="15418"/>
                  <a:pt x="7045" y="15404"/>
                </a:cubicBezTo>
                <a:cubicBezTo>
                  <a:pt x="7019" y="15395"/>
                  <a:pt x="6973" y="15404"/>
                  <a:pt x="6945" y="154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920" y="5268960"/>
            <a:ext cx="1089000" cy="776160"/>
          </a:xfrm>
          <a:custGeom>
            <a:avLst/>
            <a:gdLst/>
            <a:ahLst/>
            <a:rect l="l" t="t" r="r" b="b"/>
            <a:pathLst>
              <a:path w="3027" h="2159">
                <a:moveTo>
                  <a:pt x="496" y="15677"/>
                </a:moveTo>
                <a:cubicBezTo>
                  <a:pt x="496" y="15652"/>
                  <a:pt x="496" y="15644"/>
                  <a:pt x="471" y="15652"/>
                </a:cubicBezTo>
                <a:cubicBezTo>
                  <a:pt x="606" y="15652"/>
                  <a:pt x="737" y="15665"/>
                  <a:pt x="868" y="15677"/>
                </a:cubicBezTo>
                <a:cubicBezTo>
                  <a:pt x="1007" y="15690"/>
                  <a:pt x="1151" y="15699"/>
                  <a:pt x="1290" y="15701"/>
                </a:cubicBezTo>
                <a:cubicBezTo>
                  <a:pt x="1778" y="15707"/>
                  <a:pt x="2268" y="15706"/>
                  <a:pt x="2753" y="15677"/>
                </a:cubicBezTo>
                <a:cubicBezTo>
                  <a:pt x="2904" y="15668"/>
                  <a:pt x="3051" y="15666"/>
                  <a:pt x="3200" y="15652"/>
                </a:cubicBezTo>
                <a:cubicBezTo>
                  <a:pt x="3281" y="15644"/>
                  <a:pt x="3374" y="15653"/>
                  <a:pt x="3448" y="15677"/>
                </a:cubicBezTo>
                <a:cubicBezTo>
                  <a:pt x="3508" y="15697"/>
                  <a:pt x="3489" y="15733"/>
                  <a:pt x="3448" y="15652"/>
                </a:cubicBezTo>
              </a:path>
              <a:path w="3027" h="2159">
                <a:moveTo>
                  <a:pt x="1588" y="14635"/>
                </a:moveTo>
                <a:cubicBezTo>
                  <a:pt x="1571" y="14920"/>
                  <a:pt x="1572" y="15152"/>
                  <a:pt x="1588" y="15429"/>
                </a:cubicBezTo>
                <a:cubicBezTo>
                  <a:pt x="1602" y="15684"/>
                  <a:pt x="1626" y="15943"/>
                  <a:pt x="1662" y="16197"/>
                </a:cubicBezTo>
                <a:cubicBezTo>
                  <a:pt x="1683" y="16345"/>
                  <a:pt x="1707" y="16495"/>
                  <a:pt x="1712" y="16644"/>
                </a:cubicBezTo>
                <a:cubicBezTo>
                  <a:pt x="1714" y="16702"/>
                  <a:pt x="1707" y="16843"/>
                  <a:pt x="1736" y="16793"/>
                </a:cubicBezTo>
                <a:cubicBezTo>
                  <a:pt x="1736" y="16748"/>
                  <a:pt x="1733" y="16735"/>
                  <a:pt x="1761" y="16718"/>
                </a:cubicBezTo>
              </a:path>
              <a:path w="3027" h="2159">
                <a:moveTo>
                  <a:pt x="2084" y="15652"/>
                </a:moveTo>
                <a:cubicBezTo>
                  <a:pt x="2084" y="15783"/>
                  <a:pt x="2108" y="15835"/>
                  <a:pt x="2133" y="15949"/>
                </a:cubicBezTo>
                <a:cubicBezTo>
                  <a:pt x="2133" y="15966"/>
                  <a:pt x="2133" y="15982"/>
                  <a:pt x="2133" y="15999"/>
                </a:cubicBezTo>
              </a:path>
              <a:path w="3027" h="2159">
                <a:moveTo>
                  <a:pt x="2356" y="15478"/>
                </a:moveTo>
                <a:cubicBezTo>
                  <a:pt x="2356" y="15573"/>
                  <a:pt x="2374" y="15638"/>
                  <a:pt x="2381" y="15726"/>
                </a:cubicBezTo>
                <a:cubicBezTo>
                  <a:pt x="2385" y="15774"/>
                  <a:pt x="2396" y="15784"/>
                  <a:pt x="2431" y="15801"/>
                </a:cubicBezTo>
              </a:path>
              <a:path w="3027" h="2159">
                <a:moveTo>
                  <a:pt x="2778" y="15602"/>
                </a:moveTo>
                <a:cubicBezTo>
                  <a:pt x="2788" y="15670"/>
                  <a:pt x="2784" y="15792"/>
                  <a:pt x="2828" y="15850"/>
                </a:cubicBezTo>
              </a:path>
              <a:path w="3027" h="2159">
                <a:moveTo>
                  <a:pt x="3076" y="15379"/>
                </a:moveTo>
                <a:cubicBezTo>
                  <a:pt x="3101" y="15484"/>
                  <a:pt x="3117" y="15603"/>
                  <a:pt x="3150" y="15701"/>
                </a:cubicBezTo>
                <a:cubicBezTo>
                  <a:pt x="3164" y="15742"/>
                  <a:pt x="3180" y="15811"/>
                  <a:pt x="3200" y="15751"/>
                </a:cubicBezTo>
              </a:path>
              <a:path w="3027" h="2159">
                <a:moveTo>
                  <a:pt x="3373" y="15354"/>
                </a:moveTo>
                <a:cubicBezTo>
                  <a:pt x="3392" y="15484"/>
                  <a:pt x="3436" y="15622"/>
                  <a:pt x="3448" y="15751"/>
                </a:cubicBezTo>
                <a:cubicBezTo>
                  <a:pt x="3448" y="15867"/>
                  <a:pt x="3448" y="15883"/>
                  <a:pt x="3448" y="159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95880" y="1133640"/>
            <a:ext cx="4294080" cy="3509640"/>
          </a:xfrm>
          <a:custGeom>
            <a:avLst/>
            <a:gdLst/>
            <a:ahLst/>
            <a:rect l="l" t="t" r="r" b="b"/>
            <a:pathLst>
              <a:path w="11932" h="9749">
                <a:moveTo>
                  <a:pt x="11931" y="8310"/>
                </a:moveTo>
                <a:cubicBezTo>
                  <a:pt x="11958" y="8283"/>
                  <a:pt x="11922" y="8260"/>
                  <a:pt x="11956" y="8235"/>
                </a:cubicBezTo>
                <a:cubicBezTo>
                  <a:pt x="11976" y="8220"/>
                  <a:pt x="11989" y="8173"/>
                  <a:pt x="12030" y="8161"/>
                </a:cubicBezTo>
                <a:cubicBezTo>
                  <a:pt x="12342" y="8074"/>
                  <a:pt x="12781" y="8183"/>
                  <a:pt x="13097" y="8186"/>
                </a:cubicBezTo>
                <a:cubicBezTo>
                  <a:pt x="13297" y="8188"/>
                  <a:pt x="13492" y="8205"/>
                  <a:pt x="13692" y="8210"/>
                </a:cubicBezTo>
                <a:cubicBezTo>
                  <a:pt x="13909" y="8215"/>
                  <a:pt x="14121" y="8221"/>
                  <a:pt x="14337" y="8235"/>
                </a:cubicBezTo>
                <a:cubicBezTo>
                  <a:pt x="14585" y="8251"/>
                  <a:pt x="14832" y="8272"/>
                  <a:pt x="15081" y="8285"/>
                </a:cubicBezTo>
                <a:cubicBezTo>
                  <a:pt x="15411" y="8303"/>
                  <a:pt x="15742" y="8325"/>
                  <a:pt x="16073" y="8334"/>
                </a:cubicBezTo>
                <a:cubicBezTo>
                  <a:pt x="16742" y="8353"/>
                  <a:pt x="17415" y="8359"/>
                  <a:pt x="18083" y="8359"/>
                </a:cubicBezTo>
                <a:cubicBezTo>
                  <a:pt x="18570" y="8359"/>
                  <a:pt x="19041" y="8375"/>
                  <a:pt x="19521" y="8409"/>
                </a:cubicBezTo>
                <a:cubicBezTo>
                  <a:pt x="20718" y="8494"/>
                  <a:pt x="22562" y="8689"/>
                  <a:pt x="23713" y="8359"/>
                </a:cubicBezTo>
                <a:cubicBezTo>
                  <a:pt x="23726" y="8355"/>
                  <a:pt x="23857" y="8344"/>
                  <a:pt x="23862" y="8334"/>
                </a:cubicBezTo>
                <a:cubicBezTo>
                  <a:pt x="23902" y="8257"/>
                  <a:pt x="23765" y="8274"/>
                  <a:pt x="23763" y="8235"/>
                </a:cubicBezTo>
              </a:path>
              <a:path w="11932" h="9749">
                <a:moveTo>
                  <a:pt x="15056" y="3150"/>
                </a:moveTo>
                <a:cubicBezTo>
                  <a:pt x="15051" y="3318"/>
                  <a:pt x="15038" y="3481"/>
                  <a:pt x="15032" y="3646"/>
                </a:cubicBezTo>
                <a:cubicBezTo>
                  <a:pt x="15026" y="3822"/>
                  <a:pt x="15022" y="3993"/>
                  <a:pt x="15007" y="4167"/>
                </a:cubicBezTo>
                <a:cubicBezTo>
                  <a:pt x="14990" y="4366"/>
                  <a:pt x="14985" y="4561"/>
                  <a:pt x="14982" y="4762"/>
                </a:cubicBezTo>
                <a:cubicBezTo>
                  <a:pt x="14973" y="5432"/>
                  <a:pt x="14938" y="6102"/>
                  <a:pt x="14932" y="6772"/>
                </a:cubicBezTo>
                <a:cubicBezTo>
                  <a:pt x="14928" y="7144"/>
                  <a:pt x="14957" y="7515"/>
                  <a:pt x="14957" y="7888"/>
                </a:cubicBezTo>
                <a:cubicBezTo>
                  <a:pt x="14957" y="8385"/>
                  <a:pt x="14977" y="8880"/>
                  <a:pt x="14982" y="9376"/>
                </a:cubicBezTo>
                <a:cubicBezTo>
                  <a:pt x="14987" y="9922"/>
                  <a:pt x="15001" y="10468"/>
                  <a:pt x="15007" y="11013"/>
                </a:cubicBezTo>
                <a:cubicBezTo>
                  <a:pt x="15012" y="11420"/>
                  <a:pt x="14997" y="11826"/>
                  <a:pt x="14982" y="12229"/>
                </a:cubicBezTo>
                <a:cubicBezTo>
                  <a:pt x="14977" y="12366"/>
                  <a:pt x="14974" y="12496"/>
                  <a:pt x="14957" y="12626"/>
                </a:cubicBezTo>
                <a:cubicBezTo>
                  <a:pt x="14948" y="12698"/>
                  <a:pt x="14947" y="12767"/>
                  <a:pt x="14908" y="12824"/>
                </a:cubicBezTo>
                <a:cubicBezTo>
                  <a:pt x="14885" y="12857"/>
                  <a:pt x="14876" y="12879"/>
                  <a:pt x="14858" y="12898"/>
                </a:cubicBezTo>
                <a:cubicBezTo>
                  <a:pt x="14833" y="12898"/>
                  <a:pt x="14825" y="12898"/>
                  <a:pt x="14808" y="12898"/>
                </a:cubicBezTo>
              </a:path>
              <a:path w="11932" h="9749">
                <a:moveTo>
                  <a:pt x="14957" y="8310"/>
                </a:moveTo>
                <a:cubicBezTo>
                  <a:pt x="14983" y="8299"/>
                  <a:pt x="15001" y="8302"/>
                  <a:pt x="15032" y="8285"/>
                </a:cubicBezTo>
                <a:cubicBezTo>
                  <a:pt x="15042" y="8279"/>
                  <a:pt x="15078" y="8250"/>
                  <a:pt x="15106" y="8235"/>
                </a:cubicBezTo>
                <a:cubicBezTo>
                  <a:pt x="15150" y="8212"/>
                  <a:pt x="15165" y="8207"/>
                  <a:pt x="15205" y="8186"/>
                </a:cubicBezTo>
                <a:cubicBezTo>
                  <a:pt x="15250" y="8163"/>
                  <a:pt x="15287" y="8135"/>
                  <a:pt x="15329" y="8111"/>
                </a:cubicBezTo>
                <a:cubicBezTo>
                  <a:pt x="15396" y="8073"/>
                  <a:pt x="15458" y="8046"/>
                  <a:pt x="15528" y="8012"/>
                </a:cubicBezTo>
                <a:cubicBezTo>
                  <a:pt x="15586" y="7983"/>
                  <a:pt x="15646" y="7939"/>
                  <a:pt x="15701" y="7913"/>
                </a:cubicBezTo>
                <a:cubicBezTo>
                  <a:pt x="15759" y="7886"/>
                  <a:pt x="15843" y="7834"/>
                  <a:pt x="15900" y="7813"/>
                </a:cubicBezTo>
                <a:cubicBezTo>
                  <a:pt x="15981" y="7784"/>
                  <a:pt x="16045" y="7780"/>
                  <a:pt x="16123" y="7739"/>
                </a:cubicBezTo>
                <a:cubicBezTo>
                  <a:pt x="16195" y="7701"/>
                  <a:pt x="16266" y="7651"/>
                  <a:pt x="16346" y="7615"/>
                </a:cubicBezTo>
                <a:cubicBezTo>
                  <a:pt x="16443" y="7571"/>
                  <a:pt x="16549" y="7540"/>
                  <a:pt x="16644" y="7491"/>
                </a:cubicBezTo>
                <a:cubicBezTo>
                  <a:pt x="16723" y="7451"/>
                  <a:pt x="16808" y="7408"/>
                  <a:pt x="16892" y="7367"/>
                </a:cubicBezTo>
                <a:cubicBezTo>
                  <a:pt x="17021" y="7305"/>
                  <a:pt x="17161" y="7257"/>
                  <a:pt x="17289" y="7193"/>
                </a:cubicBezTo>
                <a:cubicBezTo>
                  <a:pt x="17396" y="7140"/>
                  <a:pt x="17498" y="7067"/>
                  <a:pt x="17611" y="7020"/>
                </a:cubicBezTo>
                <a:cubicBezTo>
                  <a:pt x="17712" y="6978"/>
                  <a:pt x="17809" y="6939"/>
                  <a:pt x="17909" y="6896"/>
                </a:cubicBezTo>
                <a:cubicBezTo>
                  <a:pt x="18000" y="6857"/>
                  <a:pt x="18096" y="6819"/>
                  <a:pt x="18182" y="6772"/>
                </a:cubicBezTo>
                <a:cubicBezTo>
                  <a:pt x="18272" y="6723"/>
                  <a:pt x="18362" y="6694"/>
                  <a:pt x="18455" y="6648"/>
                </a:cubicBezTo>
                <a:cubicBezTo>
                  <a:pt x="18537" y="6607"/>
                  <a:pt x="18602" y="6544"/>
                  <a:pt x="18678" y="6499"/>
                </a:cubicBezTo>
                <a:cubicBezTo>
                  <a:pt x="18777" y="6440"/>
                  <a:pt x="18878" y="6385"/>
                  <a:pt x="18976" y="6325"/>
                </a:cubicBezTo>
                <a:cubicBezTo>
                  <a:pt x="19030" y="6292"/>
                  <a:pt x="19102" y="6278"/>
                  <a:pt x="19149" y="6251"/>
                </a:cubicBezTo>
                <a:cubicBezTo>
                  <a:pt x="19190" y="6227"/>
                  <a:pt x="19236" y="6182"/>
                  <a:pt x="19273" y="6152"/>
                </a:cubicBezTo>
                <a:cubicBezTo>
                  <a:pt x="19295" y="6134"/>
                  <a:pt x="19330" y="6093"/>
                  <a:pt x="19348" y="6077"/>
                </a:cubicBezTo>
                <a:cubicBezTo>
                  <a:pt x="19315" y="6077"/>
                  <a:pt x="19281" y="6077"/>
                  <a:pt x="19248" y="60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86240" y="2705040"/>
            <a:ext cx="196920" cy="9720"/>
          </a:xfrm>
          <a:custGeom>
            <a:avLst/>
            <a:gdLst/>
            <a:ahLst/>
            <a:rect l="l" t="t" r="r" b="b"/>
            <a:pathLst>
              <a:path w="547" h="26">
                <a:moveTo>
                  <a:pt x="14684" y="7541"/>
                </a:moveTo>
                <a:cubicBezTo>
                  <a:pt x="14864" y="7541"/>
                  <a:pt x="15058" y="7564"/>
                  <a:pt x="15230" y="75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59240" y="2490840"/>
            <a:ext cx="223920" cy="1440"/>
          </a:xfrm>
          <a:custGeom>
            <a:avLst/>
            <a:gdLst/>
            <a:ahLst/>
            <a:rect l="l" t="t" r="r" b="b"/>
            <a:pathLst>
              <a:path w="621" h="1">
                <a:moveTo>
                  <a:pt x="14610" y="6921"/>
                </a:moveTo>
                <a:cubicBezTo>
                  <a:pt x="14817" y="6921"/>
                  <a:pt x="15023" y="6921"/>
                  <a:pt x="15230" y="69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4960" y="2259000"/>
            <a:ext cx="233280" cy="19080"/>
          </a:xfrm>
          <a:custGeom>
            <a:avLst/>
            <a:gdLst/>
            <a:ahLst/>
            <a:rect l="l" t="t" r="r" b="b"/>
            <a:pathLst>
              <a:path w="646" h="50">
                <a:moveTo>
                  <a:pt x="14486" y="6325"/>
                </a:moveTo>
                <a:cubicBezTo>
                  <a:pt x="14609" y="6325"/>
                  <a:pt x="14714" y="6316"/>
                  <a:pt x="14833" y="6300"/>
                </a:cubicBezTo>
                <a:cubicBezTo>
                  <a:pt x="14916" y="6289"/>
                  <a:pt x="15002" y="6288"/>
                  <a:pt x="15081" y="6276"/>
                </a:cubicBezTo>
                <a:cubicBezTo>
                  <a:pt x="15098" y="6276"/>
                  <a:pt x="15114" y="6276"/>
                  <a:pt x="15131" y="62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59240" y="2116080"/>
            <a:ext cx="189000" cy="9720"/>
          </a:xfrm>
          <a:custGeom>
            <a:avLst/>
            <a:gdLst/>
            <a:ahLst/>
            <a:rect l="l" t="t" r="r" b="b"/>
            <a:pathLst>
              <a:path w="522" h="26">
                <a:moveTo>
                  <a:pt x="14610" y="5879"/>
                </a:moveTo>
                <a:cubicBezTo>
                  <a:pt x="14773" y="5924"/>
                  <a:pt x="14867" y="5890"/>
                  <a:pt x="15056" y="5879"/>
                </a:cubicBezTo>
                <a:cubicBezTo>
                  <a:pt x="15081" y="5879"/>
                  <a:pt x="15106" y="5879"/>
                  <a:pt x="15131" y="58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43720" y="2313000"/>
            <a:ext cx="849240" cy="438120"/>
          </a:xfrm>
          <a:custGeom>
            <a:avLst/>
            <a:gdLst/>
            <a:ahLst/>
            <a:rect l="l" t="t" r="r" b="b"/>
            <a:pathLst>
              <a:path w="2357" h="1217">
                <a:moveTo>
                  <a:pt x="15677" y="7317"/>
                </a:moveTo>
                <a:cubicBezTo>
                  <a:pt x="15722" y="7379"/>
                  <a:pt x="15719" y="7466"/>
                  <a:pt x="15751" y="7541"/>
                </a:cubicBezTo>
                <a:cubicBezTo>
                  <a:pt x="15779" y="7605"/>
                  <a:pt x="15817" y="7623"/>
                  <a:pt x="15875" y="7640"/>
                </a:cubicBezTo>
                <a:cubicBezTo>
                  <a:pt x="15918" y="7653"/>
                  <a:pt x="15968" y="7640"/>
                  <a:pt x="15999" y="7615"/>
                </a:cubicBezTo>
                <a:cubicBezTo>
                  <a:pt x="16031" y="7589"/>
                  <a:pt x="16088" y="7507"/>
                  <a:pt x="16098" y="7466"/>
                </a:cubicBezTo>
                <a:cubicBezTo>
                  <a:pt x="16110" y="7416"/>
                  <a:pt x="16144" y="7322"/>
                  <a:pt x="16123" y="7268"/>
                </a:cubicBezTo>
                <a:cubicBezTo>
                  <a:pt x="16107" y="7226"/>
                  <a:pt x="16102" y="7182"/>
                  <a:pt x="16073" y="7144"/>
                </a:cubicBezTo>
                <a:cubicBezTo>
                  <a:pt x="16082" y="7205"/>
                  <a:pt x="16094" y="7219"/>
                  <a:pt x="16123" y="7268"/>
                </a:cubicBezTo>
                <a:cubicBezTo>
                  <a:pt x="16152" y="7318"/>
                  <a:pt x="16181" y="7351"/>
                  <a:pt x="16222" y="7392"/>
                </a:cubicBezTo>
                <a:cubicBezTo>
                  <a:pt x="16247" y="7417"/>
                  <a:pt x="16287" y="7437"/>
                  <a:pt x="16321" y="7441"/>
                </a:cubicBezTo>
                <a:cubicBezTo>
                  <a:pt x="16372" y="7447"/>
                  <a:pt x="16386" y="7427"/>
                  <a:pt x="16421" y="7392"/>
                </a:cubicBezTo>
              </a:path>
              <a:path w="2357" h="1217">
                <a:moveTo>
                  <a:pt x="16520" y="6772"/>
                </a:moveTo>
                <a:cubicBezTo>
                  <a:pt x="16545" y="6853"/>
                  <a:pt x="16576" y="6915"/>
                  <a:pt x="16594" y="6995"/>
                </a:cubicBezTo>
                <a:cubicBezTo>
                  <a:pt x="16608" y="7057"/>
                  <a:pt x="16649" y="7114"/>
                  <a:pt x="16669" y="7169"/>
                </a:cubicBezTo>
                <a:cubicBezTo>
                  <a:pt x="16690" y="7227"/>
                  <a:pt x="16728" y="7246"/>
                  <a:pt x="16644" y="7218"/>
                </a:cubicBezTo>
              </a:path>
              <a:path w="2357" h="1217">
                <a:moveTo>
                  <a:pt x="16396" y="7119"/>
                </a:moveTo>
                <a:cubicBezTo>
                  <a:pt x="16458" y="7067"/>
                  <a:pt x="16522" y="7031"/>
                  <a:pt x="16594" y="6995"/>
                </a:cubicBezTo>
                <a:cubicBezTo>
                  <a:pt x="16660" y="6962"/>
                  <a:pt x="16727" y="6929"/>
                  <a:pt x="16793" y="6896"/>
                </a:cubicBezTo>
              </a:path>
              <a:path w="2357" h="1217">
                <a:moveTo>
                  <a:pt x="16892" y="6623"/>
                </a:moveTo>
                <a:cubicBezTo>
                  <a:pt x="16904" y="6538"/>
                  <a:pt x="16925" y="6549"/>
                  <a:pt x="16991" y="6499"/>
                </a:cubicBezTo>
                <a:cubicBezTo>
                  <a:pt x="17016" y="6480"/>
                  <a:pt x="17079" y="6454"/>
                  <a:pt x="17115" y="6474"/>
                </a:cubicBezTo>
                <a:cubicBezTo>
                  <a:pt x="17197" y="6520"/>
                  <a:pt x="17150" y="6588"/>
                  <a:pt x="17140" y="6648"/>
                </a:cubicBezTo>
                <a:cubicBezTo>
                  <a:pt x="17128" y="6719"/>
                  <a:pt x="17102" y="6805"/>
                  <a:pt x="17066" y="6871"/>
                </a:cubicBezTo>
                <a:cubicBezTo>
                  <a:pt x="17038" y="6922"/>
                  <a:pt x="16997" y="6958"/>
                  <a:pt x="16991" y="7020"/>
                </a:cubicBezTo>
                <a:cubicBezTo>
                  <a:pt x="16985" y="7079"/>
                  <a:pt x="17048" y="7091"/>
                  <a:pt x="17090" y="7094"/>
                </a:cubicBezTo>
                <a:cubicBezTo>
                  <a:pt x="17155" y="7098"/>
                  <a:pt x="17235" y="7057"/>
                  <a:pt x="17289" y="7020"/>
                </a:cubicBezTo>
                <a:cubicBezTo>
                  <a:pt x="17339" y="6985"/>
                  <a:pt x="17382" y="6922"/>
                  <a:pt x="17413" y="6871"/>
                </a:cubicBezTo>
                <a:cubicBezTo>
                  <a:pt x="17421" y="6854"/>
                  <a:pt x="17430" y="6838"/>
                  <a:pt x="17438" y="6821"/>
                </a:cubicBezTo>
              </a:path>
              <a:path w="2357" h="1217">
                <a:moveTo>
                  <a:pt x="17438" y="6672"/>
                </a:moveTo>
                <a:cubicBezTo>
                  <a:pt x="17438" y="6727"/>
                  <a:pt x="17427" y="6777"/>
                  <a:pt x="17462" y="6821"/>
                </a:cubicBezTo>
                <a:cubicBezTo>
                  <a:pt x="17494" y="6862"/>
                  <a:pt x="17513" y="6871"/>
                  <a:pt x="17562" y="6871"/>
                </a:cubicBezTo>
                <a:cubicBezTo>
                  <a:pt x="17604" y="6871"/>
                  <a:pt x="17670" y="6877"/>
                  <a:pt x="17686" y="6821"/>
                </a:cubicBezTo>
                <a:cubicBezTo>
                  <a:pt x="17700" y="6771"/>
                  <a:pt x="17711" y="6620"/>
                  <a:pt x="17711" y="6672"/>
                </a:cubicBezTo>
                <a:cubicBezTo>
                  <a:pt x="17711" y="6724"/>
                  <a:pt x="17708" y="6722"/>
                  <a:pt x="17760" y="6722"/>
                </a:cubicBezTo>
                <a:cubicBezTo>
                  <a:pt x="17827" y="6722"/>
                  <a:pt x="17858" y="6717"/>
                  <a:pt x="17909" y="6672"/>
                </a:cubicBezTo>
                <a:cubicBezTo>
                  <a:pt x="17956" y="6631"/>
                  <a:pt x="18016" y="6617"/>
                  <a:pt x="18033" y="6548"/>
                </a:cubicBezTo>
                <a:cubicBezTo>
                  <a:pt x="18046" y="6492"/>
                  <a:pt x="18034" y="6468"/>
                  <a:pt x="18008" y="6449"/>
                </a:cubicBezTo>
                <a:cubicBezTo>
                  <a:pt x="17952" y="6407"/>
                  <a:pt x="17963" y="6431"/>
                  <a:pt x="17909" y="6449"/>
                </a:cubicBezTo>
                <a:cubicBezTo>
                  <a:pt x="17901" y="6449"/>
                  <a:pt x="17892" y="6449"/>
                  <a:pt x="17884" y="6449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42080" y="2197080"/>
            <a:ext cx="241200" cy="115920"/>
          </a:xfrm>
          <a:custGeom>
            <a:avLst/>
            <a:gdLst/>
            <a:ahLst/>
            <a:rect l="l" t="t" r="r" b="b"/>
            <a:pathLst>
              <a:path w="670" h="323">
                <a:moveTo>
                  <a:pt x="18876" y="6102"/>
                </a:moveTo>
                <a:cubicBezTo>
                  <a:pt x="18875" y="6102"/>
                  <a:pt x="18681" y="6102"/>
                  <a:pt x="18752" y="6102"/>
                </a:cubicBezTo>
                <a:cubicBezTo>
                  <a:pt x="18855" y="6102"/>
                  <a:pt x="19329" y="6038"/>
                  <a:pt x="19372" y="6127"/>
                </a:cubicBezTo>
                <a:cubicBezTo>
                  <a:pt x="19400" y="6184"/>
                  <a:pt x="19378" y="6201"/>
                  <a:pt x="19372" y="6251"/>
                </a:cubicBezTo>
                <a:cubicBezTo>
                  <a:pt x="19367" y="6292"/>
                  <a:pt x="19352" y="6312"/>
                  <a:pt x="19348" y="6350"/>
                </a:cubicBezTo>
                <a:cubicBezTo>
                  <a:pt x="19343" y="6395"/>
                  <a:pt x="19352" y="6386"/>
                  <a:pt x="19323" y="6424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57880" y="2884320"/>
            <a:ext cx="1206360" cy="473400"/>
          </a:xfrm>
          <a:custGeom>
            <a:avLst/>
            <a:gdLst/>
            <a:ahLst/>
            <a:rect l="l" t="t" r="r" b="b"/>
            <a:pathLst>
              <a:path w="3349" h="1316">
                <a:moveTo>
                  <a:pt x="16173" y="8086"/>
                </a:moveTo>
                <a:cubicBezTo>
                  <a:pt x="16173" y="8200"/>
                  <a:pt x="16161" y="8300"/>
                  <a:pt x="16148" y="8409"/>
                </a:cubicBezTo>
                <a:cubicBezTo>
                  <a:pt x="16142" y="8458"/>
                  <a:pt x="16148" y="8532"/>
                  <a:pt x="16148" y="8582"/>
                </a:cubicBezTo>
              </a:path>
              <a:path w="3349" h="1316">
                <a:moveTo>
                  <a:pt x="17115" y="8037"/>
                </a:moveTo>
                <a:cubicBezTo>
                  <a:pt x="17123" y="8029"/>
                  <a:pt x="17132" y="8020"/>
                  <a:pt x="17140" y="8012"/>
                </a:cubicBezTo>
                <a:cubicBezTo>
                  <a:pt x="17168" y="8021"/>
                  <a:pt x="17185" y="8046"/>
                  <a:pt x="17190" y="8086"/>
                </a:cubicBezTo>
                <a:cubicBezTo>
                  <a:pt x="17196" y="8139"/>
                  <a:pt x="17211" y="8181"/>
                  <a:pt x="17214" y="8235"/>
                </a:cubicBezTo>
                <a:cubicBezTo>
                  <a:pt x="17217" y="8297"/>
                  <a:pt x="17190" y="8344"/>
                  <a:pt x="17190" y="8409"/>
                </a:cubicBezTo>
                <a:cubicBezTo>
                  <a:pt x="17190" y="8496"/>
                  <a:pt x="17165" y="8569"/>
                  <a:pt x="17165" y="8657"/>
                </a:cubicBezTo>
              </a:path>
              <a:path w="3349" h="1316">
                <a:moveTo>
                  <a:pt x="14883" y="9153"/>
                </a:moveTo>
                <a:cubicBezTo>
                  <a:pt x="15069" y="9087"/>
                  <a:pt x="15015" y="9135"/>
                  <a:pt x="15180" y="9153"/>
                </a:cubicBezTo>
                <a:cubicBezTo>
                  <a:pt x="15230" y="9153"/>
                  <a:pt x="15247" y="9153"/>
                  <a:pt x="15280" y="9153"/>
                </a:cubicBezTo>
              </a:path>
              <a:path w="3349" h="1316">
                <a:moveTo>
                  <a:pt x="14957" y="8310"/>
                </a:moveTo>
                <a:cubicBezTo>
                  <a:pt x="14998" y="8325"/>
                  <a:pt x="15007" y="8331"/>
                  <a:pt x="15056" y="8334"/>
                </a:cubicBezTo>
                <a:cubicBezTo>
                  <a:pt x="15092" y="8336"/>
                  <a:pt x="15116" y="8339"/>
                  <a:pt x="15131" y="8359"/>
                </a:cubicBezTo>
                <a:cubicBezTo>
                  <a:pt x="15164" y="8402"/>
                  <a:pt x="15203" y="8403"/>
                  <a:pt x="15230" y="8434"/>
                </a:cubicBezTo>
                <a:cubicBezTo>
                  <a:pt x="15280" y="8491"/>
                  <a:pt x="15306" y="8459"/>
                  <a:pt x="15354" y="8508"/>
                </a:cubicBezTo>
                <a:cubicBezTo>
                  <a:pt x="15409" y="8563"/>
                  <a:pt x="15416" y="8538"/>
                  <a:pt x="15478" y="8582"/>
                </a:cubicBezTo>
                <a:cubicBezTo>
                  <a:pt x="15527" y="8617"/>
                  <a:pt x="15613" y="8619"/>
                  <a:pt x="15652" y="8657"/>
                </a:cubicBezTo>
                <a:cubicBezTo>
                  <a:pt x="15681" y="8686"/>
                  <a:pt x="15796" y="8763"/>
                  <a:pt x="15850" y="8781"/>
                </a:cubicBezTo>
                <a:cubicBezTo>
                  <a:pt x="15899" y="8797"/>
                  <a:pt x="15980" y="8779"/>
                  <a:pt x="16024" y="8806"/>
                </a:cubicBezTo>
                <a:cubicBezTo>
                  <a:pt x="16087" y="8845"/>
                  <a:pt x="16118" y="8867"/>
                  <a:pt x="16197" y="8880"/>
                </a:cubicBezTo>
                <a:cubicBezTo>
                  <a:pt x="16261" y="8891"/>
                  <a:pt x="16297" y="8910"/>
                  <a:pt x="16371" y="8930"/>
                </a:cubicBezTo>
                <a:cubicBezTo>
                  <a:pt x="16462" y="8954"/>
                  <a:pt x="16435" y="9004"/>
                  <a:pt x="16545" y="9004"/>
                </a:cubicBezTo>
                <a:cubicBezTo>
                  <a:pt x="16632" y="9004"/>
                  <a:pt x="16620" y="9060"/>
                  <a:pt x="16694" y="9079"/>
                </a:cubicBezTo>
                <a:cubicBezTo>
                  <a:pt x="16735" y="9089"/>
                  <a:pt x="16807" y="9098"/>
                  <a:pt x="16842" y="9103"/>
                </a:cubicBezTo>
                <a:cubicBezTo>
                  <a:pt x="16866" y="9107"/>
                  <a:pt x="16892" y="9100"/>
                  <a:pt x="16917" y="9103"/>
                </a:cubicBezTo>
              </a:path>
              <a:path w="3349" h="1316">
                <a:moveTo>
                  <a:pt x="16867" y="8855"/>
                </a:moveTo>
                <a:cubicBezTo>
                  <a:pt x="16923" y="8869"/>
                  <a:pt x="16927" y="8912"/>
                  <a:pt x="16966" y="8954"/>
                </a:cubicBezTo>
                <a:cubicBezTo>
                  <a:pt x="16988" y="8978"/>
                  <a:pt x="17095" y="9069"/>
                  <a:pt x="17115" y="9079"/>
                </a:cubicBezTo>
                <a:cubicBezTo>
                  <a:pt x="17196" y="9117"/>
                  <a:pt x="17135" y="9060"/>
                  <a:pt x="17214" y="9153"/>
                </a:cubicBezTo>
                <a:cubicBezTo>
                  <a:pt x="17151" y="9169"/>
                  <a:pt x="17112" y="9202"/>
                  <a:pt x="17066" y="9227"/>
                </a:cubicBezTo>
                <a:cubicBezTo>
                  <a:pt x="17042" y="9240"/>
                  <a:pt x="16984" y="9229"/>
                  <a:pt x="16966" y="9252"/>
                </a:cubicBezTo>
                <a:cubicBezTo>
                  <a:pt x="16931" y="9295"/>
                  <a:pt x="16920" y="9309"/>
                  <a:pt x="16867" y="9327"/>
                </a:cubicBezTo>
                <a:cubicBezTo>
                  <a:pt x="16848" y="9333"/>
                  <a:pt x="16813" y="9327"/>
                  <a:pt x="16793" y="9327"/>
                </a:cubicBezTo>
              </a:path>
              <a:path w="3349" h="1316">
                <a:moveTo>
                  <a:pt x="15478" y="8855"/>
                </a:moveTo>
                <a:cubicBezTo>
                  <a:pt x="15490" y="8891"/>
                  <a:pt x="15503" y="8895"/>
                  <a:pt x="15503" y="8954"/>
                </a:cubicBezTo>
                <a:cubicBezTo>
                  <a:pt x="15503" y="9032"/>
                  <a:pt x="15509" y="9109"/>
                  <a:pt x="15528" y="9153"/>
                </a:cubicBezTo>
                <a:cubicBezTo>
                  <a:pt x="15539" y="9178"/>
                  <a:pt x="15561" y="9193"/>
                  <a:pt x="15602" y="9178"/>
                </a:cubicBezTo>
                <a:cubicBezTo>
                  <a:pt x="15700" y="9143"/>
                  <a:pt x="15632" y="9121"/>
                  <a:pt x="15701" y="9079"/>
                </a:cubicBezTo>
                <a:cubicBezTo>
                  <a:pt x="15728" y="9062"/>
                  <a:pt x="15749" y="9001"/>
                  <a:pt x="15776" y="8954"/>
                </a:cubicBezTo>
                <a:cubicBezTo>
                  <a:pt x="15776" y="9027"/>
                  <a:pt x="15789" y="9042"/>
                  <a:pt x="15825" y="9103"/>
                </a:cubicBezTo>
                <a:cubicBezTo>
                  <a:pt x="15852" y="9149"/>
                  <a:pt x="15876" y="9161"/>
                  <a:pt x="15925" y="9178"/>
                </a:cubicBezTo>
                <a:cubicBezTo>
                  <a:pt x="15970" y="9193"/>
                  <a:pt x="16049" y="9178"/>
                  <a:pt x="16098" y="9178"/>
                </a:cubicBezTo>
              </a:path>
              <a:path w="3349" h="1316">
                <a:moveTo>
                  <a:pt x="18231" y="8136"/>
                </a:moveTo>
                <a:cubicBezTo>
                  <a:pt x="18231" y="8257"/>
                  <a:pt x="18234" y="8370"/>
                  <a:pt x="18207" y="8483"/>
                </a:cubicBezTo>
                <a:cubicBezTo>
                  <a:pt x="18207" y="8516"/>
                  <a:pt x="18207" y="8533"/>
                  <a:pt x="18207" y="85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91200" y="2928960"/>
            <a:ext cx="9720" cy="125280"/>
          </a:xfrm>
          <a:custGeom>
            <a:avLst/>
            <a:gdLst/>
            <a:ahLst/>
            <a:rect l="l" t="t" r="r" b="b"/>
            <a:pathLst>
              <a:path w="26" h="348">
                <a:moveTo>
                  <a:pt x="19422" y="8136"/>
                </a:moveTo>
                <a:cubicBezTo>
                  <a:pt x="19443" y="8235"/>
                  <a:pt x="19447" y="8309"/>
                  <a:pt x="19447" y="8409"/>
                </a:cubicBezTo>
                <a:cubicBezTo>
                  <a:pt x="19447" y="8434"/>
                  <a:pt x="19447" y="8458"/>
                  <a:pt x="19447" y="84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8040" y="2178000"/>
            <a:ext cx="920880" cy="1090800"/>
          </a:xfrm>
          <a:custGeom>
            <a:avLst/>
            <a:gdLst/>
            <a:ahLst/>
            <a:rect l="l" t="t" r="r" b="b"/>
            <a:pathLst>
              <a:path w="2556" h="3028">
                <a:moveTo>
                  <a:pt x="18157" y="8409"/>
                </a:moveTo>
                <a:lnTo>
                  <a:pt x="18157" y="8409"/>
                </a:lnTo>
              </a:path>
              <a:path w="2556" h="3028">
                <a:moveTo>
                  <a:pt x="18182" y="7491"/>
                </a:moveTo>
                <a:cubicBezTo>
                  <a:pt x="18182" y="7521"/>
                  <a:pt x="18202" y="7497"/>
                  <a:pt x="18182" y="7466"/>
                </a:cubicBezTo>
                <a:cubicBezTo>
                  <a:pt x="18155" y="7475"/>
                  <a:pt x="18136" y="7484"/>
                  <a:pt x="18132" y="7516"/>
                </a:cubicBezTo>
                <a:cubicBezTo>
                  <a:pt x="18132" y="7524"/>
                  <a:pt x="18132" y="7533"/>
                  <a:pt x="18132" y="7541"/>
                </a:cubicBezTo>
                <a:cubicBezTo>
                  <a:pt x="18159" y="7532"/>
                  <a:pt x="18178" y="7523"/>
                  <a:pt x="18182" y="7491"/>
                </a:cubicBezTo>
                <a:cubicBezTo>
                  <a:pt x="18188" y="7442"/>
                  <a:pt x="18164" y="7469"/>
                  <a:pt x="18157" y="7491"/>
                </a:cubicBezTo>
              </a:path>
              <a:path w="2556" h="3028">
                <a:moveTo>
                  <a:pt x="19596" y="6052"/>
                </a:moveTo>
                <a:cubicBezTo>
                  <a:pt x="19558" y="6065"/>
                  <a:pt x="19571" y="6082"/>
                  <a:pt x="19571" y="6127"/>
                </a:cubicBezTo>
                <a:cubicBezTo>
                  <a:pt x="19614" y="6127"/>
                  <a:pt x="19631" y="6122"/>
                  <a:pt x="19645" y="6077"/>
                </a:cubicBezTo>
                <a:cubicBezTo>
                  <a:pt x="19645" y="6069"/>
                  <a:pt x="19645" y="6060"/>
                  <a:pt x="19645" y="6052"/>
                </a:cubicBezTo>
                <a:cubicBezTo>
                  <a:pt x="19616" y="6062"/>
                  <a:pt x="19603" y="6073"/>
                  <a:pt x="19571" y="6102"/>
                </a:cubicBezTo>
                <a:cubicBezTo>
                  <a:pt x="19542" y="6127"/>
                  <a:pt x="19544" y="6146"/>
                  <a:pt x="19521" y="6176"/>
                </a:cubicBezTo>
              </a:path>
              <a:path w="2556" h="3028">
                <a:moveTo>
                  <a:pt x="17190" y="9079"/>
                </a:moveTo>
                <a:cubicBezTo>
                  <a:pt x="17193" y="9074"/>
                  <a:pt x="17260" y="9011"/>
                  <a:pt x="17264" y="9004"/>
                </a:cubicBezTo>
                <a:cubicBezTo>
                  <a:pt x="17288" y="8956"/>
                  <a:pt x="17305" y="8908"/>
                  <a:pt x="17338" y="8855"/>
                </a:cubicBezTo>
                <a:cubicBezTo>
                  <a:pt x="17370" y="8804"/>
                  <a:pt x="17405" y="8756"/>
                  <a:pt x="17438" y="8706"/>
                </a:cubicBezTo>
                <a:cubicBezTo>
                  <a:pt x="17471" y="8657"/>
                  <a:pt x="17504" y="8607"/>
                  <a:pt x="17537" y="8558"/>
                </a:cubicBezTo>
                <a:cubicBezTo>
                  <a:pt x="17569" y="8510"/>
                  <a:pt x="17608" y="8458"/>
                  <a:pt x="17636" y="8409"/>
                </a:cubicBezTo>
                <a:cubicBezTo>
                  <a:pt x="17665" y="8357"/>
                  <a:pt x="17679" y="8333"/>
                  <a:pt x="17711" y="8285"/>
                </a:cubicBezTo>
                <a:cubicBezTo>
                  <a:pt x="17750" y="8226"/>
                  <a:pt x="17797" y="8169"/>
                  <a:pt x="17835" y="8111"/>
                </a:cubicBezTo>
                <a:cubicBezTo>
                  <a:pt x="17885" y="8034"/>
                  <a:pt x="17934" y="7962"/>
                  <a:pt x="17983" y="7888"/>
                </a:cubicBezTo>
                <a:cubicBezTo>
                  <a:pt x="18032" y="7814"/>
                  <a:pt x="18083" y="7741"/>
                  <a:pt x="18132" y="7665"/>
                </a:cubicBezTo>
                <a:cubicBezTo>
                  <a:pt x="18161" y="7621"/>
                  <a:pt x="18201" y="7584"/>
                  <a:pt x="18231" y="7541"/>
                </a:cubicBezTo>
                <a:cubicBezTo>
                  <a:pt x="18265" y="7493"/>
                  <a:pt x="18299" y="7441"/>
                  <a:pt x="18331" y="7392"/>
                </a:cubicBezTo>
                <a:cubicBezTo>
                  <a:pt x="18367" y="7337"/>
                  <a:pt x="18414" y="7295"/>
                  <a:pt x="18455" y="7243"/>
                </a:cubicBezTo>
                <a:cubicBezTo>
                  <a:pt x="18495" y="7192"/>
                  <a:pt x="18539" y="7146"/>
                  <a:pt x="18579" y="7094"/>
                </a:cubicBezTo>
                <a:cubicBezTo>
                  <a:pt x="18627" y="7032"/>
                  <a:pt x="18670" y="6999"/>
                  <a:pt x="18728" y="6945"/>
                </a:cubicBezTo>
                <a:cubicBezTo>
                  <a:pt x="18794" y="6883"/>
                  <a:pt x="18860" y="6832"/>
                  <a:pt x="18926" y="6772"/>
                </a:cubicBezTo>
                <a:cubicBezTo>
                  <a:pt x="18980" y="6723"/>
                  <a:pt x="19053" y="6675"/>
                  <a:pt x="19100" y="6623"/>
                </a:cubicBezTo>
                <a:cubicBezTo>
                  <a:pt x="19142" y="6577"/>
                  <a:pt x="19178" y="6522"/>
                  <a:pt x="19224" y="6474"/>
                </a:cubicBezTo>
                <a:cubicBezTo>
                  <a:pt x="19280" y="6416"/>
                  <a:pt x="19326" y="6365"/>
                  <a:pt x="19372" y="6300"/>
                </a:cubicBezTo>
                <a:cubicBezTo>
                  <a:pt x="19393" y="6270"/>
                  <a:pt x="19417" y="6234"/>
                  <a:pt x="19447" y="6201"/>
                </a:cubicBezTo>
                <a:cubicBezTo>
                  <a:pt x="19481" y="6164"/>
                  <a:pt x="19472" y="6156"/>
                  <a:pt x="19496" y="6127"/>
                </a:cubicBezTo>
                <a:cubicBezTo>
                  <a:pt x="19521" y="6127"/>
                  <a:pt x="19529" y="6127"/>
                  <a:pt x="19521" y="6102"/>
                </a:cubicBezTo>
                <a:cubicBezTo>
                  <a:pt x="19470" y="6123"/>
                  <a:pt x="19429" y="6151"/>
                  <a:pt x="19372" y="6176"/>
                </a:cubicBezTo>
                <a:cubicBezTo>
                  <a:pt x="19300" y="6208"/>
                  <a:pt x="19206" y="6248"/>
                  <a:pt x="19124" y="6276"/>
                </a:cubicBezTo>
                <a:cubicBezTo>
                  <a:pt x="19044" y="6303"/>
                  <a:pt x="18957" y="6324"/>
                  <a:pt x="18876" y="6350"/>
                </a:cubicBezTo>
                <a:cubicBezTo>
                  <a:pt x="18809" y="6372"/>
                  <a:pt x="18777" y="6372"/>
                  <a:pt x="18852" y="6325"/>
                </a:cubicBezTo>
                <a:cubicBezTo>
                  <a:pt x="18950" y="6264"/>
                  <a:pt x="19072" y="6201"/>
                  <a:pt x="19174" y="6152"/>
                </a:cubicBezTo>
                <a:cubicBezTo>
                  <a:pt x="19230" y="6125"/>
                  <a:pt x="19298" y="6102"/>
                  <a:pt x="19348" y="6077"/>
                </a:cubicBezTo>
                <a:cubicBezTo>
                  <a:pt x="19362" y="6115"/>
                  <a:pt x="19378" y="6166"/>
                  <a:pt x="19397" y="6201"/>
                </a:cubicBezTo>
                <a:cubicBezTo>
                  <a:pt x="19426" y="6255"/>
                  <a:pt x="19462" y="6300"/>
                  <a:pt x="19496" y="6350"/>
                </a:cubicBezTo>
                <a:cubicBezTo>
                  <a:pt x="19534" y="6406"/>
                  <a:pt x="19567" y="6453"/>
                  <a:pt x="19621" y="6499"/>
                </a:cubicBezTo>
                <a:cubicBezTo>
                  <a:pt x="19667" y="6538"/>
                  <a:pt x="19686" y="6555"/>
                  <a:pt x="19720" y="6598"/>
                </a:cubicBezTo>
                <a:cubicBezTo>
                  <a:pt x="19729" y="6609"/>
                  <a:pt x="19732" y="6631"/>
                  <a:pt x="19745" y="6648"/>
                </a:cubicBezTo>
              </a:path>
              <a:path w="2556" h="3028">
                <a:moveTo>
                  <a:pt x="18380" y="7739"/>
                </a:moveTo>
                <a:cubicBezTo>
                  <a:pt x="18409" y="7688"/>
                  <a:pt x="18438" y="7657"/>
                  <a:pt x="18479" y="7615"/>
                </a:cubicBezTo>
                <a:cubicBezTo>
                  <a:pt x="18504" y="7589"/>
                  <a:pt x="18544" y="7569"/>
                  <a:pt x="18579" y="7565"/>
                </a:cubicBezTo>
                <a:cubicBezTo>
                  <a:pt x="18632" y="7559"/>
                  <a:pt x="18628" y="7602"/>
                  <a:pt x="18628" y="7640"/>
                </a:cubicBezTo>
                <a:cubicBezTo>
                  <a:pt x="18628" y="7702"/>
                  <a:pt x="18605" y="7758"/>
                  <a:pt x="18579" y="7813"/>
                </a:cubicBezTo>
                <a:cubicBezTo>
                  <a:pt x="18552" y="7870"/>
                  <a:pt x="18528" y="7939"/>
                  <a:pt x="18504" y="7987"/>
                </a:cubicBezTo>
                <a:cubicBezTo>
                  <a:pt x="18479" y="8037"/>
                  <a:pt x="18457" y="8066"/>
                  <a:pt x="18479" y="8111"/>
                </a:cubicBezTo>
                <a:cubicBezTo>
                  <a:pt x="18516" y="8129"/>
                  <a:pt x="18554" y="8119"/>
                  <a:pt x="18604" y="8086"/>
                </a:cubicBezTo>
                <a:cubicBezTo>
                  <a:pt x="18649" y="8056"/>
                  <a:pt x="18678" y="8006"/>
                  <a:pt x="18703" y="7962"/>
                </a:cubicBezTo>
              </a:path>
              <a:path w="2556" h="3028">
                <a:moveTo>
                  <a:pt x="18852" y="7689"/>
                </a:moveTo>
                <a:cubicBezTo>
                  <a:pt x="18852" y="7758"/>
                  <a:pt x="18846" y="7866"/>
                  <a:pt x="18901" y="7913"/>
                </a:cubicBezTo>
                <a:cubicBezTo>
                  <a:pt x="18943" y="7950"/>
                  <a:pt x="19056" y="7893"/>
                  <a:pt x="19075" y="7863"/>
                </a:cubicBezTo>
                <a:cubicBezTo>
                  <a:pt x="19092" y="7836"/>
                  <a:pt x="19100" y="7801"/>
                  <a:pt x="19100" y="7764"/>
                </a:cubicBezTo>
                <a:cubicBezTo>
                  <a:pt x="19100" y="7739"/>
                  <a:pt x="19100" y="7731"/>
                  <a:pt x="19100" y="7714"/>
                </a:cubicBezTo>
                <a:cubicBezTo>
                  <a:pt x="19123" y="7722"/>
                  <a:pt x="19146" y="7723"/>
                  <a:pt x="19174" y="7739"/>
                </a:cubicBezTo>
                <a:cubicBezTo>
                  <a:pt x="19233" y="7772"/>
                  <a:pt x="19228" y="7746"/>
                  <a:pt x="19298" y="7739"/>
                </a:cubicBezTo>
                <a:cubicBezTo>
                  <a:pt x="19355" y="7733"/>
                  <a:pt x="19383" y="7703"/>
                  <a:pt x="19422" y="7665"/>
                </a:cubicBezTo>
                <a:cubicBezTo>
                  <a:pt x="19470" y="7617"/>
                  <a:pt x="19437" y="7590"/>
                  <a:pt x="19422" y="7541"/>
                </a:cubicBezTo>
                <a:cubicBezTo>
                  <a:pt x="19408" y="7493"/>
                  <a:pt x="19378" y="7480"/>
                  <a:pt x="19323" y="7466"/>
                </a:cubicBezTo>
                <a:cubicBezTo>
                  <a:pt x="19283" y="7456"/>
                  <a:pt x="19282" y="7464"/>
                  <a:pt x="19273" y="7491"/>
                </a:cubicBezTo>
              </a:path>
              <a:path w="2556" h="3028">
                <a:moveTo>
                  <a:pt x="17835" y="7665"/>
                </a:moveTo>
                <a:cubicBezTo>
                  <a:pt x="17898" y="7659"/>
                  <a:pt x="17971" y="7657"/>
                  <a:pt x="18033" y="7640"/>
                </a:cubicBezTo>
                <a:cubicBezTo>
                  <a:pt x="18093" y="7623"/>
                  <a:pt x="18117" y="7615"/>
                  <a:pt x="18182" y="7615"/>
                </a:cubicBezTo>
                <a:cubicBezTo>
                  <a:pt x="18207" y="7615"/>
                  <a:pt x="18231" y="7615"/>
                  <a:pt x="18256" y="7615"/>
                </a:cubicBezTo>
                <a:cubicBezTo>
                  <a:pt x="18231" y="7646"/>
                  <a:pt x="18190" y="7703"/>
                  <a:pt x="18182" y="7739"/>
                </a:cubicBezTo>
                <a:cubicBezTo>
                  <a:pt x="18169" y="7801"/>
                  <a:pt x="18192" y="7817"/>
                  <a:pt x="18207" y="7863"/>
                </a:cubicBezTo>
                <a:cubicBezTo>
                  <a:pt x="18207" y="7871"/>
                  <a:pt x="18207" y="7880"/>
                  <a:pt x="18207" y="78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fd293"/>
                </a:solidFill>
                <a:latin typeface="Arial"/>
              </a:rPr>
              <a:t>Lesson 6.3</a:t>
            </a:r>
            <a:br>
              <a:rPr sz="8500"/>
            </a:br>
            <a:r>
              <a:rPr b="0" lang="en-US" sz="8500" spc="-1" strike="noStrike">
                <a:solidFill>
                  <a:srgbClr val="dfd293"/>
                </a:solidFill>
                <a:latin typeface="Arial"/>
              </a:rPr>
              <a:t>part four</a:t>
            </a:r>
            <a:endParaRPr b="0" lang="en-US" sz="85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Review from Friday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34. .  W=i – 2j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t vect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direction of the given v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52360" y="2813040"/>
            <a:ext cx="1697040" cy="652320"/>
          </a:xfrm>
          <a:custGeom>
            <a:avLst/>
            <a:gdLst/>
            <a:ahLst/>
            <a:rect l="l" t="t" r="r" b="b"/>
            <a:pathLst>
              <a:path w="4714" h="1812">
                <a:moveTo>
                  <a:pt x="4118" y="7838"/>
                </a:moveTo>
                <a:cubicBezTo>
                  <a:pt x="4051" y="7905"/>
                  <a:pt x="3952" y="7970"/>
                  <a:pt x="3894" y="8037"/>
                </a:cubicBezTo>
                <a:cubicBezTo>
                  <a:pt x="3844" y="8095"/>
                  <a:pt x="3769" y="8143"/>
                  <a:pt x="3721" y="8210"/>
                </a:cubicBezTo>
                <a:cubicBezTo>
                  <a:pt x="3659" y="8295"/>
                  <a:pt x="3555" y="8354"/>
                  <a:pt x="3497" y="8409"/>
                </a:cubicBezTo>
                <a:cubicBezTo>
                  <a:pt x="3447" y="8457"/>
                  <a:pt x="3360" y="8522"/>
                  <a:pt x="3324" y="8558"/>
                </a:cubicBezTo>
                <a:cubicBezTo>
                  <a:pt x="3288" y="8594"/>
                  <a:pt x="3253" y="8622"/>
                  <a:pt x="3225" y="8657"/>
                </a:cubicBezTo>
                <a:cubicBezTo>
                  <a:pt x="3217" y="8673"/>
                  <a:pt x="3208" y="8690"/>
                  <a:pt x="3200" y="8706"/>
                </a:cubicBezTo>
                <a:cubicBezTo>
                  <a:pt x="3229" y="8727"/>
                  <a:pt x="3276" y="8759"/>
                  <a:pt x="3299" y="8781"/>
                </a:cubicBezTo>
                <a:cubicBezTo>
                  <a:pt x="3384" y="8863"/>
                  <a:pt x="3460" y="8851"/>
                  <a:pt x="3547" y="8930"/>
                </a:cubicBezTo>
                <a:cubicBezTo>
                  <a:pt x="3640" y="9016"/>
                  <a:pt x="3753" y="9018"/>
                  <a:pt x="3845" y="9079"/>
                </a:cubicBezTo>
                <a:cubicBezTo>
                  <a:pt x="3911" y="9123"/>
                  <a:pt x="4005" y="9200"/>
                  <a:pt x="4068" y="9227"/>
                </a:cubicBezTo>
                <a:cubicBezTo>
                  <a:pt x="4119" y="9249"/>
                  <a:pt x="4144" y="9329"/>
                  <a:pt x="4192" y="9302"/>
                </a:cubicBezTo>
                <a:cubicBezTo>
                  <a:pt x="4200" y="9277"/>
                  <a:pt x="4209" y="9252"/>
                  <a:pt x="4217" y="9227"/>
                </a:cubicBezTo>
              </a:path>
              <a:path w="4714" h="1812">
                <a:moveTo>
                  <a:pt x="4911" y="7838"/>
                </a:moveTo>
                <a:cubicBezTo>
                  <a:pt x="4911" y="7900"/>
                  <a:pt x="4921" y="7929"/>
                  <a:pt x="4936" y="7987"/>
                </a:cubicBezTo>
                <a:cubicBezTo>
                  <a:pt x="4957" y="8070"/>
                  <a:pt x="4920" y="8160"/>
                  <a:pt x="4911" y="8235"/>
                </a:cubicBezTo>
                <a:cubicBezTo>
                  <a:pt x="4897" y="8350"/>
                  <a:pt x="4902" y="8468"/>
                  <a:pt x="4887" y="8582"/>
                </a:cubicBezTo>
                <a:cubicBezTo>
                  <a:pt x="4875" y="8672"/>
                  <a:pt x="4865" y="8765"/>
                  <a:pt x="4862" y="8855"/>
                </a:cubicBezTo>
                <a:cubicBezTo>
                  <a:pt x="4860" y="8908"/>
                  <a:pt x="4854" y="8978"/>
                  <a:pt x="4837" y="9029"/>
                </a:cubicBezTo>
                <a:cubicBezTo>
                  <a:pt x="4815" y="9095"/>
                  <a:pt x="4812" y="9083"/>
                  <a:pt x="4812" y="9153"/>
                </a:cubicBezTo>
              </a:path>
              <a:path w="4714" h="1812">
                <a:moveTo>
                  <a:pt x="5432" y="9079"/>
                </a:moveTo>
                <a:cubicBezTo>
                  <a:pt x="5424" y="9079"/>
                  <a:pt x="5415" y="9079"/>
                  <a:pt x="5407" y="9079"/>
                </a:cubicBezTo>
                <a:cubicBezTo>
                  <a:pt x="5407" y="9146"/>
                  <a:pt x="5394" y="9197"/>
                  <a:pt x="5383" y="9252"/>
                </a:cubicBezTo>
                <a:cubicBezTo>
                  <a:pt x="5371" y="9317"/>
                  <a:pt x="5372" y="9394"/>
                  <a:pt x="5333" y="9451"/>
                </a:cubicBezTo>
                <a:cubicBezTo>
                  <a:pt x="5309" y="9487"/>
                  <a:pt x="5261" y="9574"/>
                  <a:pt x="5234" y="9599"/>
                </a:cubicBezTo>
                <a:cubicBezTo>
                  <a:pt x="5226" y="9599"/>
                  <a:pt x="5217" y="9599"/>
                  <a:pt x="5209" y="9599"/>
                </a:cubicBezTo>
                <a:cubicBezTo>
                  <a:pt x="5194" y="9643"/>
                  <a:pt x="5165" y="9614"/>
                  <a:pt x="5209" y="9599"/>
                </a:cubicBezTo>
              </a:path>
              <a:path w="4714" h="1812">
                <a:moveTo>
                  <a:pt x="5854" y="8409"/>
                </a:moveTo>
                <a:cubicBezTo>
                  <a:pt x="6003" y="8409"/>
                  <a:pt x="6400" y="8409"/>
                  <a:pt x="6251" y="8409"/>
                </a:cubicBezTo>
              </a:path>
              <a:path w="4714" h="1812">
                <a:moveTo>
                  <a:pt x="6375" y="8161"/>
                </a:moveTo>
                <a:cubicBezTo>
                  <a:pt x="6429" y="8082"/>
                  <a:pt x="6458" y="8048"/>
                  <a:pt x="6548" y="8012"/>
                </a:cubicBezTo>
                <a:cubicBezTo>
                  <a:pt x="6597" y="7992"/>
                  <a:pt x="6643" y="7987"/>
                  <a:pt x="6697" y="7987"/>
                </a:cubicBezTo>
                <a:cubicBezTo>
                  <a:pt x="6750" y="7987"/>
                  <a:pt x="6758" y="7999"/>
                  <a:pt x="6796" y="8037"/>
                </a:cubicBezTo>
                <a:cubicBezTo>
                  <a:pt x="6833" y="8074"/>
                  <a:pt x="6821" y="8109"/>
                  <a:pt x="6821" y="8161"/>
                </a:cubicBezTo>
                <a:cubicBezTo>
                  <a:pt x="6821" y="8216"/>
                  <a:pt x="6818" y="8293"/>
                  <a:pt x="6772" y="8334"/>
                </a:cubicBezTo>
                <a:cubicBezTo>
                  <a:pt x="6737" y="8365"/>
                  <a:pt x="6709" y="8432"/>
                  <a:pt x="6672" y="8483"/>
                </a:cubicBezTo>
                <a:cubicBezTo>
                  <a:pt x="6615" y="8560"/>
                  <a:pt x="6535" y="8631"/>
                  <a:pt x="6474" y="8706"/>
                </a:cubicBezTo>
                <a:cubicBezTo>
                  <a:pt x="6424" y="8767"/>
                  <a:pt x="6347" y="8832"/>
                  <a:pt x="6325" y="8880"/>
                </a:cubicBezTo>
                <a:cubicBezTo>
                  <a:pt x="6305" y="8920"/>
                  <a:pt x="6307" y="8937"/>
                  <a:pt x="6276" y="8930"/>
                </a:cubicBezTo>
                <a:cubicBezTo>
                  <a:pt x="6380" y="8930"/>
                  <a:pt x="6475" y="8938"/>
                  <a:pt x="6573" y="8954"/>
                </a:cubicBezTo>
                <a:cubicBezTo>
                  <a:pt x="6671" y="8970"/>
                  <a:pt x="6686" y="8964"/>
                  <a:pt x="6772" y="9004"/>
                </a:cubicBezTo>
                <a:cubicBezTo>
                  <a:pt x="6787" y="9011"/>
                  <a:pt x="6829" y="9004"/>
                  <a:pt x="6846" y="9004"/>
                </a:cubicBezTo>
                <a:cubicBezTo>
                  <a:pt x="6832" y="8920"/>
                  <a:pt x="6840" y="8984"/>
                  <a:pt x="6821" y="8930"/>
                </a:cubicBezTo>
              </a:path>
              <a:path w="4714" h="1812">
                <a:moveTo>
                  <a:pt x="7069" y="7813"/>
                </a:moveTo>
                <a:cubicBezTo>
                  <a:pt x="7117" y="7861"/>
                  <a:pt x="7167" y="7896"/>
                  <a:pt x="7218" y="7938"/>
                </a:cubicBezTo>
                <a:cubicBezTo>
                  <a:pt x="7281" y="7989"/>
                  <a:pt x="7354" y="8014"/>
                  <a:pt x="7417" y="8062"/>
                </a:cubicBezTo>
                <a:cubicBezTo>
                  <a:pt x="7485" y="8115"/>
                  <a:pt x="7560" y="8175"/>
                  <a:pt x="7640" y="8210"/>
                </a:cubicBezTo>
                <a:cubicBezTo>
                  <a:pt x="7707" y="8239"/>
                  <a:pt x="7776" y="8268"/>
                  <a:pt x="7838" y="8310"/>
                </a:cubicBezTo>
                <a:cubicBezTo>
                  <a:pt x="7892" y="8347"/>
                  <a:pt x="7894" y="8322"/>
                  <a:pt x="7888" y="8334"/>
                </a:cubicBezTo>
                <a:cubicBezTo>
                  <a:pt x="7877" y="8356"/>
                  <a:pt x="7843" y="8397"/>
                  <a:pt x="7838" y="8409"/>
                </a:cubicBezTo>
                <a:cubicBezTo>
                  <a:pt x="7808" y="8481"/>
                  <a:pt x="7763" y="8517"/>
                  <a:pt x="7714" y="8582"/>
                </a:cubicBezTo>
                <a:cubicBezTo>
                  <a:pt x="7646" y="8672"/>
                  <a:pt x="7579" y="8760"/>
                  <a:pt x="7516" y="8855"/>
                </a:cubicBezTo>
                <a:cubicBezTo>
                  <a:pt x="7461" y="8938"/>
                  <a:pt x="7393" y="8953"/>
                  <a:pt x="7317" y="9029"/>
                </a:cubicBezTo>
                <a:cubicBezTo>
                  <a:pt x="7277" y="9069"/>
                  <a:pt x="7161" y="9129"/>
                  <a:pt x="7144" y="9153"/>
                </a:cubicBezTo>
                <a:cubicBezTo>
                  <a:pt x="7144" y="9188"/>
                  <a:pt x="7139" y="9205"/>
                  <a:pt x="7119" y="92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84720" y="2697120"/>
            <a:ext cx="2965320" cy="714240"/>
          </a:xfrm>
          <a:custGeom>
            <a:avLst/>
            <a:gdLst/>
            <a:ahLst/>
            <a:rect l="l" t="t" r="r" b="b"/>
            <a:pathLst>
              <a:path w="8236" h="1985">
                <a:moveTo>
                  <a:pt x="9401" y="8086"/>
                </a:moveTo>
                <a:cubicBezTo>
                  <a:pt x="9484" y="8073"/>
                  <a:pt x="9566" y="8074"/>
                  <a:pt x="9649" y="8062"/>
                </a:cubicBezTo>
                <a:cubicBezTo>
                  <a:pt x="9713" y="8053"/>
                  <a:pt x="9775" y="8020"/>
                  <a:pt x="9847" y="8037"/>
                </a:cubicBezTo>
                <a:cubicBezTo>
                  <a:pt x="9898" y="8049"/>
                  <a:pt x="9892" y="8034"/>
                  <a:pt x="9922" y="8086"/>
                </a:cubicBezTo>
                <a:cubicBezTo>
                  <a:pt x="9939" y="8115"/>
                  <a:pt x="9946" y="8316"/>
                  <a:pt x="9947" y="8334"/>
                </a:cubicBezTo>
                <a:cubicBezTo>
                  <a:pt x="9954" y="8436"/>
                  <a:pt x="9956" y="8532"/>
                  <a:pt x="9971" y="8632"/>
                </a:cubicBezTo>
                <a:cubicBezTo>
                  <a:pt x="9986" y="8732"/>
                  <a:pt x="9985" y="8829"/>
                  <a:pt x="9996" y="8930"/>
                </a:cubicBezTo>
                <a:cubicBezTo>
                  <a:pt x="10004" y="9006"/>
                  <a:pt x="10013" y="9077"/>
                  <a:pt x="10021" y="9153"/>
                </a:cubicBezTo>
                <a:cubicBezTo>
                  <a:pt x="10021" y="9161"/>
                  <a:pt x="10021" y="9170"/>
                  <a:pt x="10021" y="9178"/>
                </a:cubicBezTo>
                <a:cubicBezTo>
                  <a:pt x="10042" y="9095"/>
                  <a:pt x="10046" y="9111"/>
                  <a:pt x="10071" y="9029"/>
                </a:cubicBezTo>
                <a:cubicBezTo>
                  <a:pt x="10118" y="8877"/>
                  <a:pt x="10161" y="8715"/>
                  <a:pt x="10195" y="8558"/>
                </a:cubicBezTo>
                <a:cubicBezTo>
                  <a:pt x="10218" y="8449"/>
                  <a:pt x="10243" y="8345"/>
                  <a:pt x="10269" y="8235"/>
                </a:cubicBezTo>
                <a:cubicBezTo>
                  <a:pt x="10297" y="8119"/>
                  <a:pt x="10324" y="8004"/>
                  <a:pt x="10344" y="7888"/>
                </a:cubicBezTo>
                <a:cubicBezTo>
                  <a:pt x="10357" y="7812"/>
                  <a:pt x="10346" y="7713"/>
                  <a:pt x="10368" y="7640"/>
                </a:cubicBezTo>
                <a:cubicBezTo>
                  <a:pt x="10373" y="7622"/>
                  <a:pt x="10407" y="7525"/>
                  <a:pt x="10418" y="7516"/>
                </a:cubicBezTo>
                <a:cubicBezTo>
                  <a:pt x="10480" y="7466"/>
                  <a:pt x="10464" y="7516"/>
                  <a:pt x="10517" y="7516"/>
                </a:cubicBezTo>
                <a:cubicBezTo>
                  <a:pt x="10579" y="7516"/>
                  <a:pt x="10654" y="7552"/>
                  <a:pt x="10716" y="7565"/>
                </a:cubicBezTo>
                <a:cubicBezTo>
                  <a:pt x="10864" y="7595"/>
                  <a:pt x="11037" y="7605"/>
                  <a:pt x="11187" y="7615"/>
                </a:cubicBezTo>
                <a:cubicBezTo>
                  <a:pt x="11854" y="7658"/>
                  <a:pt x="12530" y="7603"/>
                  <a:pt x="13196" y="7640"/>
                </a:cubicBezTo>
                <a:cubicBezTo>
                  <a:pt x="13502" y="7657"/>
                  <a:pt x="13814" y="7632"/>
                  <a:pt x="14114" y="7615"/>
                </a:cubicBezTo>
                <a:cubicBezTo>
                  <a:pt x="14187" y="7611"/>
                  <a:pt x="14258" y="7637"/>
                  <a:pt x="14288" y="7565"/>
                </a:cubicBezTo>
                <a:cubicBezTo>
                  <a:pt x="14255" y="7565"/>
                  <a:pt x="14238" y="7565"/>
                  <a:pt x="14213" y="7565"/>
                </a:cubicBezTo>
              </a:path>
              <a:path w="8236" h="1985">
                <a:moveTo>
                  <a:pt x="10765" y="8111"/>
                </a:moveTo>
                <a:cubicBezTo>
                  <a:pt x="10798" y="8155"/>
                  <a:pt x="10790" y="8177"/>
                  <a:pt x="10790" y="8235"/>
                </a:cubicBezTo>
                <a:cubicBezTo>
                  <a:pt x="10790" y="8379"/>
                  <a:pt x="10781" y="8517"/>
                  <a:pt x="10765" y="8657"/>
                </a:cubicBezTo>
                <a:cubicBezTo>
                  <a:pt x="10754" y="8753"/>
                  <a:pt x="10745" y="8860"/>
                  <a:pt x="10740" y="8954"/>
                </a:cubicBezTo>
                <a:cubicBezTo>
                  <a:pt x="10736" y="9032"/>
                  <a:pt x="10721" y="9103"/>
                  <a:pt x="10716" y="9178"/>
                </a:cubicBezTo>
                <a:cubicBezTo>
                  <a:pt x="10708" y="9309"/>
                  <a:pt x="10740" y="9127"/>
                  <a:pt x="10740" y="9103"/>
                </a:cubicBezTo>
              </a:path>
              <a:path w="8236" h="1985">
                <a:moveTo>
                  <a:pt x="11212" y="7987"/>
                </a:moveTo>
                <a:cubicBezTo>
                  <a:pt x="11311" y="7906"/>
                  <a:pt x="11314" y="7913"/>
                  <a:pt x="11435" y="7913"/>
                </a:cubicBezTo>
                <a:cubicBezTo>
                  <a:pt x="11467" y="7913"/>
                  <a:pt x="11568" y="7971"/>
                  <a:pt x="11559" y="8012"/>
                </a:cubicBezTo>
                <a:cubicBezTo>
                  <a:pt x="11553" y="8041"/>
                  <a:pt x="11512" y="8117"/>
                  <a:pt x="11485" y="8136"/>
                </a:cubicBezTo>
                <a:cubicBezTo>
                  <a:pt x="11432" y="8174"/>
                  <a:pt x="11407" y="8213"/>
                  <a:pt x="11361" y="8260"/>
                </a:cubicBezTo>
                <a:cubicBezTo>
                  <a:pt x="11333" y="8289"/>
                  <a:pt x="11320" y="8298"/>
                  <a:pt x="11311" y="8334"/>
                </a:cubicBezTo>
                <a:cubicBezTo>
                  <a:pt x="11402" y="8334"/>
                  <a:pt x="11493" y="8334"/>
                  <a:pt x="11584" y="8334"/>
                </a:cubicBezTo>
              </a:path>
              <a:path w="8236" h="1985">
                <a:moveTo>
                  <a:pt x="12080" y="8334"/>
                </a:moveTo>
                <a:cubicBezTo>
                  <a:pt x="12065" y="8439"/>
                  <a:pt x="12055" y="8528"/>
                  <a:pt x="12055" y="8632"/>
                </a:cubicBezTo>
                <a:cubicBezTo>
                  <a:pt x="12055" y="8682"/>
                  <a:pt x="12064" y="8758"/>
                  <a:pt x="12080" y="8806"/>
                </a:cubicBezTo>
                <a:cubicBezTo>
                  <a:pt x="12100" y="8846"/>
                  <a:pt x="12109" y="8852"/>
                  <a:pt x="12105" y="8880"/>
                </a:cubicBezTo>
              </a:path>
              <a:path w="8236" h="1985">
                <a:moveTo>
                  <a:pt x="11832" y="8632"/>
                </a:moveTo>
                <a:cubicBezTo>
                  <a:pt x="11981" y="8632"/>
                  <a:pt x="12129" y="8632"/>
                  <a:pt x="12278" y="8632"/>
                </a:cubicBezTo>
              </a:path>
              <a:path w="8236" h="1985">
                <a:moveTo>
                  <a:pt x="12874" y="8186"/>
                </a:moveTo>
                <a:cubicBezTo>
                  <a:pt x="12832" y="8245"/>
                  <a:pt x="12790" y="8301"/>
                  <a:pt x="12750" y="8359"/>
                </a:cubicBezTo>
                <a:cubicBezTo>
                  <a:pt x="12682" y="8457"/>
                  <a:pt x="12652" y="8555"/>
                  <a:pt x="12601" y="8657"/>
                </a:cubicBezTo>
                <a:cubicBezTo>
                  <a:pt x="12565" y="8729"/>
                  <a:pt x="12499" y="8866"/>
                  <a:pt x="12502" y="8954"/>
                </a:cubicBezTo>
                <a:cubicBezTo>
                  <a:pt x="12504" y="9008"/>
                  <a:pt x="12530" y="9185"/>
                  <a:pt x="12551" y="9227"/>
                </a:cubicBezTo>
                <a:cubicBezTo>
                  <a:pt x="12559" y="9244"/>
                  <a:pt x="12722" y="9314"/>
                  <a:pt x="12750" y="9302"/>
                </a:cubicBezTo>
                <a:cubicBezTo>
                  <a:pt x="12796" y="9255"/>
                  <a:pt x="12808" y="9241"/>
                  <a:pt x="12849" y="9227"/>
                </a:cubicBezTo>
              </a:path>
              <a:path w="8236" h="1985">
                <a:moveTo>
                  <a:pt x="12874" y="8582"/>
                </a:moveTo>
                <a:cubicBezTo>
                  <a:pt x="12977" y="8582"/>
                  <a:pt x="13081" y="8575"/>
                  <a:pt x="13171" y="8558"/>
                </a:cubicBezTo>
                <a:cubicBezTo>
                  <a:pt x="13188" y="8558"/>
                  <a:pt x="13204" y="8558"/>
                  <a:pt x="13221" y="8558"/>
                </a:cubicBezTo>
              </a:path>
              <a:path w="8236" h="1985">
                <a:moveTo>
                  <a:pt x="13345" y="8334"/>
                </a:moveTo>
                <a:cubicBezTo>
                  <a:pt x="13408" y="8311"/>
                  <a:pt x="13451" y="8310"/>
                  <a:pt x="13519" y="8310"/>
                </a:cubicBezTo>
                <a:cubicBezTo>
                  <a:pt x="13564" y="8310"/>
                  <a:pt x="13640" y="8319"/>
                  <a:pt x="13667" y="8359"/>
                </a:cubicBezTo>
                <a:cubicBezTo>
                  <a:pt x="13692" y="8395"/>
                  <a:pt x="13707" y="8464"/>
                  <a:pt x="13692" y="8508"/>
                </a:cubicBezTo>
                <a:cubicBezTo>
                  <a:pt x="13664" y="8592"/>
                  <a:pt x="13617" y="8666"/>
                  <a:pt x="13568" y="8731"/>
                </a:cubicBezTo>
                <a:cubicBezTo>
                  <a:pt x="13523" y="8792"/>
                  <a:pt x="13482" y="8890"/>
                  <a:pt x="13419" y="8930"/>
                </a:cubicBezTo>
                <a:cubicBezTo>
                  <a:pt x="13337" y="8982"/>
                  <a:pt x="13309" y="8980"/>
                  <a:pt x="13295" y="9079"/>
                </a:cubicBezTo>
                <a:cubicBezTo>
                  <a:pt x="13459" y="9079"/>
                  <a:pt x="13720" y="9132"/>
                  <a:pt x="13841" y="9029"/>
                </a:cubicBezTo>
                <a:cubicBezTo>
                  <a:pt x="13849" y="9021"/>
                  <a:pt x="13858" y="9012"/>
                  <a:pt x="13866" y="9004"/>
                </a:cubicBezTo>
              </a:path>
              <a:path w="8236" h="1985">
                <a:moveTo>
                  <a:pt x="13816" y="8161"/>
                </a:moveTo>
                <a:cubicBezTo>
                  <a:pt x="13864" y="8205"/>
                  <a:pt x="14005" y="8302"/>
                  <a:pt x="14039" y="8359"/>
                </a:cubicBezTo>
                <a:cubicBezTo>
                  <a:pt x="14098" y="8458"/>
                  <a:pt x="14106" y="8597"/>
                  <a:pt x="14139" y="8706"/>
                </a:cubicBezTo>
                <a:cubicBezTo>
                  <a:pt x="14172" y="8814"/>
                  <a:pt x="14180" y="8966"/>
                  <a:pt x="14163" y="9079"/>
                </a:cubicBezTo>
                <a:cubicBezTo>
                  <a:pt x="14147" y="9186"/>
                  <a:pt x="14092" y="9256"/>
                  <a:pt x="14039" y="9327"/>
                </a:cubicBezTo>
                <a:cubicBezTo>
                  <a:pt x="13975" y="9413"/>
                  <a:pt x="13971" y="9412"/>
                  <a:pt x="13891" y="9451"/>
                </a:cubicBezTo>
                <a:cubicBezTo>
                  <a:pt x="13868" y="9473"/>
                  <a:pt x="13863" y="9481"/>
                  <a:pt x="13841" y="9475"/>
                </a:cubicBezTo>
                <a:cubicBezTo>
                  <a:pt x="13856" y="9425"/>
                  <a:pt x="13869" y="9376"/>
                  <a:pt x="13891" y="9327"/>
                </a:cubicBezTo>
              </a:path>
              <a:path w="8236" h="1985">
                <a:moveTo>
                  <a:pt x="14263" y="8037"/>
                </a:moveTo>
                <a:cubicBezTo>
                  <a:pt x="14364" y="8025"/>
                  <a:pt x="14425" y="8006"/>
                  <a:pt x="14511" y="8062"/>
                </a:cubicBezTo>
                <a:cubicBezTo>
                  <a:pt x="14554" y="8090"/>
                  <a:pt x="14560" y="8115"/>
                  <a:pt x="14560" y="8161"/>
                </a:cubicBezTo>
                <a:cubicBezTo>
                  <a:pt x="14560" y="8204"/>
                  <a:pt x="14515" y="8231"/>
                  <a:pt x="14486" y="8260"/>
                </a:cubicBezTo>
                <a:cubicBezTo>
                  <a:pt x="14454" y="8292"/>
                  <a:pt x="14431" y="8329"/>
                  <a:pt x="14387" y="8334"/>
                </a:cubicBezTo>
                <a:cubicBezTo>
                  <a:pt x="14359" y="8334"/>
                  <a:pt x="14348" y="8336"/>
                  <a:pt x="14337" y="8359"/>
                </a:cubicBezTo>
                <a:cubicBezTo>
                  <a:pt x="14404" y="8416"/>
                  <a:pt x="14401" y="8409"/>
                  <a:pt x="14486" y="8409"/>
                </a:cubicBezTo>
                <a:cubicBezTo>
                  <a:pt x="14560" y="8409"/>
                  <a:pt x="14635" y="8409"/>
                  <a:pt x="14709" y="8409"/>
                </a:cubicBezTo>
              </a:path>
              <a:path w="8236" h="1985">
                <a:moveTo>
                  <a:pt x="14957" y="8632"/>
                </a:moveTo>
                <a:cubicBezTo>
                  <a:pt x="14999" y="8664"/>
                  <a:pt x="15025" y="8657"/>
                  <a:pt x="15081" y="8657"/>
                </a:cubicBezTo>
                <a:cubicBezTo>
                  <a:pt x="15180" y="8657"/>
                  <a:pt x="15280" y="8657"/>
                  <a:pt x="15379" y="8657"/>
                </a:cubicBezTo>
              </a:path>
              <a:path w="8236" h="1985">
                <a:moveTo>
                  <a:pt x="15007" y="8855"/>
                </a:moveTo>
                <a:cubicBezTo>
                  <a:pt x="15114" y="8855"/>
                  <a:pt x="15222" y="8855"/>
                  <a:pt x="15329" y="8855"/>
                </a:cubicBezTo>
              </a:path>
              <a:path w="8236" h="1985">
                <a:moveTo>
                  <a:pt x="15801" y="8483"/>
                </a:moveTo>
                <a:cubicBezTo>
                  <a:pt x="15820" y="8574"/>
                  <a:pt x="15825" y="8639"/>
                  <a:pt x="15825" y="8731"/>
                </a:cubicBezTo>
                <a:cubicBezTo>
                  <a:pt x="15825" y="8825"/>
                  <a:pt x="15850" y="8906"/>
                  <a:pt x="15850" y="9004"/>
                </a:cubicBezTo>
                <a:cubicBezTo>
                  <a:pt x="15850" y="9098"/>
                  <a:pt x="15845" y="9173"/>
                  <a:pt x="15825" y="9252"/>
                </a:cubicBezTo>
                <a:cubicBezTo>
                  <a:pt x="15825" y="9124"/>
                  <a:pt x="15835" y="9001"/>
                  <a:pt x="15850" y="8880"/>
                </a:cubicBezTo>
                <a:cubicBezTo>
                  <a:pt x="15863" y="8780"/>
                  <a:pt x="15856" y="8681"/>
                  <a:pt x="15875" y="8582"/>
                </a:cubicBezTo>
                <a:cubicBezTo>
                  <a:pt x="15895" y="8475"/>
                  <a:pt x="15922" y="8362"/>
                  <a:pt x="15949" y="8260"/>
                </a:cubicBezTo>
                <a:cubicBezTo>
                  <a:pt x="15968" y="8186"/>
                  <a:pt x="16027" y="8127"/>
                  <a:pt x="16049" y="8062"/>
                </a:cubicBezTo>
                <a:cubicBezTo>
                  <a:pt x="16067" y="8008"/>
                  <a:pt x="16051" y="7982"/>
                  <a:pt x="16098" y="7962"/>
                </a:cubicBezTo>
                <a:cubicBezTo>
                  <a:pt x="16153" y="7938"/>
                  <a:pt x="16224" y="7979"/>
                  <a:pt x="16272" y="7987"/>
                </a:cubicBezTo>
                <a:cubicBezTo>
                  <a:pt x="16440" y="8015"/>
                  <a:pt x="16625" y="7966"/>
                  <a:pt x="16793" y="7962"/>
                </a:cubicBezTo>
                <a:cubicBezTo>
                  <a:pt x="17043" y="7956"/>
                  <a:pt x="17292" y="7964"/>
                  <a:pt x="17537" y="7938"/>
                </a:cubicBezTo>
                <a:cubicBezTo>
                  <a:pt x="17557" y="7936"/>
                  <a:pt x="17674" y="7938"/>
                  <a:pt x="17611" y="7938"/>
                </a:cubicBezTo>
                <a:cubicBezTo>
                  <a:pt x="17587" y="7938"/>
                  <a:pt x="17578" y="7938"/>
                  <a:pt x="17562" y="7938"/>
                </a:cubicBezTo>
              </a:path>
              <a:path w="8236" h="1985">
                <a:moveTo>
                  <a:pt x="16470" y="8310"/>
                </a:moveTo>
                <a:cubicBezTo>
                  <a:pt x="16618" y="8310"/>
                  <a:pt x="16785" y="8325"/>
                  <a:pt x="16917" y="8285"/>
                </a:cubicBezTo>
                <a:cubicBezTo>
                  <a:pt x="16925" y="8285"/>
                  <a:pt x="16934" y="8285"/>
                  <a:pt x="16942" y="8285"/>
                </a:cubicBezTo>
              </a:path>
              <a:path w="8236" h="1985">
                <a:moveTo>
                  <a:pt x="16446" y="8359"/>
                </a:moveTo>
                <a:cubicBezTo>
                  <a:pt x="16429" y="8449"/>
                  <a:pt x="16421" y="8497"/>
                  <a:pt x="16421" y="8582"/>
                </a:cubicBezTo>
                <a:cubicBezTo>
                  <a:pt x="16421" y="8600"/>
                  <a:pt x="16430" y="8732"/>
                  <a:pt x="16446" y="8731"/>
                </a:cubicBezTo>
                <a:cubicBezTo>
                  <a:pt x="16456" y="8731"/>
                  <a:pt x="16489" y="8643"/>
                  <a:pt x="16520" y="8632"/>
                </a:cubicBezTo>
                <a:cubicBezTo>
                  <a:pt x="16608" y="8601"/>
                  <a:pt x="16584" y="8671"/>
                  <a:pt x="16644" y="8582"/>
                </a:cubicBezTo>
                <a:cubicBezTo>
                  <a:pt x="16703" y="8670"/>
                  <a:pt x="16688" y="8592"/>
                  <a:pt x="16768" y="8632"/>
                </a:cubicBezTo>
                <a:cubicBezTo>
                  <a:pt x="16805" y="8651"/>
                  <a:pt x="16860" y="8749"/>
                  <a:pt x="16892" y="8781"/>
                </a:cubicBezTo>
                <a:cubicBezTo>
                  <a:pt x="16950" y="8839"/>
                  <a:pt x="16942" y="8927"/>
                  <a:pt x="16942" y="9004"/>
                </a:cubicBezTo>
                <a:cubicBezTo>
                  <a:pt x="16942" y="9073"/>
                  <a:pt x="16919" y="9119"/>
                  <a:pt x="16867" y="9178"/>
                </a:cubicBezTo>
                <a:cubicBezTo>
                  <a:pt x="16823" y="9229"/>
                  <a:pt x="16759" y="9241"/>
                  <a:pt x="16694" y="9252"/>
                </a:cubicBezTo>
                <a:cubicBezTo>
                  <a:pt x="16623" y="9264"/>
                  <a:pt x="16582" y="9243"/>
                  <a:pt x="16520" y="9227"/>
                </a:cubicBezTo>
                <a:cubicBezTo>
                  <a:pt x="16510" y="9225"/>
                  <a:pt x="16405" y="9227"/>
                  <a:pt x="16470" y="92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77920" y="3643200"/>
            <a:ext cx="1243080" cy="812880"/>
          </a:xfrm>
          <a:custGeom>
            <a:avLst/>
            <a:gdLst/>
            <a:ahLst/>
            <a:rect l="l" t="t" r="r" b="b"/>
            <a:pathLst>
              <a:path w="3449" h="2259">
                <a:moveTo>
                  <a:pt x="4142" y="10120"/>
                </a:moveTo>
                <a:cubicBezTo>
                  <a:pt x="4167" y="10120"/>
                  <a:pt x="4192" y="10120"/>
                  <a:pt x="4217" y="10120"/>
                </a:cubicBezTo>
                <a:cubicBezTo>
                  <a:pt x="4193" y="10150"/>
                  <a:pt x="4161" y="10182"/>
                  <a:pt x="4118" y="10220"/>
                </a:cubicBezTo>
                <a:cubicBezTo>
                  <a:pt x="4046" y="10283"/>
                  <a:pt x="3967" y="10316"/>
                  <a:pt x="3894" y="10368"/>
                </a:cubicBezTo>
                <a:cubicBezTo>
                  <a:pt x="3806" y="10431"/>
                  <a:pt x="3736" y="10509"/>
                  <a:pt x="3646" y="10567"/>
                </a:cubicBezTo>
                <a:cubicBezTo>
                  <a:pt x="3545" y="10632"/>
                  <a:pt x="3490" y="10699"/>
                  <a:pt x="3398" y="10765"/>
                </a:cubicBezTo>
                <a:cubicBezTo>
                  <a:pt x="3354" y="10796"/>
                  <a:pt x="3315" y="10828"/>
                  <a:pt x="3274" y="10864"/>
                </a:cubicBezTo>
                <a:cubicBezTo>
                  <a:pt x="3288" y="10881"/>
                  <a:pt x="3311" y="10907"/>
                  <a:pt x="3324" y="10939"/>
                </a:cubicBezTo>
                <a:cubicBezTo>
                  <a:pt x="3346" y="10992"/>
                  <a:pt x="3374" y="11051"/>
                  <a:pt x="3398" y="11112"/>
                </a:cubicBezTo>
                <a:cubicBezTo>
                  <a:pt x="3449" y="11242"/>
                  <a:pt x="3546" y="11356"/>
                  <a:pt x="3597" y="11485"/>
                </a:cubicBezTo>
                <a:cubicBezTo>
                  <a:pt x="3651" y="11620"/>
                  <a:pt x="3735" y="11723"/>
                  <a:pt x="3795" y="11857"/>
                </a:cubicBezTo>
                <a:cubicBezTo>
                  <a:pt x="3836" y="11947"/>
                  <a:pt x="3881" y="12038"/>
                  <a:pt x="3919" y="12129"/>
                </a:cubicBezTo>
                <a:cubicBezTo>
                  <a:pt x="3949" y="12200"/>
                  <a:pt x="3948" y="12262"/>
                  <a:pt x="3969" y="12328"/>
                </a:cubicBezTo>
                <a:cubicBezTo>
                  <a:pt x="3978" y="12355"/>
                  <a:pt x="3985" y="12326"/>
                  <a:pt x="3994" y="12353"/>
                </a:cubicBezTo>
              </a:path>
              <a:path w="3449" h="2259">
                <a:moveTo>
                  <a:pt x="4986" y="10294"/>
                </a:moveTo>
                <a:cubicBezTo>
                  <a:pt x="4986" y="10369"/>
                  <a:pt x="4970" y="10425"/>
                  <a:pt x="4961" y="10492"/>
                </a:cubicBezTo>
                <a:cubicBezTo>
                  <a:pt x="4946" y="10601"/>
                  <a:pt x="4967" y="10721"/>
                  <a:pt x="4986" y="10815"/>
                </a:cubicBezTo>
                <a:cubicBezTo>
                  <a:pt x="4995" y="10859"/>
                  <a:pt x="5043" y="10907"/>
                  <a:pt x="5011" y="10939"/>
                </a:cubicBezTo>
                <a:cubicBezTo>
                  <a:pt x="5003" y="10939"/>
                  <a:pt x="4994" y="10939"/>
                  <a:pt x="4986" y="10939"/>
                </a:cubicBezTo>
              </a:path>
              <a:path w="3449" h="2259">
                <a:moveTo>
                  <a:pt x="4341" y="11137"/>
                </a:moveTo>
                <a:cubicBezTo>
                  <a:pt x="4413" y="11148"/>
                  <a:pt x="4457" y="11162"/>
                  <a:pt x="4539" y="11162"/>
                </a:cubicBezTo>
                <a:cubicBezTo>
                  <a:pt x="4660" y="11162"/>
                  <a:pt x="4769" y="11177"/>
                  <a:pt x="4887" y="11187"/>
                </a:cubicBezTo>
                <a:cubicBezTo>
                  <a:pt x="5076" y="11203"/>
                  <a:pt x="5597" y="11187"/>
                  <a:pt x="5407" y="11187"/>
                </a:cubicBezTo>
                <a:cubicBezTo>
                  <a:pt x="5366" y="11187"/>
                  <a:pt x="5341" y="11187"/>
                  <a:pt x="5308" y="11187"/>
                </a:cubicBezTo>
              </a:path>
              <a:path w="3449" h="2259">
                <a:moveTo>
                  <a:pt x="4564" y="11658"/>
                </a:moveTo>
                <a:cubicBezTo>
                  <a:pt x="4564" y="11829"/>
                  <a:pt x="4534" y="12100"/>
                  <a:pt x="4589" y="12229"/>
                </a:cubicBezTo>
                <a:cubicBezTo>
                  <a:pt x="4609" y="12275"/>
                  <a:pt x="4589" y="12182"/>
                  <a:pt x="4589" y="12154"/>
                </a:cubicBezTo>
                <a:cubicBezTo>
                  <a:pt x="4589" y="12091"/>
                  <a:pt x="4614" y="12046"/>
                  <a:pt x="4614" y="11981"/>
                </a:cubicBezTo>
                <a:cubicBezTo>
                  <a:pt x="4614" y="11896"/>
                  <a:pt x="4625" y="11835"/>
                  <a:pt x="4638" y="11757"/>
                </a:cubicBezTo>
                <a:cubicBezTo>
                  <a:pt x="4649" y="11689"/>
                  <a:pt x="4636" y="11666"/>
                  <a:pt x="4688" y="11609"/>
                </a:cubicBezTo>
                <a:cubicBezTo>
                  <a:pt x="4719" y="11575"/>
                  <a:pt x="4792" y="11540"/>
                  <a:pt x="4837" y="11534"/>
                </a:cubicBezTo>
                <a:cubicBezTo>
                  <a:pt x="4986" y="11513"/>
                  <a:pt x="5167" y="11526"/>
                  <a:pt x="5308" y="11559"/>
                </a:cubicBezTo>
                <a:cubicBezTo>
                  <a:pt x="5341" y="11567"/>
                  <a:pt x="5375" y="11541"/>
                  <a:pt x="5407" y="11534"/>
                </a:cubicBezTo>
              </a:path>
              <a:path w="3449" h="2259">
                <a:moveTo>
                  <a:pt x="5159" y="11757"/>
                </a:moveTo>
                <a:cubicBezTo>
                  <a:pt x="5248" y="11757"/>
                  <a:pt x="5288" y="11755"/>
                  <a:pt x="5358" y="11733"/>
                </a:cubicBezTo>
                <a:cubicBezTo>
                  <a:pt x="5366" y="11733"/>
                  <a:pt x="5375" y="11733"/>
                  <a:pt x="5383" y="11733"/>
                </a:cubicBezTo>
              </a:path>
              <a:path w="3449" h="2259">
                <a:moveTo>
                  <a:pt x="5110" y="11757"/>
                </a:moveTo>
                <a:cubicBezTo>
                  <a:pt x="5093" y="11830"/>
                  <a:pt x="5085" y="11864"/>
                  <a:pt x="5085" y="11931"/>
                </a:cubicBezTo>
                <a:cubicBezTo>
                  <a:pt x="5085" y="11956"/>
                  <a:pt x="5133" y="12015"/>
                  <a:pt x="5159" y="11981"/>
                </a:cubicBezTo>
                <a:cubicBezTo>
                  <a:pt x="5173" y="11963"/>
                  <a:pt x="5198" y="11943"/>
                  <a:pt x="5234" y="11931"/>
                </a:cubicBezTo>
                <a:cubicBezTo>
                  <a:pt x="5291" y="11912"/>
                  <a:pt x="5364" y="11943"/>
                  <a:pt x="5407" y="11956"/>
                </a:cubicBezTo>
                <a:cubicBezTo>
                  <a:pt x="5461" y="11973"/>
                  <a:pt x="5479" y="12001"/>
                  <a:pt x="5507" y="12055"/>
                </a:cubicBezTo>
                <a:cubicBezTo>
                  <a:pt x="5538" y="12115"/>
                  <a:pt x="5531" y="12162"/>
                  <a:pt x="5531" y="12229"/>
                </a:cubicBezTo>
                <a:cubicBezTo>
                  <a:pt x="5531" y="12286"/>
                  <a:pt x="5483" y="12335"/>
                  <a:pt x="5432" y="12353"/>
                </a:cubicBezTo>
                <a:cubicBezTo>
                  <a:pt x="5353" y="12382"/>
                  <a:pt x="5290" y="12378"/>
                  <a:pt x="5209" y="12378"/>
                </a:cubicBezTo>
                <a:cubicBezTo>
                  <a:pt x="5185" y="12378"/>
                  <a:pt x="5122" y="12352"/>
                  <a:pt x="5110" y="12328"/>
                </a:cubicBezTo>
                <a:cubicBezTo>
                  <a:pt x="5094" y="12295"/>
                  <a:pt x="5097" y="12314"/>
                  <a:pt x="5085" y="12278"/>
                </a:cubicBezTo>
              </a:path>
              <a:path w="3449" h="2259">
                <a:moveTo>
                  <a:pt x="6127" y="11286"/>
                </a:moveTo>
                <a:cubicBezTo>
                  <a:pt x="6127" y="11362"/>
                  <a:pt x="6114" y="11415"/>
                  <a:pt x="6102" y="11485"/>
                </a:cubicBezTo>
                <a:cubicBezTo>
                  <a:pt x="6094" y="11534"/>
                  <a:pt x="6082" y="11586"/>
                  <a:pt x="6077" y="11633"/>
                </a:cubicBezTo>
                <a:cubicBezTo>
                  <a:pt x="6077" y="11641"/>
                  <a:pt x="6077" y="11650"/>
                  <a:pt x="6077" y="11658"/>
                </a:cubicBezTo>
              </a:path>
              <a:path w="3449" h="2259">
                <a:moveTo>
                  <a:pt x="6474" y="10964"/>
                </a:moveTo>
                <a:cubicBezTo>
                  <a:pt x="6529" y="10996"/>
                  <a:pt x="6581" y="10988"/>
                  <a:pt x="6648" y="10988"/>
                </a:cubicBezTo>
                <a:cubicBezTo>
                  <a:pt x="6692" y="10988"/>
                  <a:pt x="6705" y="10991"/>
                  <a:pt x="6722" y="109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20960" y="3776760"/>
            <a:ext cx="430200" cy="696960"/>
          </a:xfrm>
          <a:custGeom>
            <a:avLst/>
            <a:gdLst/>
            <a:ahLst/>
            <a:rect l="l" t="t" r="r" b="b"/>
            <a:pathLst>
              <a:path w="1192" h="1936">
                <a:moveTo>
                  <a:pt x="7838" y="10492"/>
                </a:moveTo>
                <a:cubicBezTo>
                  <a:pt x="7877" y="10571"/>
                  <a:pt x="7918" y="10619"/>
                  <a:pt x="7987" y="10691"/>
                </a:cubicBezTo>
                <a:cubicBezTo>
                  <a:pt x="8095" y="10804"/>
                  <a:pt x="8242" y="10883"/>
                  <a:pt x="8359" y="10988"/>
                </a:cubicBezTo>
                <a:cubicBezTo>
                  <a:pt x="8493" y="11109"/>
                  <a:pt x="8633" y="11232"/>
                  <a:pt x="8781" y="11336"/>
                </a:cubicBezTo>
                <a:cubicBezTo>
                  <a:pt x="8849" y="11384"/>
                  <a:pt x="8917" y="11432"/>
                  <a:pt x="8979" y="11485"/>
                </a:cubicBezTo>
                <a:cubicBezTo>
                  <a:pt x="9003" y="11506"/>
                  <a:pt x="9000" y="11497"/>
                  <a:pt x="9029" y="11509"/>
                </a:cubicBezTo>
                <a:cubicBezTo>
                  <a:pt x="9005" y="11528"/>
                  <a:pt x="8984" y="11525"/>
                  <a:pt x="8954" y="11559"/>
                </a:cubicBezTo>
                <a:cubicBezTo>
                  <a:pt x="8898" y="11622"/>
                  <a:pt x="8851" y="11681"/>
                  <a:pt x="8781" y="11733"/>
                </a:cubicBezTo>
                <a:cubicBezTo>
                  <a:pt x="8672" y="11814"/>
                  <a:pt x="8601" y="11907"/>
                  <a:pt x="8508" y="12005"/>
                </a:cubicBezTo>
                <a:cubicBezTo>
                  <a:pt x="8419" y="12098"/>
                  <a:pt x="8334" y="12198"/>
                  <a:pt x="8260" y="12303"/>
                </a:cubicBezTo>
                <a:cubicBezTo>
                  <a:pt x="8217" y="12368"/>
                  <a:pt x="8205" y="12382"/>
                  <a:pt x="8186" y="124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01920" y="3732120"/>
            <a:ext cx="411120" cy="785880"/>
          </a:xfrm>
          <a:custGeom>
            <a:avLst/>
            <a:gdLst/>
            <a:ahLst/>
            <a:rect l="l" t="t" r="r" b="b"/>
            <a:pathLst>
              <a:path w="1142" h="2184">
                <a:moveTo>
                  <a:pt x="6896" y="10567"/>
                </a:moveTo>
                <a:cubicBezTo>
                  <a:pt x="6927" y="10480"/>
                  <a:pt x="6938" y="10463"/>
                  <a:pt x="6995" y="10418"/>
                </a:cubicBezTo>
                <a:cubicBezTo>
                  <a:pt x="7065" y="10363"/>
                  <a:pt x="7056" y="10368"/>
                  <a:pt x="7144" y="10368"/>
                </a:cubicBezTo>
                <a:cubicBezTo>
                  <a:pt x="7214" y="10368"/>
                  <a:pt x="7239" y="10439"/>
                  <a:pt x="7243" y="10492"/>
                </a:cubicBezTo>
                <a:cubicBezTo>
                  <a:pt x="7249" y="10564"/>
                  <a:pt x="7246" y="10626"/>
                  <a:pt x="7218" y="10691"/>
                </a:cubicBezTo>
                <a:cubicBezTo>
                  <a:pt x="7186" y="10766"/>
                  <a:pt x="7156" y="10840"/>
                  <a:pt x="7119" y="10914"/>
                </a:cubicBezTo>
                <a:cubicBezTo>
                  <a:pt x="7094" y="10964"/>
                  <a:pt x="7054" y="11018"/>
                  <a:pt x="7020" y="11063"/>
                </a:cubicBezTo>
                <a:cubicBezTo>
                  <a:pt x="6987" y="11107"/>
                  <a:pt x="6970" y="11104"/>
                  <a:pt x="6970" y="11162"/>
                </a:cubicBezTo>
                <a:cubicBezTo>
                  <a:pt x="7068" y="11162"/>
                  <a:pt x="7519" y="11204"/>
                  <a:pt x="7541" y="11137"/>
                </a:cubicBezTo>
              </a:path>
              <a:path w="1142" h="2184">
                <a:moveTo>
                  <a:pt x="6672" y="11385"/>
                </a:moveTo>
                <a:cubicBezTo>
                  <a:pt x="6922" y="11385"/>
                  <a:pt x="7173" y="11393"/>
                  <a:pt x="7417" y="11361"/>
                </a:cubicBezTo>
                <a:cubicBezTo>
                  <a:pt x="7428" y="11360"/>
                  <a:pt x="7534" y="11345"/>
                  <a:pt x="7541" y="11336"/>
                </a:cubicBezTo>
                <a:cubicBezTo>
                  <a:pt x="7541" y="11311"/>
                  <a:pt x="7541" y="11303"/>
                  <a:pt x="7541" y="11286"/>
                </a:cubicBezTo>
              </a:path>
              <a:path w="1142" h="2184">
                <a:moveTo>
                  <a:pt x="6871" y="11906"/>
                </a:moveTo>
                <a:cubicBezTo>
                  <a:pt x="6857" y="12031"/>
                  <a:pt x="6871" y="12126"/>
                  <a:pt x="6871" y="12254"/>
                </a:cubicBezTo>
                <a:cubicBezTo>
                  <a:pt x="6871" y="12310"/>
                  <a:pt x="6896" y="12324"/>
                  <a:pt x="6896" y="12378"/>
                </a:cubicBezTo>
                <a:cubicBezTo>
                  <a:pt x="6896" y="12431"/>
                  <a:pt x="6919" y="12347"/>
                  <a:pt x="6921" y="12328"/>
                </a:cubicBezTo>
                <a:cubicBezTo>
                  <a:pt x="6931" y="12236"/>
                  <a:pt x="6910" y="12163"/>
                  <a:pt x="6896" y="12080"/>
                </a:cubicBezTo>
                <a:cubicBezTo>
                  <a:pt x="6884" y="12006"/>
                  <a:pt x="6917" y="11951"/>
                  <a:pt x="6921" y="11881"/>
                </a:cubicBezTo>
                <a:cubicBezTo>
                  <a:pt x="6925" y="11805"/>
                  <a:pt x="6916" y="11787"/>
                  <a:pt x="6970" y="11733"/>
                </a:cubicBezTo>
                <a:cubicBezTo>
                  <a:pt x="7006" y="11698"/>
                  <a:pt x="7042" y="11645"/>
                  <a:pt x="7094" y="11633"/>
                </a:cubicBezTo>
                <a:cubicBezTo>
                  <a:pt x="7210" y="11606"/>
                  <a:pt x="7358" y="11645"/>
                  <a:pt x="7466" y="11658"/>
                </a:cubicBezTo>
                <a:cubicBezTo>
                  <a:pt x="7531" y="11666"/>
                  <a:pt x="7603" y="11679"/>
                  <a:pt x="7665" y="11683"/>
                </a:cubicBezTo>
                <a:cubicBezTo>
                  <a:pt x="7717" y="11687"/>
                  <a:pt x="7714" y="11682"/>
                  <a:pt x="7714" y="11633"/>
                </a:cubicBezTo>
              </a:path>
              <a:path w="1142" h="2184">
                <a:moveTo>
                  <a:pt x="7293" y="11807"/>
                </a:moveTo>
                <a:cubicBezTo>
                  <a:pt x="7356" y="11831"/>
                  <a:pt x="7398" y="11832"/>
                  <a:pt x="7466" y="11832"/>
                </a:cubicBezTo>
                <a:cubicBezTo>
                  <a:pt x="7574" y="11832"/>
                  <a:pt x="7555" y="11842"/>
                  <a:pt x="7615" y="11782"/>
                </a:cubicBezTo>
              </a:path>
              <a:path w="1142" h="2184">
                <a:moveTo>
                  <a:pt x="7317" y="11807"/>
                </a:moveTo>
                <a:cubicBezTo>
                  <a:pt x="7291" y="11860"/>
                  <a:pt x="7268" y="11897"/>
                  <a:pt x="7268" y="11956"/>
                </a:cubicBezTo>
                <a:cubicBezTo>
                  <a:pt x="7268" y="12017"/>
                  <a:pt x="7243" y="11955"/>
                  <a:pt x="7268" y="12030"/>
                </a:cubicBezTo>
                <a:cubicBezTo>
                  <a:pt x="7281" y="12068"/>
                  <a:pt x="7297" y="12055"/>
                  <a:pt x="7342" y="12055"/>
                </a:cubicBezTo>
                <a:cubicBezTo>
                  <a:pt x="7398" y="12055"/>
                  <a:pt x="7412" y="12030"/>
                  <a:pt x="7466" y="12030"/>
                </a:cubicBezTo>
                <a:cubicBezTo>
                  <a:pt x="7542" y="12030"/>
                  <a:pt x="7578" y="12034"/>
                  <a:pt x="7640" y="12080"/>
                </a:cubicBezTo>
                <a:cubicBezTo>
                  <a:pt x="7689" y="12117"/>
                  <a:pt x="7766" y="12169"/>
                  <a:pt x="7789" y="12229"/>
                </a:cubicBezTo>
                <a:cubicBezTo>
                  <a:pt x="7807" y="12275"/>
                  <a:pt x="7827" y="12375"/>
                  <a:pt x="7813" y="12427"/>
                </a:cubicBezTo>
                <a:cubicBezTo>
                  <a:pt x="7795" y="12494"/>
                  <a:pt x="7727" y="12532"/>
                  <a:pt x="7665" y="12551"/>
                </a:cubicBezTo>
                <a:cubicBezTo>
                  <a:pt x="7602" y="12570"/>
                  <a:pt x="7546" y="12535"/>
                  <a:pt x="7491" y="12526"/>
                </a:cubicBezTo>
                <a:cubicBezTo>
                  <a:pt x="7451" y="12519"/>
                  <a:pt x="7360" y="12503"/>
                  <a:pt x="7342" y="12452"/>
                </a:cubicBezTo>
                <a:cubicBezTo>
                  <a:pt x="7342" y="12407"/>
                  <a:pt x="7346" y="12394"/>
                  <a:pt x="7317" y="123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4687920"/>
            <a:ext cx="2000520" cy="1019160"/>
          </a:xfrm>
          <a:custGeom>
            <a:avLst/>
            <a:gdLst/>
            <a:ahLst/>
            <a:rect l="l" t="t" r="r" b="b"/>
            <a:pathLst>
              <a:path w="5557" h="2829">
                <a:moveTo>
                  <a:pt x="4663" y="13022"/>
                </a:moveTo>
                <a:cubicBezTo>
                  <a:pt x="4630" y="13088"/>
                  <a:pt x="4651" y="13077"/>
                  <a:pt x="4589" y="13122"/>
                </a:cubicBezTo>
                <a:cubicBezTo>
                  <a:pt x="4537" y="13159"/>
                  <a:pt x="4492" y="13210"/>
                  <a:pt x="4440" y="13246"/>
                </a:cubicBezTo>
                <a:cubicBezTo>
                  <a:pt x="4365" y="13298"/>
                  <a:pt x="4274" y="13333"/>
                  <a:pt x="4192" y="13370"/>
                </a:cubicBezTo>
                <a:cubicBezTo>
                  <a:pt x="4119" y="13403"/>
                  <a:pt x="4032" y="13469"/>
                  <a:pt x="3969" y="13519"/>
                </a:cubicBezTo>
                <a:cubicBezTo>
                  <a:pt x="3900" y="13573"/>
                  <a:pt x="3839" y="13637"/>
                  <a:pt x="3770" y="13692"/>
                </a:cubicBezTo>
                <a:cubicBezTo>
                  <a:pt x="3729" y="13725"/>
                  <a:pt x="3679" y="13748"/>
                  <a:pt x="3646" y="13791"/>
                </a:cubicBezTo>
                <a:cubicBezTo>
                  <a:pt x="3637" y="13802"/>
                  <a:pt x="3597" y="13865"/>
                  <a:pt x="3597" y="13866"/>
                </a:cubicBezTo>
                <a:cubicBezTo>
                  <a:pt x="3597" y="13874"/>
                  <a:pt x="3597" y="13883"/>
                  <a:pt x="3597" y="13891"/>
                </a:cubicBezTo>
                <a:cubicBezTo>
                  <a:pt x="3601" y="13899"/>
                  <a:pt x="3633" y="13940"/>
                  <a:pt x="3646" y="13965"/>
                </a:cubicBezTo>
                <a:cubicBezTo>
                  <a:pt x="3667" y="14004"/>
                  <a:pt x="3696" y="14045"/>
                  <a:pt x="3721" y="14089"/>
                </a:cubicBezTo>
                <a:cubicBezTo>
                  <a:pt x="3784" y="14201"/>
                  <a:pt x="3852" y="14304"/>
                  <a:pt x="3919" y="14412"/>
                </a:cubicBezTo>
                <a:cubicBezTo>
                  <a:pt x="3993" y="14530"/>
                  <a:pt x="4075" y="14654"/>
                  <a:pt x="4167" y="14759"/>
                </a:cubicBezTo>
                <a:cubicBezTo>
                  <a:pt x="4277" y="14885"/>
                  <a:pt x="4359" y="15024"/>
                  <a:pt x="4465" y="15156"/>
                </a:cubicBezTo>
                <a:cubicBezTo>
                  <a:pt x="4522" y="15227"/>
                  <a:pt x="4573" y="15270"/>
                  <a:pt x="4614" y="15354"/>
                </a:cubicBezTo>
                <a:cubicBezTo>
                  <a:pt x="4630" y="15387"/>
                  <a:pt x="4640" y="15457"/>
                  <a:pt x="4663" y="15429"/>
                </a:cubicBezTo>
                <a:cubicBezTo>
                  <a:pt x="4686" y="15401"/>
                  <a:pt x="4663" y="15263"/>
                  <a:pt x="4663" y="15230"/>
                </a:cubicBezTo>
              </a:path>
              <a:path w="5557" h="2829">
                <a:moveTo>
                  <a:pt x="4837" y="13643"/>
                </a:moveTo>
                <a:cubicBezTo>
                  <a:pt x="4844" y="13693"/>
                  <a:pt x="4860" y="13715"/>
                  <a:pt x="4862" y="13767"/>
                </a:cubicBezTo>
                <a:cubicBezTo>
                  <a:pt x="4868" y="13890"/>
                  <a:pt x="4862" y="14015"/>
                  <a:pt x="4862" y="14139"/>
                </a:cubicBezTo>
                <a:cubicBezTo>
                  <a:pt x="4857" y="14085"/>
                  <a:pt x="4843" y="14039"/>
                  <a:pt x="4837" y="13990"/>
                </a:cubicBezTo>
                <a:cubicBezTo>
                  <a:pt x="4815" y="13819"/>
                  <a:pt x="4836" y="13628"/>
                  <a:pt x="4812" y="13469"/>
                </a:cubicBezTo>
                <a:cubicBezTo>
                  <a:pt x="4807" y="13437"/>
                  <a:pt x="4821" y="13352"/>
                  <a:pt x="4837" y="13320"/>
                </a:cubicBezTo>
                <a:cubicBezTo>
                  <a:pt x="4849" y="13296"/>
                  <a:pt x="4918" y="13278"/>
                  <a:pt x="4961" y="13271"/>
                </a:cubicBezTo>
                <a:cubicBezTo>
                  <a:pt x="5042" y="13257"/>
                  <a:pt x="5110" y="13286"/>
                  <a:pt x="5184" y="13295"/>
                </a:cubicBezTo>
                <a:cubicBezTo>
                  <a:pt x="5268" y="13306"/>
                  <a:pt x="5349" y="13308"/>
                  <a:pt x="5432" y="13320"/>
                </a:cubicBezTo>
                <a:cubicBezTo>
                  <a:pt x="5475" y="13326"/>
                  <a:pt x="5631" y="13338"/>
                  <a:pt x="5631" y="13295"/>
                </a:cubicBezTo>
                <a:cubicBezTo>
                  <a:pt x="5623" y="13295"/>
                  <a:pt x="5614" y="13295"/>
                  <a:pt x="5606" y="13295"/>
                </a:cubicBezTo>
              </a:path>
              <a:path w="5557" h="2829">
                <a:moveTo>
                  <a:pt x="5184" y="13519"/>
                </a:moveTo>
                <a:cubicBezTo>
                  <a:pt x="5221" y="13523"/>
                  <a:pt x="5321" y="13561"/>
                  <a:pt x="5358" y="13543"/>
                </a:cubicBezTo>
                <a:cubicBezTo>
                  <a:pt x="5395" y="13525"/>
                  <a:pt x="5422" y="13515"/>
                  <a:pt x="5457" y="13494"/>
                </a:cubicBezTo>
              </a:path>
              <a:path w="5557" h="2829">
                <a:moveTo>
                  <a:pt x="5308" y="13494"/>
                </a:moveTo>
                <a:cubicBezTo>
                  <a:pt x="5272" y="13530"/>
                  <a:pt x="5224" y="13573"/>
                  <a:pt x="5209" y="13618"/>
                </a:cubicBezTo>
                <a:cubicBezTo>
                  <a:pt x="5198" y="13652"/>
                  <a:pt x="5200" y="13750"/>
                  <a:pt x="5234" y="13767"/>
                </a:cubicBezTo>
                <a:cubicBezTo>
                  <a:pt x="5284" y="13792"/>
                  <a:pt x="5422" y="13777"/>
                  <a:pt x="5482" y="13791"/>
                </a:cubicBezTo>
                <a:cubicBezTo>
                  <a:pt x="5514" y="13799"/>
                  <a:pt x="5565" y="13830"/>
                  <a:pt x="5581" y="13866"/>
                </a:cubicBezTo>
                <a:cubicBezTo>
                  <a:pt x="5599" y="13907"/>
                  <a:pt x="5606" y="13939"/>
                  <a:pt x="5606" y="13990"/>
                </a:cubicBezTo>
                <a:cubicBezTo>
                  <a:pt x="5606" y="14059"/>
                  <a:pt x="5604" y="14066"/>
                  <a:pt x="5556" y="14114"/>
                </a:cubicBezTo>
                <a:cubicBezTo>
                  <a:pt x="5506" y="14164"/>
                  <a:pt x="5486" y="14161"/>
                  <a:pt x="5432" y="14188"/>
                </a:cubicBezTo>
                <a:cubicBezTo>
                  <a:pt x="5398" y="14205"/>
                  <a:pt x="5354" y="14236"/>
                  <a:pt x="5308" y="14213"/>
                </a:cubicBezTo>
                <a:cubicBezTo>
                  <a:pt x="5280" y="14185"/>
                  <a:pt x="5267" y="14176"/>
                  <a:pt x="5234" y="14188"/>
                </a:cubicBezTo>
              </a:path>
              <a:path w="5557" h="2829">
                <a:moveTo>
                  <a:pt x="4738" y="14114"/>
                </a:moveTo>
                <a:cubicBezTo>
                  <a:pt x="4808" y="14123"/>
                  <a:pt x="4863" y="14139"/>
                  <a:pt x="4936" y="14139"/>
                </a:cubicBezTo>
                <a:cubicBezTo>
                  <a:pt x="5028" y="14139"/>
                  <a:pt x="5114" y="14163"/>
                  <a:pt x="5209" y="14163"/>
                </a:cubicBezTo>
                <a:cubicBezTo>
                  <a:pt x="5424" y="14163"/>
                  <a:pt x="5639" y="14163"/>
                  <a:pt x="5854" y="14163"/>
                </a:cubicBezTo>
                <a:cubicBezTo>
                  <a:pt x="5842" y="14128"/>
                  <a:pt x="5830" y="14136"/>
                  <a:pt x="5779" y="14114"/>
                </a:cubicBezTo>
              </a:path>
              <a:path w="5557" h="2829">
                <a:moveTo>
                  <a:pt x="5184" y="14486"/>
                </a:moveTo>
                <a:cubicBezTo>
                  <a:pt x="5341" y="14516"/>
                  <a:pt x="5287" y="14494"/>
                  <a:pt x="5407" y="14486"/>
                </a:cubicBezTo>
                <a:cubicBezTo>
                  <a:pt x="5464" y="14486"/>
                  <a:pt x="5485" y="14481"/>
                  <a:pt x="5507" y="14436"/>
                </a:cubicBezTo>
              </a:path>
              <a:path w="5557" h="2829">
                <a:moveTo>
                  <a:pt x="5234" y="14536"/>
                </a:moveTo>
                <a:cubicBezTo>
                  <a:pt x="5206" y="14576"/>
                  <a:pt x="5150" y="14639"/>
                  <a:pt x="5135" y="14684"/>
                </a:cubicBezTo>
                <a:cubicBezTo>
                  <a:pt x="5126" y="14712"/>
                  <a:pt x="5149" y="14754"/>
                  <a:pt x="5159" y="14759"/>
                </a:cubicBezTo>
                <a:cubicBezTo>
                  <a:pt x="5191" y="14775"/>
                  <a:pt x="5219" y="14784"/>
                  <a:pt x="5259" y="14784"/>
                </a:cubicBezTo>
                <a:cubicBezTo>
                  <a:pt x="5313" y="14784"/>
                  <a:pt x="5342" y="14799"/>
                  <a:pt x="5383" y="14808"/>
                </a:cubicBezTo>
                <a:cubicBezTo>
                  <a:pt x="5454" y="14823"/>
                  <a:pt x="5453" y="14802"/>
                  <a:pt x="5507" y="14858"/>
                </a:cubicBezTo>
                <a:cubicBezTo>
                  <a:pt x="5548" y="14900"/>
                  <a:pt x="5579" y="14930"/>
                  <a:pt x="5606" y="14982"/>
                </a:cubicBezTo>
                <a:cubicBezTo>
                  <a:pt x="5660" y="15088"/>
                  <a:pt x="5682" y="15208"/>
                  <a:pt x="5655" y="15329"/>
                </a:cubicBezTo>
                <a:cubicBezTo>
                  <a:pt x="5646" y="15372"/>
                  <a:pt x="5593" y="15429"/>
                  <a:pt x="5556" y="15453"/>
                </a:cubicBezTo>
                <a:cubicBezTo>
                  <a:pt x="5507" y="15485"/>
                  <a:pt x="5447" y="15528"/>
                  <a:pt x="5383" y="15503"/>
                </a:cubicBezTo>
                <a:cubicBezTo>
                  <a:pt x="5335" y="15484"/>
                  <a:pt x="5300" y="15470"/>
                  <a:pt x="5259" y="15429"/>
                </a:cubicBezTo>
                <a:cubicBezTo>
                  <a:pt x="5221" y="15391"/>
                  <a:pt x="5209" y="15382"/>
                  <a:pt x="5209" y="15329"/>
                </a:cubicBezTo>
              </a:path>
              <a:path w="5557" h="2829">
                <a:moveTo>
                  <a:pt x="6276" y="14412"/>
                </a:moveTo>
                <a:cubicBezTo>
                  <a:pt x="6259" y="14527"/>
                  <a:pt x="6251" y="14619"/>
                  <a:pt x="6251" y="14734"/>
                </a:cubicBezTo>
                <a:cubicBezTo>
                  <a:pt x="6251" y="14802"/>
                  <a:pt x="6243" y="14853"/>
                  <a:pt x="6276" y="14908"/>
                </a:cubicBezTo>
              </a:path>
              <a:path w="5557" h="2829">
                <a:moveTo>
                  <a:pt x="6449" y="14139"/>
                </a:moveTo>
                <a:cubicBezTo>
                  <a:pt x="6528" y="14122"/>
                  <a:pt x="6571" y="14114"/>
                  <a:pt x="6648" y="14114"/>
                </a:cubicBezTo>
              </a:path>
              <a:path w="5557" h="2829">
                <a:moveTo>
                  <a:pt x="6871" y="13717"/>
                </a:moveTo>
                <a:cubicBezTo>
                  <a:pt x="6935" y="13653"/>
                  <a:pt x="6934" y="13643"/>
                  <a:pt x="7020" y="13643"/>
                </a:cubicBezTo>
                <a:cubicBezTo>
                  <a:pt x="7051" y="13643"/>
                  <a:pt x="7127" y="13642"/>
                  <a:pt x="7144" y="13667"/>
                </a:cubicBezTo>
                <a:cubicBezTo>
                  <a:pt x="7160" y="13691"/>
                  <a:pt x="7184" y="13756"/>
                  <a:pt x="7169" y="13791"/>
                </a:cubicBezTo>
                <a:cubicBezTo>
                  <a:pt x="7146" y="13845"/>
                  <a:pt x="7103" y="13888"/>
                  <a:pt x="7069" y="13940"/>
                </a:cubicBezTo>
                <a:cubicBezTo>
                  <a:pt x="7033" y="13995"/>
                  <a:pt x="7008" y="14059"/>
                  <a:pt x="6970" y="14114"/>
                </a:cubicBezTo>
                <a:cubicBezTo>
                  <a:pt x="6946" y="14148"/>
                  <a:pt x="6933" y="14192"/>
                  <a:pt x="6945" y="14238"/>
                </a:cubicBezTo>
                <a:cubicBezTo>
                  <a:pt x="6965" y="14312"/>
                  <a:pt x="6966" y="14360"/>
                  <a:pt x="7045" y="14387"/>
                </a:cubicBezTo>
                <a:cubicBezTo>
                  <a:pt x="7088" y="14402"/>
                  <a:pt x="7122" y="14416"/>
                  <a:pt x="7169" y="14387"/>
                </a:cubicBezTo>
                <a:cubicBezTo>
                  <a:pt x="7193" y="14362"/>
                  <a:pt x="7201" y="14353"/>
                  <a:pt x="7218" y="14337"/>
                </a:cubicBezTo>
              </a:path>
              <a:path w="5557" h="2829">
                <a:moveTo>
                  <a:pt x="7417" y="13816"/>
                </a:moveTo>
                <a:cubicBezTo>
                  <a:pt x="7454" y="13868"/>
                  <a:pt x="7441" y="13924"/>
                  <a:pt x="7441" y="13990"/>
                </a:cubicBezTo>
                <a:cubicBezTo>
                  <a:pt x="7441" y="14078"/>
                  <a:pt x="7462" y="14153"/>
                  <a:pt x="7466" y="14238"/>
                </a:cubicBezTo>
                <a:cubicBezTo>
                  <a:pt x="7469" y="14318"/>
                  <a:pt x="7485" y="14365"/>
                  <a:pt x="7491" y="14436"/>
                </a:cubicBezTo>
                <a:cubicBezTo>
                  <a:pt x="7496" y="14498"/>
                  <a:pt x="7491" y="14383"/>
                  <a:pt x="7491" y="14362"/>
                </a:cubicBezTo>
                <a:cubicBezTo>
                  <a:pt x="7491" y="14225"/>
                  <a:pt x="7499" y="14094"/>
                  <a:pt x="7516" y="13965"/>
                </a:cubicBezTo>
                <a:cubicBezTo>
                  <a:pt x="7526" y="13888"/>
                  <a:pt x="7517" y="13815"/>
                  <a:pt x="7541" y="13742"/>
                </a:cubicBezTo>
                <a:cubicBezTo>
                  <a:pt x="7554" y="13701"/>
                  <a:pt x="7571" y="13639"/>
                  <a:pt x="7615" y="13618"/>
                </a:cubicBezTo>
                <a:cubicBezTo>
                  <a:pt x="7681" y="13586"/>
                  <a:pt x="7743" y="13593"/>
                  <a:pt x="7813" y="13593"/>
                </a:cubicBezTo>
                <a:cubicBezTo>
                  <a:pt x="7876" y="13593"/>
                  <a:pt x="7922" y="13618"/>
                  <a:pt x="7987" y="13618"/>
                </a:cubicBezTo>
                <a:cubicBezTo>
                  <a:pt x="8031" y="13618"/>
                  <a:pt x="8027" y="13619"/>
                  <a:pt x="8062" y="13593"/>
                </a:cubicBezTo>
              </a:path>
              <a:path w="5557" h="2829">
                <a:moveTo>
                  <a:pt x="7838" y="13866"/>
                </a:moveTo>
                <a:cubicBezTo>
                  <a:pt x="7909" y="13894"/>
                  <a:pt x="7939" y="13915"/>
                  <a:pt x="8012" y="13915"/>
                </a:cubicBezTo>
                <a:cubicBezTo>
                  <a:pt x="8050" y="13915"/>
                  <a:pt x="8061" y="13892"/>
                  <a:pt x="8086" y="13866"/>
                </a:cubicBezTo>
              </a:path>
              <a:path w="5557" h="2829">
                <a:moveTo>
                  <a:pt x="7888" y="13841"/>
                </a:moveTo>
                <a:cubicBezTo>
                  <a:pt x="7853" y="13902"/>
                  <a:pt x="7838" y="13919"/>
                  <a:pt x="7838" y="13990"/>
                </a:cubicBezTo>
                <a:cubicBezTo>
                  <a:pt x="7838" y="14076"/>
                  <a:pt x="7830" y="14083"/>
                  <a:pt x="7888" y="14139"/>
                </a:cubicBezTo>
                <a:cubicBezTo>
                  <a:pt x="7920" y="14171"/>
                  <a:pt x="7944" y="14163"/>
                  <a:pt x="7987" y="14163"/>
                </a:cubicBezTo>
                <a:cubicBezTo>
                  <a:pt x="8026" y="14163"/>
                  <a:pt x="8042" y="14139"/>
                  <a:pt x="8086" y="14139"/>
                </a:cubicBezTo>
                <a:cubicBezTo>
                  <a:pt x="8135" y="14139"/>
                  <a:pt x="8146" y="14150"/>
                  <a:pt x="8186" y="14163"/>
                </a:cubicBezTo>
                <a:cubicBezTo>
                  <a:pt x="8245" y="14182"/>
                  <a:pt x="8235" y="14231"/>
                  <a:pt x="8235" y="14288"/>
                </a:cubicBezTo>
                <a:cubicBezTo>
                  <a:pt x="8235" y="14333"/>
                  <a:pt x="8213" y="14396"/>
                  <a:pt x="8186" y="14436"/>
                </a:cubicBezTo>
                <a:cubicBezTo>
                  <a:pt x="8159" y="14476"/>
                  <a:pt x="8107" y="14500"/>
                  <a:pt x="8062" y="14511"/>
                </a:cubicBezTo>
                <a:cubicBezTo>
                  <a:pt x="7984" y="14531"/>
                  <a:pt x="7870" y="14511"/>
                  <a:pt x="7789" y="14511"/>
                </a:cubicBezTo>
              </a:path>
              <a:path w="5557" h="2829">
                <a:moveTo>
                  <a:pt x="7094" y="14610"/>
                </a:moveTo>
                <a:cubicBezTo>
                  <a:pt x="7182" y="14654"/>
                  <a:pt x="7238" y="14672"/>
                  <a:pt x="7342" y="14684"/>
                </a:cubicBezTo>
                <a:cubicBezTo>
                  <a:pt x="7433" y="14694"/>
                  <a:pt x="7524" y="14725"/>
                  <a:pt x="7615" y="14734"/>
                </a:cubicBezTo>
                <a:cubicBezTo>
                  <a:pt x="7757" y="14747"/>
                  <a:pt x="7896" y="14742"/>
                  <a:pt x="8037" y="14759"/>
                </a:cubicBezTo>
                <a:cubicBezTo>
                  <a:pt x="8100" y="14767"/>
                  <a:pt x="8134" y="14766"/>
                  <a:pt x="8186" y="14784"/>
                </a:cubicBezTo>
                <a:cubicBezTo>
                  <a:pt x="8205" y="14791"/>
                  <a:pt x="8291" y="14808"/>
                  <a:pt x="8235" y="14808"/>
                </a:cubicBezTo>
              </a:path>
              <a:path w="5557" h="2829">
                <a:moveTo>
                  <a:pt x="7516" y="15007"/>
                </a:moveTo>
                <a:cubicBezTo>
                  <a:pt x="7591" y="15028"/>
                  <a:pt x="7663" y="15052"/>
                  <a:pt x="7739" y="15056"/>
                </a:cubicBezTo>
                <a:cubicBezTo>
                  <a:pt x="7803" y="15059"/>
                  <a:pt x="7864" y="15067"/>
                  <a:pt x="7913" y="15032"/>
                </a:cubicBezTo>
              </a:path>
              <a:path w="5557" h="2829">
                <a:moveTo>
                  <a:pt x="7565" y="14982"/>
                </a:moveTo>
                <a:cubicBezTo>
                  <a:pt x="7530" y="15023"/>
                  <a:pt x="7497" y="15054"/>
                  <a:pt x="7491" y="15106"/>
                </a:cubicBezTo>
                <a:cubicBezTo>
                  <a:pt x="7489" y="15124"/>
                  <a:pt x="7527" y="15159"/>
                  <a:pt x="7541" y="15180"/>
                </a:cubicBezTo>
                <a:cubicBezTo>
                  <a:pt x="7564" y="15215"/>
                  <a:pt x="7611" y="15211"/>
                  <a:pt x="7640" y="15230"/>
                </a:cubicBezTo>
                <a:cubicBezTo>
                  <a:pt x="7676" y="15254"/>
                  <a:pt x="7701" y="15264"/>
                  <a:pt x="7739" y="15280"/>
                </a:cubicBezTo>
                <a:cubicBezTo>
                  <a:pt x="7791" y="15302"/>
                  <a:pt x="7810" y="15308"/>
                  <a:pt x="7838" y="15329"/>
                </a:cubicBezTo>
                <a:cubicBezTo>
                  <a:pt x="7897" y="15373"/>
                  <a:pt x="7910" y="15438"/>
                  <a:pt x="7913" y="15503"/>
                </a:cubicBezTo>
                <a:cubicBezTo>
                  <a:pt x="7917" y="15579"/>
                  <a:pt x="7900" y="15632"/>
                  <a:pt x="7888" y="15701"/>
                </a:cubicBezTo>
                <a:cubicBezTo>
                  <a:pt x="7874" y="15786"/>
                  <a:pt x="7857" y="15774"/>
                  <a:pt x="7789" y="15825"/>
                </a:cubicBezTo>
                <a:cubicBezTo>
                  <a:pt x="7755" y="15850"/>
                  <a:pt x="7712" y="15866"/>
                  <a:pt x="7665" y="15850"/>
                </a:cubicBezTo>
                <a:cubicBezTo>
                  <a:pt x="7590" y="15825"/>
                  <a:pt x="7585" y="15779"/>
                  <a:pt x="7541" y="15726"/>
                </a:cubicBezTo>
                <a:cubicBezTo>
                  <a:pt x="7496" y="15682"/>
                  <a:pt x="7479" y="15672"/>
                  <a:pt x="7491" y="15627"/>
                </a:cubicBezTo>
              </a:path>
              <a:path w="5557" h="2829">
                <a:moveTo>
                  <a:pt x="8483" y="14114"/>
                </a:moveTo>
                <a:cubicBezTo>
                  <a:pt x="8555" y="14245"/>
                  <a:pt x="8604" y="14310"/>
                  <a:pt x="8706" y="14412"/>
                </a:cubicBezTo>
                <a:cubicBezTo>
                  <a:pt x="8793" y="14499"/>
                  <a:pt x="8866" y="14596"/>
                  <a:pt x="8954" y="14684"/>
                </a:cubicBezTo>
                <a:cubicBezTo>
                  <a:pt x="9000" y="14730"/>
                  <a:pt x="9030" y="14758"/>
                  <a:pt x="9079" y="14784"/>
                </a:cubicBezTo>
                <a:cubicBezTo>
                  <a:pt x="9119" y="14805"/>
                  <a:pt x="9108" y="14803"/>
                  <a:pt x="9153" y="14808"/>
                </a:cubicBezTo>
                <a:cubicBezTo>
                  <a:pt x="9147" y="14859"/>
                  <a:pt x="9152" y="14864"/>
                  <a:pt x="9128" y="14908"/>
                </a:cubicBezTo>
                <a:cubicBezTo>
                  <a:pt x="9076" y="15004"/>
                  <a:pt x="9021" y="15070"/>
                  <a:pt x="8954" y="15156"/>
                </a:cubicBezTo>
                <a:cubicBezTo>
                  <a:pt x="8851" y="15288"/>
                  <a:pt x="8790" y="15421"/>
                  <a:pt x="8731" y="15577"/>
                </a:cubicBezTo>
                <a:cubicBezTo>
                  <a:pt x="8706" y="15643"/>
                  <a:pt x="8682" y="15710"/>
                  <a:pt x="8657" y="157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14280" y="5643720"/>
            <a:ext cx="1455840" cy="982440"/>
          </a:xfrm>
          <a:custGeom>
            <a:avLst/>
            <a:gdLst/>
            <a:ahLst/>
            <a:rect l="l" t="t" r="r" b="b"/>
            <a:pathLst>
              <a:path w="4045" h="2729">
                <a:moveTo>
                  <a:pt x="3522" y="16148"/>
                </a:moveTo>
                <a:cubicBezTo>
                  <a:pt x="3535" y="16187"/>
                  <a:pt x="3541" y="16169"/>
                  <a:pt x="3547" y="16222"/>
                </a:cubicBezTo>
                <a:cubicBezTo>
                  <a:pt x="3562" y="16353"/>
                  <a:pt x="3547" y="16702"/>
                  <a:pt x="3547" y="16570"/>
                </a:cubicBezTo>
                <a:cubicBezTo>
                  <a:pt x="3547" y="16378"/>
                  <a:pt x="3537" y="16186"/>
                  <a:pt x="3572" y="15999"/>
                </a:cubicBezTo>
                <a:cubicBezTo>
                  <a:pt x="3580" y="15955"/>
                  <a:pt x="3536" y="15720"/>
                  <a:pt x="3597" y="15701"/>
                </a:cubicBezTo>
                <a:cubicBezTo>
                  <a:pt x="3682" y="15675"/>
                  <a:pt x="3793" y="15713"/>
                  <a:pt x="3870" y="15726"/>
                </a:cubicBezTo>
                <a:cubicBezTo>
                  <a:pt x="3945" y="15739"/>
                  <a:pt x="4001" y="15712"/>
                  <a:pt x="4068" y="15701"/>
                </a:cubicBezTo>
                <a:cubicBezTo>
                  <a:pt x="4124" y="15692"/>
                  <a:pt x="4144" y="15692"/>
                  <a:pt x="4192" y="15677"/>
                </a:cubicBezTo>
                <a:cubicBezTo>
                  <a:pt x="4200" y="15677"/>
                  <a:pt x="4209" y="15677"/>
                  <a:pt x="4217" y="15677"/>
                </a:cubicBezTo>
              </a:path>
              <a:path w="4045" h="2729">
                <a:moveTo>
                  <a:pt x="3845" y="15999"/>
                </a:moveTo>
                <a:cubicBezTo>
                  <a:pt x="3911" y="15999"/>
                  <a:pt x="3986" y="16012"/>
                  <a:pt x="4043" y="15974"/>
                </a:cubicBezTo>
                <a:cubicBezTo>
                  <a:pt x="4051" y="15966"/>
                  <a:pt x="4060" y="15957"/>
                  <a:pt x="4068" y="15949"/>
                </a:cubicBezTo>
              </a:path>
              <a:path w="4045" h="2729">
                <a:moveTo>
                  <a:pt x="3919" y="15900"/>
                </a:moveTo>
                <a:cubicBezTo>
                  <a:pt x="3903" y="15937"/>
                  <a:pt x="3890" y="15995"/>
                  <a:pt x="3870" y="16024"/>
                </a:cubicBezTo>
                <a:cubicBezTo>
                  <a:pt x="3847" y="16059"/>
                  <a:pt x="3825" y="16107"/>
                  <a:pt x="3820" y="16148"/>
                </a:cubicBezTo>
                <a:cubicBezTo>
                  <a:pt x="3814" y="16200"/>
                  <a:pt x="3856" y="16197"/>
                  <a:pt x="3894" y="16197"/>
                </a:cubicBezTo>
                <a:cubicBezTo>
                  <a:pt x="3951" y="16197"/>
                  <a:pt x="3969" y="16209"/>
                  <a:pt x="3994" y="16222"/>
                </a:cubicBezTo>
                <a:cubicBezTo>
                  <a:pt x="4060" y="16256"/>
                  <a:pt x="4037" y="16259"/>
                  <a:pt x="4068" y="16321"/>
                </a:cubicBezTo>
                <a:cubicBezTo>
                  <a:pt x="4094" y="16372"/>
                  <a:pt x="4114" y="16406"/>
                  <a:pt x="4118" y="16470"/>
                </a:cubicBezTo>
                <a:cubicBezTo>
                  <a:pt x="4120" y="16499"/>
                  <a:pt x="4106" y="16593"/>
                  <a:pt x="4093" y="16619"/>
                </a:cubicBezTo>
                <a:cubicBezTo>
                  <a:pt x="4077" y="16652"/>
                  <a:pt x="4035" y="16656"/>
                  <a:pt x="4018" y="16669"/>
                </a:cubicBezTo>
                <a:cubicBezTo>
                  <a:pt x="3980" y="16698"/>
                  <a:pt x="3959" y="16696"/>
                  <a:pt x="3919" y="16669"/>
                </a:cubicBezTo>
                <a:cubicBezTo>
                  <a:pt x="3892" y="16651"/>
                  <a:pt x="3868" y="16617"/>
                  <a:pt x="3845" y="16594"/>
                </a:cubicBezTo>
              </a:path>
              <a:path w="4045" h="2729">
                <a:moveTo>
                  <a:pt x="3373" y="16694"/>
                </a:moveTo>
                <a:cubicBezTo>
                  <a:pt x="3387" y="16791"/>
                  <a:pt x="3402" y="16757"/>
                  <a:pt x="3473" y="16793"/>
                </a:cubicBezTo>
                <a:cubicBezTo>
                  <a:pt x="3547" y="16831"/>
                  <a:pt x="3592" y="16821"/>
                  <a:pt x="3671" y="16842"/>
                </a:cubicBezTo>
                <a:cubicBezTo>
                  <a:pt x="3743" y="16861"/>
                  <a:pt x="3821" y="16880"/>
                  <a:pt x="3894" y="16892"/>
                </a:cubicBezTo>
                <a:cubicBezTo>
                  <a:pt x="3965" y="16903"/>
                  <a:pt x="4043" y="16867"/>
                  <a:pt x="4118" y="16867"/>
                </a:cubicBezTo>
                <a:cubicBezTo>
                  <a:pt x="4177" y="16867"/>
                  <a:pt x="4211" y="16848"/>
                  <a:pt x="4266" y="16842"/>
                </a:cubicBezTo>
                <a:cubicBezTo>
                  <a:pt x="4300" y="16839"/>
                  <a:pt x="4349" y="16836"/>
                  <a:pt x="4291" y="16818"/>
                </a:cubicBezTo>
              </a:path>
              <a:path w="4045" h="2729">
                <a:moveTo>
                  <a:pt x="3696" y="17115"/>
                </a:moveTo>
                <a:cubicBezTo>
                  <a:pt x="3726" y="17138"/>
                  <a:pt x="3757" y="17162"/>
                  <a:pt x="3795" y="17165"/>
                </a:cubicBezTo>
                <a:cubicBezTo>
                  <a:pt x="3868" y="17170"/>
                  <a:pt x="3944" y="17165"/>
                  <a:pt x="4018" y="17165"/>
                </a:cubicBezTo>
                <a:cubicBezTo>
                  <a:pt x="4018" y="17140"/>
                  <a:pt x="4018" y="17132"/>
                  <a:pt x="4043" y="17140"/>
                </a:cubicBezTo>
              </a:path>
              <a:path w="4045" h="2729">
                <a:moveTo>
                  <a:pt x="3795" y="17090"/>
                </a:moveTo>
                <a:cubicBezTo>
                  <a:pt x="3707" y="17159"/>
                  <a:pt x="3742" y="17146"/>
                  <a:pt x="3696" y="17214"/>
                </a:cubicBezTo>
                <a:cubicBezTo>
                  <a:pt x="3656" y="17273"/>
                  <a:pt x="3680" y="17256"/>
                  <a:pt x="3696" y="17289"/>
                </a:cubicBezTo>
                <a:cubicBezTo>
                  <a:pt x="3719" y="17334"/>
                  <a:pt x="3677" y="17338"/>
                  <a:pt x="3746" y="17338"/>
                </a:cubicBezTo>
                <a:cubicBezTo>
                  <a:pt x="3809" y="17338"/>
                  <a:pt x="3843" y="17346"/>
                  <a:pt x="3894" y="17363"/>
                </a:cubicBezTo>
                <a:cubicBezTo>
                  <a:pt x="3941" y="17379"/>
                  <a:pt x="3952" y="17350"/>
                  <a:pt x="3994" y="17388"/>
                </a:cubicBezTo>
                <a:cubicBezTo>
                  <a:pt x="4031" y="17421"/>
                  <a:pt x="4088" y="17464"/>
                  <a:pt x="4093" y="17512"/>
                </a:cubicBezTo>
                <a:cubicBezTo>
                  <a:pt x="4101" y="17582"/>
                  <a:pt x="4105" y="17600"/>
                  <a:pt x="4093" y="17661"/>
                </a:cubicBezTo>
                <a:cubicBezTo>
                  <a:pt x="4081" y="17719"/>
                  <a:pt x="4077" y="17780"/>
                  <a:pt x="4043" y="17835"/>
                </a:cubicBezTo>
                <a:cubicBezTo>
                  <a:pt x="4013" y="17883"/>
                  <a:pt x="3956" y="17909"/>
                  <a:pt x="3919" y="17934"/>
                </a:cubicBezTo>
                <a:cubicBezTo>
                  <a:pt x="3857" y="17975"/>
                  <a:pt x="3878" y="17947"/>
                  <a:pt x="3820" y="17934"/>
                </a:cubicBezTo>
                <a:cubicBezTo>
                  <a:pt x="3755" y="17920"/>
                  <a:pt x="3716" y="17898"/>
                  <a:pt x="3671" y="17835"/>
                </a:cubicBezTo>
                <a:cubicBezTo>
                  <a:pt x="3634" y="17783"/>
                  <a:pt x="3646" y="17721"/>
                  <a:pt x="3646" y="17661"/>
                </a:cubicBezTo>
              </a:path>
              <a:path w="4045" h="2729">
                <a:moveTo>
                  <a:pt x="4490" y="16867"/>
                </a:moveTo>
                <a:cubicBezTo>
                  <a:pt x="4490" y="16941"/>
                  <a:pt x="4497" y="17002"/>
                  <a:pt x="4514" y="17066"/>
                </a:cubicBezTo>
                <a:cubicBezTo>
                  <a:pt x="4530" y="17125"/>
                  <a:pt x="4558" y="17142"/>
                  <a:pt x="4589" y="17190"/>
                </a:cubicBezTo>
                <a:cubicBezTo>
                  <a:pt x="4620" y="17238"/>
                  <a:pt x="4656" y="17258"/>
                  <a:pt x="4713" y="17264"/>
                </a:cubicBezTo>
                <a:cubicBezTo>
                  <a:pt x="4753" y="17268"/>
                  <a:pt x="4794" y="17254"/>
                  <a:pt x="4812" y="17214"/>
                </a:cubicBezTo>
                <a:cubicBezTo>
                  <a:pt x="4812" y="17179"/>
                  <a:pt x="4817" y="17162"/>
                  <a:pt x="4837" y="17140"/>
                </a:cubicBezTo>
              </a:path>
              <a:path w="4045" h="2729">
                <a:moveTo>
                  <a:pt x="4589" y="16446"/>
                </a:moveTo>
                <a:lnTo>
                  <a:pt x="4589" y="16446"/>
                </a:lnTo>
              </a:path>
              <a:path w="4045" h="2729">
                <a:moveTo>
                  <a:pt x="5011" y="16743"/>
                </a:moveTo>
                <a:cubicBezTo>
                  <a:pt x="5048" y="16714"/>
                  <a:pt x="5062" y="16718"/>
                  <a:pt x="5110" y="16718"/>
                </a:cubicBezTo>
                <a:cubicBezTo>
                  <a:pt x="5173" y="16718"/>
                  <a:pt x="5211" y="16732"/>
                  <a:pt x="5259" y="16743"/>
                </a:cubicBezTo>
                <a:cubicBezTo>
                  <a:pt x="5312" y="16755"/>
                  <a:pt x="5354" y="16755"/>
                  <a:pt x="5407" y="16768"/>
                </a:cubicBezTo>
                <a:cubicBezTo>
                  <a:pt x="5428" y="16773"/>
                  <a:pt x="5460" y="16768"/>
                  <a:pt x="5482" y="16768"/>
                </a:cubicBezTo>
              </a:path>
              <a:path w="4045" h="2729">
                <a:moveTo>
                  <a:pt x="5928" y="16346"/>
                </a:moveTo>
                <a:cubicBezTo>
                  <a:pt x="5928" y="16354"/>
                  <a:pt x="5928" y="16363"/>
                  <a:pt x="5928" y="16371"/>
                </a:cubicBezTo>
                <a:cubicBezTo>
                  <a:pt x="5961" y="16360"/>
                  <a:pt x="5958" y="16331"/>
                  <a:pt x="5978" y="16321"/>
                </a:cubicBezTo>
                <a:cubicBezTo>
                  <a:pt x="6004" y="16308"/>
                  <a:pt x="6049" y="16281"/>
                  <a:pt x="6077" y="16272"/>
                </a:cubicBezTo>
                <a:cubicBezTo>
                  <a:pt x="6096" y="16266"/>
                  <a:pt x="6167" y="16303"/>
                  <a:pt x="6176" y="16321"/>
                </a:cubicBezTo>
                <a:cubicBezTo>
                  <a:pt x="6191" y="16352"/>
                  <a:pt x="6199" y="16435"/>
                  <a:pt x="6201" y="16470"/>
                </a:cubicBezTo>
                <a:cubicBezTo>
                  <a:pt x="6205" y="16546"/>
                  <a:pt x="6176" y="16616"/>
                  <a:pt x="6176" y="16694"/>
                </a:cubicBezTo>
                <a:cubicBezTo>
                  <a:pt x="6176" y="16772"/>
                  <a:pt x="6158" y="16847"/>
                  <a:pt x="6127" y="16917"/>
                </a:cubicBezTo>
                <a:cubicBezTo>
                  <a:pt x="6112" y="16951"/>
                  <a:pt x="6086" y="17049"/>
                  <a:pt x="6052" y="17066"/>
                </a:cubicBezTo>
                <a:cubicBezTo>
                  <a:pt x="6020" y="17082"/>
                  <a:pt x="5962" y="17046"/>
                  <a:pt x="5953" y="17016"/>
                </a:cubicBezTo>
                <a:cubicBezTo>
                  <a:pt x="5941" y="16973"/>
                  <a:pt x="5928" y="16938"/>
                  <a:pt x="5928" y="16892"/>
                </a:cubicBezTo>
                <a:cubicBezTo>
                  <a:pt x="5928" y="16839"/>
                  <a:pt x="5961" y="16842"/>
                  <a:pt x="6003" y="16842"/>
                </a:cubicBezTo>
                <a:cubicBezTo>
                  <a:pt x="6054" y="16842"/>
                  <a:pt x="6049" y="16885"/>
                  <a:pt x="6077" y="16917"/>
                </a:cubicBezTo>
                <a:cubicBezTo>
                  <a:pt x="6110" y="16954"/>
                  <a:pt x="6120" y="16997"/>
                  <a:pt x="6152" y="17041"/>
                </a:cubicBezTo>
                <a:cubicBezTo>
                  <a:pt x="6161" y="17054"/>
                  <a:pt x="6204" y="17146"/>
                  <a:pt x="6226" y="17140"/>
                </a:cubicBezTo>
                <a:cubicBezTo>
                  <a:pt x="6226" y="17112"/>
                  <a:pt x="6228" y="17101"/>
                  <a:pt x="6251" y="17090"/>
                </a:cubicBezTo>
              </a:path>
              <a:path w="4045" h="2729">
                <a:moveTo>
                  <a:pt x="6350" y="16520"/>
                </a:moveTo>
                <a:cubicBezTo>
                  <a:pt x="6362" y="16556"/>
                  <a:pt x="6375" y="16560"/>
                  <a:pt x="6375" y="16619"/>
                </a:cubicBezTo>
                <a:cubicBezTo>
                  <a:pt x="6375" y="16744"/>
                  <a:pt x="6325" y="17016"/>
                  <a:pt x="6400" y="17115"/>
                </a:cubicBezTo>
                <a:cubicBezTo>
                  <a:pt x="6400" y="17019"/>
                  <a:pt x="6409" y="16933"/>
                  <a:pt x="6424" y="16842"/>
                </a:cubicBezTo>
                <a:cubicBezTo>
                  <a:pt x="6445" y="16712"/>
                  <a:pt x="6425" y="16564"/>
                  <a:pt x="6449" y="16446"/>
                </a:cubicBezTo>
                <a:cubicBezTo>
                  <a:pt x="6462" y="16383"/>
                  <a:pt x="6434" y="16355"/>
                  <a:pt x="6474" y="16321"/>
                </a:cubicBezTo>
                <a:cubicBezTo>
                  <a:pt x="6518" y="16284"/>
                  <a:pt x="6485" y="16272"/>
                  <a:pt x="6548" y="16272"/>
                </a:cubicBezTo>
                <a:cubicBezTo>
                  <a:pt x="6613" y="16272"/>
                  <a:pt x="6663" y="16294"/>
                  <a:pt x="6722" y="16321"/>
                </a:cubicBezTo>
                <a:cubicBezTo>
                  <a:pt x="6770" y="16344"/>
                  <a:pt x="6826" y="16381"/>
                  <a:pt x="6871" y="16396"/>
                </a:cubicBezTo>
                <a:cubicBezTo>
                  <a:pt x="6890" y="16402"/>
                  <a:pt x="6925" y="16396"/>
                  <a:pt x="6945" y="16396"/>
                </a:cubicBezTo>
              </a:path>
              <a:path w="4045" h="2729">
                <a:moveTo>
                  <a:pt x="6648" y="16545"/>
                </a:moveTo>
                <a:cubicBezTo>
                  <a:pt x="6684" y="16581"/>
                  <a:pt x="6714" y="16634"/>
                  <a:pt x="6772" y="16619"/>
                </a:cubicBezTo>
                <a:cubicBezTo>
                  <a:pt x="6797" y="16611"/>
                  <a:pt x="6821" y="16602"/>
                  <a:pt x="6846" y="16594"/>
                </a:cubicBezTo>
              </a:path>
              <a:path w="4045" h="2729">
                <a:moveTo>
                  <a:pt x="6623" y="16570"/>
                </a:moveTo>
                <a:cubicBezTo>
                  <a:pt x="6597" y="16630"/>
                  <a:pt x="6598" y="16653"/>
                  <a:pt x="6598" y="16718"/>
                </a:cubicBezTo>
                <a:cubicBezTo>
                  <a:pt x="6598" y="16764"/>
                  <a:pt x="6591" y="16783"/>
                  <a:pt x="6623" y="16818"/>
                </a:cubicBezTo>
                <a:cubicBezTo>
                  <a:pt x="6662" y="16861"/>
                  <a:pt x="6682" y="16820"/>
                  <a:pt x="6722" y="16842"/>
                </a:cubicBezTo>
                <a:cubicBezTo>
                  <a:pt x="6755" y="16860"/>
                  <a:pt x="6793" y="16851"/>
                  <a:pt x="6821" y="16867"/>
                </a:cubicBezTo>
                <a:cubicBezTo>
                  <a:pt x="6871" y="16895"/>
                  <a:pt x="6886" y="16966"/>
                  <a:pt x="6896" y="17016"/>
                </a:cubicBezTo>
                <a:cubicBezTo>
                  <a:pt x="6906" y="17066"/>
                  <a:pt x="6879" y="17083"/>
                  <a:pt x="6846" y="17115"/>
                </a:cubicBezTo>
                <a:cubicBezTo>
                  <a:pt x="6812" y="17149"/>
                  <a:pt x="6779" y="17189"/>
                  <a:pt x="6722" y="17165"/>
                </a:cubicBezTo>
                <a:cubicBezTo>
                  <a:pt x="6684" y="17149"/>
                  <a:pt x="6654" y="17121"/>
                  <a:pt x="6623" y="17090"/>
                </a:cubicBezTo>
                <a:cubicBezTo>
                  <a:pt x="6594" y="17061"/>
                  <a:pt x="6549" y="17019"/>
                  <a:pt x="6524" y="17016"/>
                </a:cubicBezTo>
                <a:cubicBezTo>
                  <a:pt x="6499" y="17016"/>
                  <a:pt x="6491" y="17016"/>
                  <a:pt x="6499" y="16991"/>
                </a:cubicBezTo>
              </a:path>
              <a:path w="4045" h="2729">
                <a:moveTo>
                  <a:pt x="6846" y="17239"/>
                </a:moveTo>
                <a:cubicBezTo>
                  <a:pt x="6763" y="17281"/>
                  <a:pt x="6732" y="17268"/>
                  <a:pt x="6648" y="17289"/>
                </a:cubicBezTo>
                <a:cubicBezTo>
                  <a:pt x="6576" y="17307"/>
                  <a:pt x="6500" y="17327"/>
                  <a:pt x="6424" y="17338"/>
                </a:cubicBezTo>
                <a:cubicBezTo>
                  <a:pt x="6259" y="17361"/>
                  <a:pt x="6080" y="17316"/>
                  <a:pt x="5928" y="17363"/>
                </a:cubicBezTo>
                <a:cubicBezTo>
                  <a:pt x="5877" y="17378"/>
                  <a:pt x="5847" y="17349"/>
                  <a:pt x="5879" y="17413"/>
                </a:cubicBezTo>
              </a:path>
              <a:path w="4045" h="2729">
                <a:moveTo>
                  <a:pt x="6400" y="17512"/>
                </a:moveTo>
                <a:cubicBezTo>
                  <a:pt x="6492" y="17528"/>
                  <a:pt x="6558" y="17537"/>
                  <a:pt x="6648" y="17537"/>
                </a:cubicBezTo>
                <a:cubicBezTo>
                  <a:pt x="6656" y="17537"/>
                  <a:pt x="6664" y="17537"/>
                  <a:pt x="6672" y="17537"/>
                </a:cubicBezTo>
              </a:path>
              <a:path w="4045" h="2729">
                <a:moveTo>
                  <a:pt x="6400" y="17487"/>
                </a:moveTo>
                <a:cubicBezTo>
                  <a:pt x="6339" y="17522"/>
                  <a:pt x="6332" y="17538"/>
                  <a:pt x="6300" y="17587"/>
                </a:cubicBezTo>
                <a:cubicBezTo>
                  <a:pt x="6291" y="17600"/>
                  <a:pt x="6251" y="17665"/>
                  <a:pt x="6276" y="17686"/>
                </a:cubicBezTo>
                <a:cubicBezTo>
                  <a:pt x="6285" y="17693"/>
                  <a:pt x="6321" y="17733"/>
                  <a:pt x="6325" y="17735"/>
                </a:cubicBezTo>
                <a:cubicBezTo>
                  <a:pt x="6366" y="17755"/>
                  <a:pt x="6456" y="17746"/>
                  <a:pt x="6499" y="17760"/>
                </a:cubicBezTo>
                <a:cubicBezTo>
                  <a:pt x="6528" y="17770"/>
                  <a:pt x="6544" y="17794"/>
                  <a:pt x="6548" y="17835"/>
                </a:cubicBezTo>
                <a:cubicBezTo>
                  <a:pt x="6556" y="17912"/>
                  <a:pt x="6573" y="17979"/>
                  <a:pt x="6573" y="18058"/>
                </a:cubicBezTo>
                <a:cubicBezTo>
                  <a:pt x="6573" y="18135"/>
                  <a:pt x="6560" y="18187"/>
                  <a:pt x="6548" y="18256"/>
                </a:cubicBezTo>
                <a:cubicBezTo>
                  <a:pt x="6534" y="18335"/>
                  <a:pt x="6531" y="18342"/>
                  <a:pt x="6474" y="18380"/>
                </a:cubicBezTo>
                <a:cubicBezTo>
                  <a:pt x="6428" y="18411"/>
                  <a:pt x="6391" y="18411"/>
                  <a:pt x="6350" y="18355"/>
                </a:cubicBezTo>
                <a:cubicBezTo>
                  <a:pt x="6319" y="18313"/>
                  <a:pt x="6303" y="18252"/>
                  <a:pt x="6276" y="18207"/>
                </a:cubicBezTo>
                <a:cubicBezTo>
                  <a:pt x="6241" y="18148"/>
                  <a:pt x="6241" y="18107"/>
                  <a:pt x="6251" y="18058"/>
                </a:cubicBezTo>
                <a:cubicBezTo>
                  <a:pt x="6251" y="18050"/>
                  <a:pt x="6251" y="18041"/>
                  <a:pt x="6251" y="18033"/>
                </a:cubicBezTo>
              </a:path>
              <a:path w="4045" h="2729">
                <a:moveTo>
                  <a:pt x="7367" y="17363"/>
                </a:moveTo>
                <a:cubicBezTo>
                  <a:pt x="7391" y="17444"/>
                  <a:pt x="7413" y="17503"/>
                  <a:pt x="7417" y="17587"/>
                </a:cubicBezTo>
                <a:cubicBezTo>
                  <a:pt x="7422" y="17701"/>
                  <a:pt x="7407" y="17800"/>
                  <a:pt x="7392" y="17909"/>
                </a:cubicBezTo>
                <a:cubicBezTo>
                  <a:pt x="7382" y="17981"/>
                  <a:pt x="7371" y="18095"/>
                  <a:pt x="7342" y="18157"/>
                </a:cubicBezTo>
                <a:cubicBezTo>
                  <a:pt x="7326" y="18192"/>
                  <a:pt x="7309" y="18227"/>
                  <a:pt x="7268" y="18231"/>
                </a:cubicBezTo>
                <a:cubicBezTo>
                  <a:pt x="7232" y="18235"/>
                  <a:pt x="7209" y="18194"/>
                  <a:pt x="7193" y="18182"/>
                </a:cubicBezTo>
                <a:cubicBezTo>
                  <a:pt x="7162" y="18158"/>
                  <a:pt x="7157" y="18114"/>
                  <a:pt x="7144" y="18083"/>
                </a:cubicBezTo>
                <a:cubicBezTo>
                  <a:pt x="7111" y="18007"/>
                  <a:pt x="7094" y="17996"/>
                  <a:pt x="7094" y="17909"/>
                </a:cubicBezTo>
              </a:path>
              <a:path w="4045" h="2729">
                <a:moveTo>
                  <a:pt x="7392" y="16867"/>
                </a:moveTo>
                <a:cubicBezTo>
                  <a:pt x="7349" y="16867"/>
                  <a:pt x="7332" y="16872"/>
                  <a:pt x="7317" y="16917"/>
                </a:cubicBezTo>
                <a:cubicBezTo>
                  <a:pt x="7303" y="16958"/>
                  <a:pt x="7342" y="16960"/>
                  <a:pt x="7367" y="16966"/>
                </a:cubicBezTo>
                <a:cubicBezTo>
                  <a:pt x="7367" y="16923"/>
                  <a:pt x="7368" y="16927"/>
                  <a:pt x="7342" y="168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26.  u = 2i –j, v = -i + j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 +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 –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u – 3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+ 4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4200" y="1473120"/>
            <a:ext cx="1517760" cy="706680"/>
          </a:xfrm>
          <a:custGeom>
            <a:avLst/>
            <a:gdLst/>
            <a:ahLst/>
            <a:rect l="l" t="t" r="r" b="b"/>
            <a:pathLst>
              <a:path w="4218" h="1960">
                <a:moveTo>
                  <a:pt x="7516" y="4465"/>
                </a:moveTo>
                <a:cubicBezTo>
                  <a:pt x="7516" y="4398"/>
                  <a:pt x="7516" y="4502"/>
                  <a:pt x="7516" y="4514"/>
                </a:cubicBezTo>
                <a:cubicBezTo>
                  <a:pt x="7516" y="4577"/>
                  <a:pt x="7524" y="4611"/>
                  <a:pt x="7541" y="4663"/>
                </a:cubicBezTo>
                <a:cubicBezTo>
                  <a:pt x="7551" y="4694"/>
                  <a:pt x="7528" y="4737"/>
                  <a:pt x="7541" y="4787"/>
                </a:cubicBezTo>
                <a:cubicBezTo>
                  <a:pt x="7549" y="4819"/>
                  <a:pt x="7526" y="4886"/>
                  <a:pt x="7516" y="4911"/>
                </a:cubicBezTo>
                <a:cubicBezTo>
                  <a:pt x="7546" y="4961"/>
                  <a:pt x="7541" y="4998"/>
                  <a:pt x="7541" y="5060"/>
                </a:cubicBezTo>
                <a:cubicBezTo>
                  <a:pt x="7541" y="5144"/>
                  <a:pt x="7529" y="5160"/>
                  <a:pt x="7516" y="5234"/>
                </a:cubicBezTo>
                <a:cubicBezTo>
                  <a:pt x="7501" y="5321"/>
                  <a:pt x="7514" y="5404"/>
                  <a:pt x="7491" y="5482"/>
                </a:cubicBezTo>
                <a:cubicBezTo>
                  <a:pt x="7474" y="5539"/>
                  <a:pt x="7484" y="5602"/>
                  <a:pt x="7466" y="5655"/>
                </a:cubicBezTo>
                <a:cubicBezTo>
                  <a:pt x="7445" y="5718"/>
                  <a:pt x="7404" y="5829"/>
                  <a:pt x="7466" y="5804"/>
                </a:cubicBezTo>
                <a:cubicBezTo>
                  <a:pt x="7491" y="5804"/>
                  <a:pt x="7499" y="5804"/>
                  <a:pt x="7491" y="5779"/>
                </a:cubicBezTo>
              </a:path>
              <a:path w="4218" h="1960">
                <a:moveTo>
                  <a:pt x="7962" y="4887"/>
                </a:moveTo>
                <a:cubicBezTo>
                  <a:pt x="7943" y="4906"/>
                  <a:pt x="7919" y="4930"/>
                  <a:pt x="7913" y="4961"/>
                </a:cubicBezTo>
                <a:cubicBezTo>
                  <a:pt x="7890" y="5074"/>
                  <a:pt x="7913" y="5236"/>
                  <a:pt x="7938" y="5333"/>
                </a:cubicBezTo>
                <a:cubicBezTo>
                  <a:pt x="7965" y="5437"/>
                  <a:pt x="7950" y="5499"/>
                  <a:pt x="8012" y="5581"/>
                </a:cubicBezTo>
                <a:cubicBezTo>
                  <a:pt x="8045" y="5624"/>
                  <a:pt x="8072" y="5666"/>
                  <a:pt x="8111" y="5705"/>
                </a:cubicBezTo>
                <a:cubicBezTo>
                  <a:pt x="8133" y="5727"/>
                  <a:pt x="8204" y="5758"/>
                  <a:pt x="8235" y="5755"/>
                </a:cubicBezTo>
                <a:cubicBezTo>
                  <a:pt x="8261" y="5752"/>
                  <a:pt x="8340" y="5718"/>
                  <a:pt x="8359" y="5705"/>
                </a:cubicBezTo>
                <a:cubicBezTo>
                  <a:pt x="8408" y="5673"/>
                  <a:pt x="8431" y="5645"/>
                  <a:pt x="8458" y="5606"/>
                </a:cubicBezTo>
                <a:cubicBezTo>
                  <a:pt x="8495" y="5551"/>
                  <a:pt x="8546" y="5490"/>
                  <a:pt x="8558" y="5432"/>
                </a:cubicBezTo>
                <a:cubicBezTo>
                  <a:pt x="8570" y="5370"/>
                  <a:pt x="8579" y="5296"/>
                  <a:pt x="8582" y="5234"/>
                </a:cubicBezTo>
                <a:cubicBezTo>
                  <a:pt x="8586" y="5165"/>
                  <a:pt x="8603" y="5123"/>
                  <a:pt x="8607" y="5060"/>
                </a:cubicBezTo>
                <a:cubicBezTo>
                  <a:pt x="8612" y="4970"/>
                  <a:pt x="8607" y="4877"/>
                  <a:pt x="8607" y="4787"/>
                </a:cubicBezTo>
                <a:cubicBezTo>
                  <a:pt x="8607" y="4916"/>
                  <a:pt x="8616" y="5033"/>
                  <a:pt x="8632" y="5159"/>
                </a:cubicBezTo>
                <a:cubicBezTo>
                  <a:pt x="8642" y="5235"/>
                  <a:pt x="8633" y="5311"/>
                  <a:pt x="8657" y="5383"/>
                </a:cubicBezTo>
                <a:cubicBezTo>
                  <a:pt x="8678" y="5445"/>
                  <a:pt x="8668" y="5494"/>
                  <a:pt x="8682" y="5556"/>
                </a:cubicBezTo>
                <a:cubicBezTo>
                  <a:pt x="8694" y="5607"/>
                  <a:pt x="8712" y="5662"/>
                  <a:pt x="8731" y="5705"/>
                </a:cubicBezTo>
                <a:cubicBezTo>
                  <a:pt x="8737" y="5718"/>
                  <a:pt x="8756" y="5804"/>
                  <a:pt x="8781" y="5804"/>
                </a:cubicBezTo>
                <a:cubicBezTo>
                  <a:pt x="8781" y="5796"/>
                  <a:pt x="8781" y="5787"/>
                  <a:pt x="8781" y="5779"/>
                </a:cubicBezTo>
              </a:path>
              <a:path w="4218" h="1960">
                <a:moveTo>
                  <a:pt x="9277" y="4787"/>
                </a:moveTo>
                <a:cubicBezTo>
                  <a:pt x="9312" y="4741"/>
                  <a:pt x="9305" y="4725"/>
                  <a:pt x="9327" y="4812"/>
                </a:cubicBezTo>
                <a:cubicBezTo>
                  <a:pt x="9339" y="4860"/>
                  <a:pt x="9339" y="4913"/>
                  <a:pt x="9351" y="4961"/>
                </a:cubicBezTo>
                <a:cubicBezTo>
                  <a:pt x="9366" y="5021"/>
                  <a:pt x="9359" y="5081"/>
                  <a:pt x="9376" y="5135"/>
                </a:cubicBezTo>
                <a:cubicBezTo>
                  <a:pt x="9407" y="5236"/>
                  <a:pt x="9369" y="5360"/>
                  <a:pt x="9401" y="5457"/>
                </a:cubicBezTo>
                <a:cubicBezTo>
                  <a:pt x="9420" y="5513"/>
                  <a:pt x="9380" y="5423"/>
                  <a:pt x="9376" y="5407"/>
                </a:cubicBezTo>
              </a:path>
              <a:path w="4218" h="1960">
                <a:moveTo>
                  <a:pt x="8905" y="5060"/>
                </a:moveTo>
                <a:cubicBezTo>
                  <a:pt x="8960" y="5093"/>
                  <a:pt x="9011" y="5085"/>
                  <a:pt x="9079" y="5085"/>
                </a:cubicBezTo>
                <a:cubicBezTo>
                  <a:pt x="9249" y="5085"/>
                  <a:pt x="9410" y="5083"/>
                  <a:pt x="9575" y="5060"/>
                </a:cubicBezTo>
                <a:cubicBezTo>
                  <a:pt x="9654" y="5049"/>
                  <a:pt x="9722" y="5053"/>
                  <a:pt x="9798" y="5035"/>
                </a:cubicBezTo>
                <a:cubicBezTo>
                  <a:pt x="9851" y="5023"/>
                  <a:pt x="9930" y="5061"/>
                  <a:pt x="9947" y="5011"/>
                </a:cubicBezTo>
              </a:path>
              <a:path w="4218" h="1960">
                <a:moveTo>
                  <a:pt x="10393" y="4713"/>
                </a:moveTo>
                <a:cubicBezTo>
                  <a:pt x="10385" y="4705"/>
                  <a:pt x="10376" y="4696"/>
                  <a:pt x="10368" y="4688"/>
                </a:cubicBezTo>
                <a:cubicBezTo>
                  <a:pt x="10380" y="4737"/>
                  <a:pt x="10381" y="4789"/>
                  <a:pt x="10393" y="4837"/>
                </a:cubicBezTo>
                <a:cubicBezTo>
                  <a:pt x="10417" y="4934"/>
                  <a:pt x="10413" y="5042"/>
                  <a:pt x="10443" y="5135"/>
                </a:cubicBezTo>
                <a:cubicBezTo>
                  <a:pt x="10465" y="5203"/>
                  <a:pt x="10488" y="5265"/>
                  <a:pt x="10492" y="5333"/>
                </a:cubicBezTo>
                <a:cubicBezTo>
                  <a:pt x="10498" y="5432"/>
                  <a:pt x="10511" y="5573"/>
                  <a:pt x="10468" y="5655"/>
                </a:cubicBezTo>
                <a:cubicBezTo>
                  <a:pt x="10444" y="5701"/>
                  <a:pt x="10430" y="5759"/>
                  <a:pt x="10393" y="5804"/>
                </a:cubicBezTo>
                <a:cubicBezTo>
                  <a:pt x="10368" y="5834"/>
                  <a:pt x="10305" y="5848"/>
                  <a:pt x="10269" y="5854"/>
                </a:cubicBezTo>
                <a:cubicBezTo>
                  <a:pt x="10214" y="5863"/>
                  <a:pt x="10135" y="5861"/>
                  <a:pt x="10096" y="5829"/>
                </a:cubicBezTo>
                <a:cubicBezTo>
                  <a:pt x="10061" y="5801"/>
                  <a:pt x="10004" y="5751"/>
                  <a:pt x="9996" y="5705"/>
                </a:cubicBezTo>
                <a:cubicBezTo>
                  <a:pt x="9986" y="5649"/>
                  <a:pt x="9979" y="5610"/>
                  <a:pt x="9971" y="5556"/>
                </a:cubicBezTo>
              </a:path>
              <a:path w="4218" h="1960">
                <a:moveTo>
                  <a:pt x="10443" y="4291"/>
                </a:moveTo>
                <a:cubicBezTo>
                  <a:pt x="10468" y="4291"/>
                  <a:pt x="10476" y="4291"/>
                  <a:pt x="10468" y="4316"/>
                </a:cubicBezTo>
              </a:path>
              <a:path w="4218" h="1960">
                <a:moveTo>
                  <a:pt x="7218" y="5383"/>
                </a:moveTo>
                <a:cubicBezTo>
                  <a:pt x="7185" y="5323"/>
                  <a:pt x="7175" y="5304"/>
                  <a:pt x="7144" y="5234"/>
                </a:cubicBezTo>
                <a:cubicBezTo>
                  <a:pt x="7087" y="5106"/>
                  <a:pt x="7060" y="4950"/>
                  <a:pt x="7119" y="4812"/>
                </a:cubicBezTo>
                <a:cubicBezTo>
                  <a:pt x="7166" y="4702"/>
                  <a:pt x="7308" y="4487"/>
                  <a:pt x="7441" y="4465"/>
                </a:cubicBezTo>
                <a:cubicBezTo>
                  <a:pt x="7589" y="4440"/>
                  <a:pt x="7671" y="4615"/>
                  <a:pt x="7714" y="4713"/>
                </a:cubicBezTo>
                <a:cubicBezTo>
                  <a:pt x="7801" y="4911"/>
                  <a:pt x="7868" y="5096"/>
                  <a:pt x="7913" y="5308"/>
                </a:cubicBezTo>
                <a:cubicBezTo>
                  <a:pt x="7956" y="5510"/>
                  <a:pt x="8020" y="5686"/>
                  <a:pt x="8086" y="5879"/>
                </a:cubicBezTo>
                <a:cubicBezTo>
                  <a:pt x="8141" y="6039"/>
                  <a:pt x="8141" y="5948"/>
                  <a:pt x="8161" y="5978"/>
                </a:cubicBezTo>
                <a:cubicBezTo>
                  <a:pt x="8236" y="5820"/>
                  <a:pt x="8261" y="5696"/>
                  <a:pt x="8285" y="5507"/>
                </a:cubicBezTo>
                <a:cubicBezTo>
                  <a:pt x="8323" y="5210"/>
                  <a:pt x="8346" y="4911"/>
                  <a:pt x="8384" y="4614"/>
                </a:cubicBezTo>
                <a:cubicBezTo>
                  <a:pt x="8396" y="4522"/>
                  <a:pt x="8409" y="4316"/>
                  <a:pt x="8458" y="4242"/>
                </a:cubicBezTo>
                <a:cubicBezTo>
                  <a:pt x="8575" y="4064"/>
                  <a:pt x="8731" y="4066"/>
                  <a:pt x="8905" y="4167"/>
                </a:cubicBezTo>
                <a:cubicBezTo>
                  <a:pt x="9077" y="4267"/>
                  <a:pt x="9168" y="4495"/>
                  <a:pt x="9252" y="4663"/>
                </a:cubicBezTo>
                <a:cubicBezTo>
                  <a:pt x="9387" y="4934"/>
                  <a:pt x="9490" y="5223"/>
                  <a:pt x="9649" y="5482"/>
                </a:cubicBezTo>
                <a:cubicBezTo>
                  <a:pt x="9724" y="5605"/>
                  <a:pt x="9768" y="5763"/>
                  <a:pt x="9847" y="5879"/>
                </a:cubicBezTo>
                <a:cubicBezTo>
                  <a:pt x="9864" y="5887"/>
                  <a:pt x="9880" y="5896"/>
                  <a:pt x="9897" y="5904"/>
                </a:cubicBezTo>
                <a:cubicBezTo>
                  <a:pt x="9889" y="5853"/>
                  <a:pt x="9852" y="5609"/>
                  <a:pt x="9847" y="5482"/>
                </a:cubicBezTo>
                <a:cubicBezTo>
                  <a:pt x="9839" y="5258"/>
                  <a:pt x="9841" y="5034"/>
                  <a:pt x="9872" y="4812"/>
                </a:cubicBezTo>
                <a:cubicBezTo>
                  <a:pt x="9894" y="4656"/>
                  <a:pt x="9929" y="4424"/>
                  <a:pt x="10021" y="4291"/>
                </a:cubicBezTo>
                <a:cubicBezTo>
                  <a:pt x="10084" y="4200"/>
                  <a:pt x="10169" y="4185"/>
                  <a:pt x="10244" y="4142"/>
                </a:cubicBezTo>
                <a:cubicBezTo>
                  <a:pt x="10310" y="4256"/>
                  <a:pt x="10362" y="4370"/>
                  <a:pt x="10418" y="4490"/>
                </a:cubicBezTo>
                <a:cubicBezTo>
                  <a:pt x="10524" y="4717"/>
                  <a:pt x="10609" y="4964"/>
                  <a:pt x="10666" y="5209"/>
                </a:cubicBezTo>
                <a:cubicBezTo>
                  <a:pt x="10710" y="5395"/>
                  <a:pt x="10714" y="5577"/>
                  <a:pt x="10790" y="5755"/>
                </a:cubicBezTo>
                <a:cubicBezTo>
                  <a:pt x="10842" y="5876"/>
                  <a:pt x="10963" y="5960"/>
                  <a:pt x="11088" y="6003"/>
                </a:cubicBezTo>
                <a:cubicBezTo>
                  <a:pt x="11177" y="6033"/>
                  <a:pt x="11295" y="6003"/>
                  <a:pt x="11311" y="60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6200" y="1527120"/>
            <a:ext cx="277920" cy="588960"/>
          </a:xfrm>
          <a:custGeom>
            <a:avLst/>
            <a:gdLst/>
            <a:ahLst/>
            <a:rect l="l" t="t" r="r" b="b"/>
            <a:pathLst>
              <a:path w="770" h="1638">
                <a:moveTo>
                  <a:pt x="13295" y="4242"/>
                </a:moveTo>
                <a:cubicBezTo>
                  <a:pt x="13301" y="4286"/>
                  <a:pt x="13315" y="4323"/>
                  <a:pt x="13320" y="4366"/>
                </a:cubicBezTo>
                <a:cubicBezTo>
                  <a:pt x="13332" y="4465"/>
                  <a:pt x="13342" y="4564"/>
                  <a:pt x="13345" y="4663"/>
                </a:cubicBezTo>
                <a:cubicBezTo>
                  <a:pt x="13350" y="4815"/>
                  <a:pt x="13357" y="4961"/>
                  <a:pt x="13370" y="5110"/>
                </a:cubicBezTo>
                <a:cubicBezTo>
                  <a:pt x="13381" y="5235"/>
                  <a:pt x="13383" y="5358"/>
                  <a:pt x="13395" y="5482"/>
                </a:cubicBezTo>
                <a:cubicBezTo>
                  <a:pt x="13407" y="5599"/>
                  <a:pt x="13411" y="5746"/>
                  <a:pt x="13370" y="5854"/>
                </a:cubicBezTo>
                <a:cubicBezTo>
                  <a:pt x="13351" y="5905"/>
                  <a:pt x="13402" y="5822"/>
                  <a:pt x="13419" y="5804"/>
                </a:cubicBezTo>
              </a:path>
              <a:path w="770" h="1638">
                <a:moveTo>
                  <a:pt x="13940" y="4638"/>
                </a:moveTo>
                <a:cubicBezTo>
                  <a:pt x="13949" y="4725"/>
                  <a:pt x="13980" y="4796"/>
                  <a:pt x="13990" y="4887"/>
                </a:cubicBezTo>
                <a:cubicBezTo>
                  <a:pt x="14002" y="4997"/>
                  <a:pt x="14015" y="5096"/>
                  <a:pt x="14015" y="5209"/>
                </a:cubicBezTo>
                <a:cubicBezTo>
                  <a:pt x="14015" y="5390"/>
                  <a:pt x="13997" y="5582"/>
                  <a:pt x="14039" y="5755"/>
                </a:cubicBezTo>
                <a:cubicBezTo>
                  <a:pt x="14039" y="5779"/>
                  <a:pt x="14039" y="5788"/>
                  <a:pt x="14039" y="5804"/>
                </a:cubicBezTo>
                <a:cubicBezTo>
                  <a:pt x="14039" y="5870"/>
                  <a:pt x="14063" y="5719"/>
                  <a:pt x="14064" y="5705"/>
                </a:cubicBezTo>
                <a:cubicBezTo>
                  <a:pt x="14064" y="5688"/>
                  <a:pt x="14064" y="5672"/>
                  <a:pt x="14064" y="5655"/>
                </a:cubicBezTo>
              </a:path>
              <a:path w="770" h="1638">
                <a:moveTo>
                  <a:pt x="13965" y="4242"/>
                </a:moveTo>
                <a:cubicBezTo>
                  <a:pt x="13957" y="4242"/>
                  <a:pt x="13948" y="4242"/>
                  <a:pt x="13940" y="4242"/>
                </a:cubicBezTo>
                <a:cubicBezTo>
                  <a:pt x="13988" y="4251"/>
                  <a:pt x="14027" y="4254"/>
                  <a:pt x="14039" y="42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57680" y="2857680"/>
            <a:ext cx="374400" cy="312480"/>
          </a:xfrm>
          <a:custGeom>
            <a:avLst/>
            <a:gdLst/>
            <a:ahLst/>
            <a:rect l="l" t="t" r="r" b="b"/>
            <a:pathLst>
              <a:path w="1042" h="869">
                <a:moveTo>
                  <a:pt x="8136" y="8111"/>
                </a:moveTo>
                <a:cubicBezTo>
                  <a:pt x="8125" y="8143"/>
                  <a:pt x="8118" y="8150"/>
                  <a:pt x="8086" y="8161"/>
                </a:cubicBezTo>
                <a:cubicBezTo>
                  <a:pt x="8083" y="8152"/>
                  <a:pt x="8038" y="8106"/>
                  <a:pt x="8062" y="8086"/>
                </a:cubicBezTo>
                <a:cubicBezTo>
                  <a:pt x="8082" y="8070"/>
                  <a:pt x="8070" y="8025"/>
                  <a:pt x="8086" y="8012"/>
                </a:cubicBezTo>
                <a:cubicBezTo>
                  <a:pt x="8101" y="8000"/>
                  <a:pt x="8163" y="7948"/>
                  <a:pt x="8186" y="7938"/>
                </a:cubicBezTo>
                <a:cubicBezTo>
                  <a:pt x="8230" y="7919"/>
                  <a:pt x="8271" y="7944"/>
                  <a:pt x="8285" y="7962"/>
                </a:cubicBezTo>
                <a:cubicBezTo>
                  <a:pt x="8308" y="7992"/>
                  <a:pt x="8331" y="8023"/>
                  <a:pt x="8334" y="8062"/>
                </a:cubicBezTo>
                <a:cubicBezTo>
                  <a:pt x="8340" y="8154"/>
                  <a:pt x="8302" y="8174"/>
                  <a:pt x="8285" y="8260"/>
                </a:cubicBezTo>
                <a:cubicBezTo>
                  <a:pt x="8271" y="8328"/>
                  <a:pt x="8255" y="8316"/>
                  <a:pt x="8235" y="8359"/>
                </a:cubicBezTo>
                <a:cubicBezTo>
                  <a:pt x="8208" y="8417"/>
                  <a:pt x="8157" y="8409"/>
                  <a:pt x="8186" y="8409"/>
                </a:cubicBezTo>
                <a:cubicBezTo>
                  <a:pt x="8233" y="8409"/>
                  <a:pt x="8305" y="8392"/>
                  <a:pt x="8334" y="8434"/>
                </a:cubicBezTo>
                <a:cubicBezTo>
                  <a:pt x="8382" y="8503"/>
                  <a:pt x="8430" y="8463"/>
                  <a:pt x="8434" y="8558"/>
                </a:cubicBezTo>
                <a:cubicBezTo>
                  <a:pt x="8437" y="8631"/>
                  <a:pt x="8445" y="8676"/>
                  <a:pt x="8384" y="8706"/>
                </a:cubicBezTo>
                <a:cubicBezTo>
                  <a:pt x="8310" y="8743"/>
                  <a:pt x="8295" y="8781"/>
                  <a:pt x="8210" y="8781"/>
                </a:cubicBezTo>
                <a:cubicBezTo>
                  <a:pt x="8117" y="8781"/>
                  <a:pt x="7952" y="8821"/>
                  <a:pt x="7938" y="8731"/>
                </a:cubicBezTo>
              </a:path>
              <a:path w="1042" h="869">
                <a:moveTo>
                  <a:pt x="8632" y="8359"/>
                </a:moveTo>
                <a:cubicBezTo>
                  <a:pt x="8623" y="8436"/>
                  <a:pt x="8607" y="8503"/>
                  <a:pt x="8607" y="8582"/>
                </a:cubicBezTo>
                <a:cubicBezTo>
                  <a:pt x="8607" y="8642"/>
                  <a:pt x="8622" y="8683"/>
                  <a:pt x="8632" y="8731"/>
                </a:cubicBezTo>
                <a:cubicBezTo>
                  <a:pt x="8644" y="8789"/>
                  <a:pt x="8655" y="8801"/>
                  <a:pt x="8731" y="8806"/>
                </a:cubicBezTo>
                <a:cubicBezTo>
                  <a:pt x="8824" y="8812"/>
                  <a:pt x="8827" y="8773"/>
                  <a:pt x="8880" y="8731"/>
                </a:cubicBezTo>
                <a:cubicBezTo>
                  <a:pt x="8957" y="8671"/>
                  <a:pt x="8969" y="8657"/>
                  <a:pt x="8979" y="8558"/>
                </a:cubicBezTo>
              </a:path>
              <a:path w="1042" h="869">
                <a:moveTo>
                  <a:pt x="8682" y="8086"/>
                </a:moveTo>
                <a:cubicBezTo>
                  <a:pt x="8706" y="8086"/>
                  <a:pt x="8715" y="8086"/>
                  <a:pt x="8731" y="80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795760"/>
            <a:ext cx="581040" cy="527040"/>
          </a:xfrm>
          <a:custGeom>
            <a:avLst/>
            <a:gdLst/>
            <a:ahLst/>
            <a:rect l="l" t="t" r="r" b="b"/>
            <a:pathLst>
              <a:path w="1613" h="1464">
                <a:moveTo>
                  <a:pt x="9525" y="8260"/>
                </a:moveTo>
                <a:cubicBezTo>
                  <a:pt x="9616" y="8260"/>
                  <a:pt x="9696" y="8261"/>
                  <a:pt x="9773" y="8235"/>
                </a:cubicBezTo>
                <a:cubicBezTo>
                  <a:pt x="9781" y="8235"/>
                  <a:pt x="9790" y="8235"/>
                  <a:pt x="9798" y="8235"/>
                </a:cubicBezTo>
              </a:path>
              <a:path w="1613" h="1464">
                <a:moveTo>
                  <a:pt x="10145" y="7913"/>
                </a:moveTo>
                <a:cubicBezTo>
                  <a:pt x="10201" y="7857"/>
                  <a:pt x="10233" y="7848"/>
                  <a:pt x="10294" y="7813"/>
                </a:cubicBezTo>
                <a:cubicBezTo>
                  <a:pt x="10342" y="7785"/>
                  <a:pt x="10386" y="7769"/>
                  <a:pt x="10443" y="7764"/>
                </a:cubicBezTo>
                <a:cubicBezTo>
                  <a:pt x="10474" y="7761"/>
                  <a:pt x="10519" y="7793"/>
                  <a:pt x="10542" y="7813"/>
                </a:cubicBezTo>
                <a:cubicBezTo>
                  <a:pt x="10588" y="7853"/>
                  <a:pt x="10572" y="7877"/>
                  <a:pt x="10567" y="7913"/>
                </a:cubicBezTo>
                <a:cubicBezTo>
                  <a:pt x="10558" y="7973"/>
                  <a:pt x="10549" y="8032"/>
                  <a:pt x="10517" y="8086"/>
                </a:cubicBezTo>
                <a:cubicBezTo>
                  <a:pt x="10459" y="8186"/>
                  <a:pt x="10387" y="8269"/>
                  <a:pt x="10319" y="8359"/>
                </a:cubicBezTo>
                <a:cubicBezTo>
                  <a:pt x="10272" y="8421"/>
                  <a:pt x="10168" y="8524"/>
                  <a:pt x="10145" y="8558"/>
                </a:cubicBezTo>
                <a:cubicBezTo>
                  <a:pt x="10123" y="8590"/>
                  <a:pt x="10055" y="8687"/>
                  <a:pt x="10046" y="8706"/>
                </a:cubicBezTo>
                <a:cubicBezTo>
                  <a:pt x="10046" y="8714"/>
                  <a:pt x="10046" y="8723"/>
                  <a:pt x="10046" y="8731"/>
                </a:cubicBezTo>
                <a:cubicBezTo>
                  <a:pt x="10085" y="8721"/>
                  <a:pt x="10101" y="8706"/>
                  <a:pt x="10145" y="8706"/>
                </a:cubicBezTo>
                <a:cubicBezTo>
                  <a:pt x="10229" y="8706"/>
                  <a:pt x="10296" y="8709"/>
                  <a:pt x="10368" y="8731"/>
                </a:cubicBezTo>
                <a:cubicBezTo>
                  <a:pt x="10407" y="8743"/>
                  <a:pt x="10474" y="8711"/>
                  <a:pt x="10517" y="8706"/>
                </a:cubicBezTo>
              </a:path>
              <a:path w="1613" h="1464">
                <a:moveTo>
                  <a:pt x="10889" y="8334"/>
                </a:moveTo>
                <a:cubicBezTo>
                  <a:pt x="10889" y="8519"/>
                  <a:pt x="10889" y="8700"/>
                  <a:pt x="10914" y="8880"/>
                </a:cubicBezTo>
                <a:cubicBezTo>
                  <a:pt x="10925" y="8960"/>
                  <a:pt x="10901" y="9039"/>
                  <a:pt x="10889" y="9103"/>
                </a:cubicBezTo>
                <a:cubicBezTo>
                  <a:pt x="10874" y="9183"/>
                  <a:pt x="10853" y="9214"/>
                  <a:pt x="10765" y="9227"/>
                </a:cubicBezTo>
                <a:cubicBezTo>
                  <a:pt x="10704" y="9236"/>
                  <a:pt x="10668" y="9238"/>
                  <a:pt x="10641" y="9178"/>
                </a:cubicBezTo>
                <a:cubicBezTo>
                  <a:pt x="10620" y="9131"/>
                  <a:pt x="10616" y="9082"/>
                  <a:pt x="10616" y="9029"/>
                </a:cubicBezTo>
                <a:cubicBezTo>
                  <a:pt x="10616" y="9004"/>
                  <a:pt x="10616" y="8979"/>
                  <a:pt x="10616" y="8954"/>
                </a:cubicBezTo>
              </a:path>
              <a:path w="1613" h="1464">
                <a:moveTo>
                  <a:pt x="11137" y="7789"/>
                </a:moveTo>
                <a:cubicBezTo>
                  <a:pt x="11137" y="7817"/>
                  <a:pt x="11134" y="7827"/>
                  <a:pt x="11112" y="78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43120" y="3990960"/>
            <a:ext cx="1643040" cy="563400"/>
          </a:xfrm>
          <a:custGeom>
            <a:avLst/>
            <a:gdLst/>
            <a:ahLst/>
            <a:rect l="l" t="t" r="r" b="b"/>
            <a:pathLst>
              <a:path w="4565" h="1563">
                <a:moveTo>
                  <a:pt x="7367" y="11633"/>
                </a:moveTo>
                <a:cubicBezTo>
                  <a:pt x="7450" y="11633"/>
                  <a:pt x="7532" y="11633"/>
                  <a:pt x="7615" y="11633"/>
                </a:cubicBezTo>
              </a:path>
              <a:path w="4565" h="1563">
                <a:moveTo>
                  <a:pt x="7342" y="11857"/>
                </a:moveTo>
                <a:cubicBezTo>
                  <a:pt x="7401" y="11857"/>
                  <a:pt x="7436" y="11876"/>
                  <a:pt x="7491" y="11881"/>
                </a:cubicBezTo>
                <a:cubicBezTo>
                  <a:pt x="7523" y="11884"/>
                  <a:pt x="7558" y="11881"/>
                  <a:pt x="7590" y="11881"/>
                </a:cubicBezTo>
                <a:cubicBezTo>
                  <a:pt x="7577" y="11842"/>
                  <a:pt x="7578" y="11871"/>
                  <a:pt x="7565" y="11832"/>
                </a:cubicBezTo>
              </a:path>
              <a:path w="4565" h="1563">
                <a:moveTo>
                  <a:pt x="8285" y="11261"/>
                </a:moveTo>
                <a:cubicBezTo>
                  <a:pt x="8320" y="11342"/>
                  <a:pt x="8303" y="11358"/>
                  <a:pt x="8260" y="11435"/>
                </a:cubicBezTo>
                <a:cubicBezTo>
                  <a:pt x="8240" y="11471"/>
                  <a:pt x="8196" y="11549"/>
                  <a:pt x="8186" y="11584"/>
                </a:cubicBezTo>
                <a:cubicBezTo>
                  <a:pt x="8174" y="11627"/>
                  <a:pt x="8161" y="11662"/>
                  <a:pt x="8161" y="11708"/>
                </a:cubicBezTo>
                <a:cubicBezTo>
                  <a:pt x="8199" y="11679"/>
                  <a:pt x="8212" y="11683"/>
                  <a:pt x="8260" y="11683"/>
                </a:cubicBezTo>
                <a:cubicBezTo>
                  <a:pt x="8282" y="11683"/>
                  <a:pt x="8387" y="11699"/>
                  <a:pt x="8409" y="11708"/>
                </a:cubicBezTo>
                <a:cubicBezTo>
                  <a:pt x="8452" y="11726"/>
                  <a:pt x="8526" y="11755"/>
                  <a:pt x="8582" y="11733"/>
                </a:cubicBezTo>
                <a:cubicBezTo>
                  <a:pt x="8607" y="11708"/>
                  <a:pt x="8615" y="11700"/>
                  <a:pt x="8632" y="11683"/>
                </a:cubicBezTo>
              </a:path>
              <a:path w="4565" h="1563">
                <a:moveTo>
                  <a:pt x="8632" y="11088"/>
                </a:moveTo>
                <a:cubicBezTo>
                  <a:pt x="8632" y="11210"/>
                  <a:pt x="8611" y="11319"/>
                  <a:pt x="8607" y="11435"/>
                </a:cubicBezTo>
                <a:cubicBezTo>
                  <a:pt x="8603" y="11554"/>
                  <a:pt x="8586" y="11665"/>
                  <a:pt x="8582" y="11782"/>
                </a:cubicBezTo>
                <a:cubicBezTo>
                  <a:pt x="8579" y="11867"/>
                  <a:pt x="8597" y="12251"/>
                  <a:pt x="8607" y="12229"/>
                </a:cubicBezTo>
                <a:cubicBezTo>
                  <a:pt x="8607" y="12221"/>
                  <a:pt x="8607" y="12212"/>
                  <a:pt x="8607" y="12204"/>
                </a:cubicBezTo>
              </a:path>
              <a:path w="4565" h="1563">
                <a:moveTo>
                  <a:pt x="8954" y="11807"/>
                </a:moveTo>
                <a:cubicBezTo>
                  <a:pt x="8954" y="11939"/>
                  <a:pt x="8925" y="12109"/>
                  <a:pt x="8979" y="12229"/>
                </a:cubicBezTo>
                <a:cubicBezTo>
                  <a:pt x="9012" y="12302"/>
                  <a:pt x="9028" y="12303"/>
                  <a:pt x="9103" y="12303"/>
                </a:cubicBezTo>
                <a:cubicBezTo>
                  <a:pt x="9195" y="12303"/>
                  <a:pt x="9215" y="12254"/>
                  <a:pt x="9252" y="12179"/>
                </a:cubicBezTo>
                <a:cubicBezTo>
                  <a:pt x="9280" y="12124"/>
                  <a:pt x="9288" y="12101"/>
                  <a:pt x="9277" y="12055"/>
                </a:cubicBezTo>
              </a:path>
              <a:path w="4565" h="1563">
                <a:moveTo>
                  <a:pt x="9004" y="11385"/>
                </a:moveTo>
                <a:cubicBezTo>
                  <a:pt x="8954" y="11353"/>
                  <a:pt x="8978" y="11377"/>
                  <a:pt x="9004" y="11385"/>
                </a:cubicBezTo>
              </a:path>
              <a:path w="4565" h="1563">
                <a:moveTo>
                  <a:pt x="9351" y="11857"/>
                </a:moveTo>
                <a:cubicBezTo>
                  <a:pt x="9444" y="11857"/>
                  <a:pt x="9497" y="11859"/>
                  <a:pt x="9575" y="11807"/>
                </a:cubicBezTo>
              </a:path>
              <a:path w="4565" h="1563">
                <a:moveTo>
                  <a:pt x="9823" y="11361"/>
                </a:moveTo>
                <a:cubicBezTo>
                  <a:pt x="9893" y="11361"/>
                  <a:pt x="9959" y="11350"/>
                  <a:pt x="10021" y="11385"/>
                </a:cubicBezTo>
                <a:cubicBezTo>
                  <a:pt x="10119" y="11440"/>
                  <a:pt x="10141" y="11503"/>
                  <a:pt x="10145" y="11609"/>
                </a:cubicBezTo>
                <a:cubicBezTo>
                  <a:pt x="10149" y="11713"/>
                  <a:pt x="10137" y="11786"/>
                  <a:pt x="10096" y="11881"/>
                </a:cubicBezTo>
                <a:cubicBezTo>
                  <a:pt x="10065" y="11954"/>
                  <a:pt x="10026" y="11999"/>
                  <a:pt x="9971" y="12055"/>
                </a:cubicBezTo>
                <a:cubicBezTo>
                  <a:pt x="9933" y="12093"/>
                  <a:pt x="9925" y="12105"/>
                  <a:pt x="9872" y="12105"/>
                </a:cubicBezTo>
                <a:cubicBezTo>
                  <a:pt x="9872" y="12079"/>
                  <a:pt x="9879" y="12017"/>
                  <a:pt x="9897" y="12005"/>
                </a:cubicBezTo>
                <a:cubicBezTo>
                  <a:pt x="9946" y="11972"/>
                  <a:pt x="9953" y="11996"/>
                  <a:pt x="9996" y="12005"/>
                </a:cubicBezTo>
                <a:cubicBezTo>
                  <a:pt x="10060" y="12018"/>
                  <a:pt x="10045" y="12028"/>
                  <a:pt x="10096" y="12080"/>
                </a:cubicBezTo>
                <a:cubicBezTo>
                  <a:pt x="10127" y="12111"/>
                  <a:pt x="10226" y="12204"/>
                  <a:pt x="10269" y="12204"/>
                </a:cubicBezTo>
                <a:cubicBezTo>
                  <a:pt x="10310" y="12184"/>
                  <a:pt x="10316" y="12175"/>
                  <a:pt x="10344" y="12179"/>
                </a:cubicBezTo>
              </a:path>
              <a:path w="4565" h="1563">
                <a:moveTo>
                  <a:pt x="10641" y="11906"/>
                </a:moveTo>
                <a:cubicBezTo>
                  <a:pt x="10658" y="12044"/>
                  <a:pt x="10666" y="12165"/>
                  <a:pt x="10666" y="12303"/>
                </a:cubicBezTo>
                <a:cubicBezTo>
                  <a:pt x="10666" y="12394"/>
                  <a:pt x="10691" y="12521"/>
                  <a:pt x="10641" y="12601"/>
                </a:cubicBezTo>
                <a:cubicBezTo>
                  <a:pt x="10615" y="12644"/>
                  <a:pt x="10587" y="12650"/>
                  <a:pt x="10542" y="12650"/>
                </a:cubicBezTo>
                <a:cubicBezTo>
                  <a:pt x="10481" y="12650"/>
                  <a:pt x="10466" y="12572"/>
                  <a:pt x="10443" y="12526"/>
                </a:cubicBezTo>
                <a:cubicBezTo>
                  <a:pt x="10407" y="12455"/>
                  <a:pt x="10400" y="12406"/>
                  <a:pt x="10393" y="12328"/>
                </a:cubicBezTo>
              </a:path>
              <a:path w="4565" h="1563">
                <a:moveTo>
                  <a:pt x="10492" y="11410"/>
                </a:moveTo>
                <a:cubicBezTo>
                  <a:pt x="10500" y="11418"/>
                  <a:pt x="10509" y="11427"/>
                  <a:pt x="10517" y="11435"/>
                </a:cubicBezTo>
              </a:path>
              <a:path w="4565" h="1563">
                <a:moveTo>
                  <a:pt x="11410" y="11857"/>
                </a:moveTo>
                <a:cubicBezTo>
                  <a:pt x="11515" y="11857"/>
                  <a:pt x="11796" y="11901"/>
                  <a:pt x="11881" y="11832"/>
                </a:cubicBezTo>
                <a:cubicBezTo>
                  <a:pt x="11889" y="11824"/>
                  <a:pt x="11898" y="11815"/>
                  <a:pt x="11906" y="11807"/>
                </a:cubicBezTo>
              </a:path>
              <a:path w="4565" h="1563">
                <a:moveTo>
                  <a:pt x="10914" y="11212"/>
                </a:moveTo>
                <a:cubicBezTo>
                  <a:pt x="10974" y="11345"/>
                  <a:pt x="11058" y="11515"/>
                  <a:pt x="11088" y="11658"/>
                </a:cubicBezTo>
                <a:cubicBezTo>
                  <a:pt x="11116" y="11791"/>
                  <a:pt x="11158" y="11988"/>
                  <a:pt x="11137" y="12129"/>
                </a:cubicBezTo>
                <a:cubicBezTo>
                  <a:pt x="11123" y="12219"/>
                  <a:pt x="11074" y="12361"/>
                  <a:pt x="11013" y="12427"/>
                </a:cubicBezTo>
                <a:cubicBezTo>
                  <a:pt x="10997" y="12435"/>
                  <a:pt x="10980" y="12444"/>
                  <a:pt x="10964" y="12452"/>
                </a:cubicBezTo>
              </a:path>
              <a:path w="4565" h="1563">
                <a:moveTo>
                  <a:pt x="8062" y="11137"/>
                </a:moveTo>
                <a:cubicBezTo>
                  <a:pt x="8002" y="11274"/>
                  <a:pt x="7987" y="11361"/>
                  <a:pt x="7987" y="11509"/>
                </a:cubicBezTo>
                <a:cubicBezTo>
                  <a:pt x="7987" y="11614"/>
                  <a:pt x="8013" y="11737"/>
                  <a:pt x="8062" y="11832"/>
                </a:cubicBezTo>
                <a:cubicBezTo>
                  <a:pt x="8100" y="11906"/>
                  <a:pt x="8155" y="11969"/>
                  <a:pt x="8210" y="120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64000" y="3983040"/>
            <a:ext cx="1386000" cy="598320"/>
          </a:xfrm>
          <a:custGeom>
            <a:avLst/>
            <a:gdLst/>
            <a:ahLst/>
            <a:rect l="l" t="t" r="r" b="b"/>
            <a:pathLst>
              <a:path w="3846" h="1663">
                <a:moveTo>
                  <a:pt x="12650" y="11063"/>
                </a:moveTo>
                <a:cubicBezTo>
                  <a:pt x="12634" y="11122"/>
                  <a:pt x="12627" y="11180"/>
                  <a:pt x="12601" y="11237"/>
                </a:cubicBezTo>
                <a:cubicBezTo>
                  <a:pt x="12564" y="11319"/>
                  <a:pt x="12531" y="11400"/>
                  <a:pt x="12502" y="11485"/>
                </a:cubicBezTo>
                <a:cubicBezTo>
                  <a:pt x="12464" y="11596"/>
                  <a:pt x="12387" y="11738"/>
                  <a:pt x="12402" y="11857"/>
                </a:cubicBezTo>
                <a:cubicBezTo>
                  <a:pt x="12418" y="11986"/>
                  <a:pt x="12464" y="12081"/>
                  <a:pt x="12502" y="12204"/>
                </a:cubicBezTo>
                <a:cubicBezTo>
                  <a:pt x="12556" y="12378"/>
                  <a:pt x="12604" y="12436"/>
                  <a:pt x="12700" y="12576"/>
                </a:cubicBezTo>
                <a:cubicBezTo>
                  <a:pt x="12747" y="12644"/>
                  <a:pt x="12777" y="12684"/>
                  <a:pt x="12849" y="12725"/>
                </a:cubicBezTo>
              </a:path>
              <a:path w="3846" h="1663">
                <a:moveTo>
                  <a:pt x="12948" y="11832"/>
                </a:moveTo>
                <a:cubicBezTo>
                  <a:pt x="13005" y="11832"/>
                  <a:pt x="13044" y="11848"/>
                  <a:pt x="13097" y="11857"/>
                </a:cubicBezTo>
                <a:cubicBezTo>
                  <a:pt x="13146" y="11857"/>
                  <a:pt x="13163" y="11857"/>
                  <a:pt x="13196" y="11857"/>
                </a:cubicBezTo>
              </a:path>
              <a:path w="3846" h="1663">
                <a:moveTo>
                  <a:pt x="13469" y="11534"/>
                </a:moveTo>
                <a:cubicBezTo>
                  <a:pt x="13526" y="11534"/>
                  <a:pt x="13596" y="11535"/>
                  <a:pt x="13643" y="11559"/>
                </a:cubicBezTo>
                <a:cubicBezTo>
                  <a:pt x="13660" y="11568"/>
                  <a:pt x="13700" y="11641"/>
                  <a:pt x="13692" y="11658"/>
                </a:cubicBezTo>
                <a:cubicBezTo>
                  <a:pt x="13674" y="11698"/>
                  <a:pt x="13636" y="11738"/>
                  <a:pt x="13593" y="11757"/>
                </a:cubicBezTo>
                <a:cubicBezTo>
                  <a:pt x="13543" y="11779"/>
                  <a:pt x="13390" y="11807"/>
                  <a:pt x="13444" y="11807"/>
                </a:cubicBezTo>
                <a:cubicBezTo>
                  <a:pt x="13469" y="11807"/>
                  <a:pt x="13548" y="11840"/>
                  <a:pt x="13568" y="11857"/>
                </a:cubicBezTo>
                <a:cubicBezTo>
                  <a:pt x="13615" y="11897"/>
                  <a:pt x="13724" y="12006"/>
                  <a:pt x="13742" y="12080"/>
                </a:cubicBezTo>
                <a:cubicBezTo>
                  <a:pt x="13757" y="12142"/>
                  <a:pt x="13732" y="12164"/>
                  <a:pt x="13692" y="12204"/>
                </a:cubicBezTo>
                <a:cubicBezTo>
                  <a:pt x="13657" y="12239"/>
                  <a:pt x="13591" y="12251"/>
                  <a:pt x="13543" y="12254"/>
                </a:cubicBezTo>
                <a:cubicBezTo>
                  <a:pt x="13481" y="12258"/>
                  <a:pt x="13470" y="12235"/>
                  <a:pt x="13419" y="12229"/>
                </a:cubicBezTo>
                <a:cubicBezTo>
                  <a:pt x="13372" y="12224"/>
                  <a:pt x="13399" y="12207"/>
                  <a:pt x="13419" y="12179"/>
                </a:cubicBezTo>
              </a:path>
              <a:path w="3846" h="1663">
                <a:moveTo>
                  <a:pt x="14015" y="11931"/>
                </a:moveTo>
                <a:cubicBezTo>
                  <a:pt x="13997" y="11979"/>
                  <a:pt x="13941" y="12072"/>
                  <a:pt x="13965" y="12129"/>
                </a:cubicBezTo>
                <a:cubicBezTo>
                  <a:pt x="13996" y="12202"/>
                  <a:pt x="14029" y="12208"/>
                  <a:pt x="14089" y="12229"/>
                </a:cubicBezTo>
                <a:cubicBezTo>
                  <a:pt x="14166" y="12256"/>
                  <a:pt x="14170" y="12259"/>
                  <a:pt x="14238" y="12204"/>
                </a:cubicBezTo>
              </a:path>
              <a:path w="3846" h="1663">
                <a:moveTo>
                  <a:pt x="14114" y="11485"/>
                </a:moveTo>
                <a:cubicBezTo>
                  <a:pt x="14091" y="11462"/>
                  <a:pt x="14083" y="11458"/>
                  <a:pt x="14089" y="11435"/>
                </a:cubicBezTo>
              </a:path>
              <a:path w="3846" h="1663">
                <a:moveTo>
                  <a:pt x="14660" y="11584"/>
                </a:moveTo>
                <a:cubicBezTo>
                  <a:pt x="14655" y="11714"/>
                  <a:pt x="14635" y="11828"/>
                  <a:pt x="14635" y="11956"/>
                </a:cubicBezTo>
                <a:cubicBezTo>
                  <a:pt x="14635" y="12014"/>
                  <a:pt x="14653" y="12103"/>
                  <a:pt x="14684" y="12154"/>
                </a:cubicBezTo>
                <a:cubicBezTo>
                  <a:pt x="14707" y="12177"/>
                  <a:pt x="14715" y="12181"/>
                  <a:pt x="14709" y="12204"/>
                </a:cubicBezTo>
              </a:path>
              <a:path w="3846" h="1663">
                <a:moveTo>
                  <a:pt x="14461" y="11857"/>
                </a:moveTo>
                <a:cubicBezTo>
                  <a:pt x="14508" y="11822"/>
                  <a:pt x="14548" y="11832"/>
                  <a:pt x="14610" y="11832"/>
                </a:cubicBezTo>
                <a:cubicBezTo>
                  <a:pt x="14660" y="11832"/>
                  <a:pt x="14676" y="11832"/>
                  <a:pt x="14709" y="11832"/>
                </a:cubicBezTo>
              </a:path>
              <a:path w="3846" h="1663">
                <a:moveTo>
                  <a:pt x="14982" y="11534"/>
                </a:moveTo>
                <a:cubicBezTo>
                  <a:pt x="15092" y="11534"/>
                  <a:pt x="15135" y="11536"/>
                  <a:pt x="15230" y="11584"/>
                </a:cubicBezTo>
                <a:cubicBezTo>
                  <a:pt x="15263" y="11600"/>
                  <a:pt x="15332" y="11630"/>
                  <a:pt x="15304" y="11683"/>
                </a:cubicBezTo>
                <a:cubicBezTo>
                  <a:pt x="15285" y="11718"/>
                  <a:pt x="15193" y="11752"/>
                  <a:pt x="15156" y="11757"/>
                </a:cubicBezTo>
                <a:cubicBezTo>
                  <a:pt x="15094" y="11757"/>
                  <a:pt x="15079" y="11748"/>
                  <a:pt x="15056" y="11782"/>
                </a:cubicBezTo>
                <a:cubicBezTo>
                  <a:pt x="15100" y="11815"/>
                  <a:pt x="15134" y="11809"/>
                  <a:pt x="15180" y="11832"/>
                </a:cubicBezTo>
                <a:cubicBezTo>
                  <a:pt x="15260" y="11872"/>
                  <a:pt x="15304" y="11961"/>
                  <a:pt x="15329" y="12030"/>
                </a:cubicBezTo>
                <a:cubicBezTo>
                  <a:pt x="15346" y="12079"/>
                  <a:pt x="15355" y="12143"/>
                  <a:pt x="15304" y="12179"/>
                </a:cubicBezTo>
                <a:cubicBezTo>
                  <a:pt x="15256" y="12213"/>
                  <a:pt x="15212" y="12204"/>
                  <a:pt x="15156" y="12204"/>
                </a:cubicBezTo>
                <a:cubicBezTo>
                  <a:pt x="15115" y="12204"/>
                  <a:pt x="15068" y="12204"/>
                  <a:pt x="15056" y="12179"/>
                </a:cubicBezTo>
                <a:cubicBezTo>
                  <a:pt x="15056" y="12154"/>
                  <a:pt x="15056" y="12146"/>
                  <a:pt x="15056" y="12129"/>
                </a:cubicBezTo>
              </a:path>
              <a:path w="3846" h="1663">
                <a:moveTo>
                  <a:pt x="15677" y="11956"/>
                </a:moveTo>
                <a:cubicBezTo>
                  <a:pt x="15690" y="12135"/>
                  <a:pt x="15675" y="12214"/>
                  <a:pt x="15652" y="12378"/>
                </a:cubicBezTo>
                <a:cubicBezTo>
                  <a:pt x="15645" y="12427"/>
                  <a:pt x="15645" y="12538"/>
                  <a:pt x="15602" y="12576"/>
                </a:cubicBezTo>
                <a:cubicBezTo>
                  <a:pt x="15576" y="12598"/>
                  <a:pt x="15519" y="12565"/>
                  <a:pt x="15503" y="12551"/>
                </a:cubicBezTo>
                <a:cubicBezTo>
                  <a:pt x="15442" y="12497"/>
                  <a:pt x="15431" y="12403"/>
                  <a:pt x="15404" y="12328"/>
                </a:cubicBezTo>
              </a:path>
              <a:path w="3846" h="1663">
                <a:moveTo>
                  <a:pt x="15503" y="11460"/>
                </a:moveTo>
                <a:cubicBezTo>
                  <a:pt x="15523" y="11413"/>
                  <a:pt x="15533" y="11382"/>
                  <a:pt x="15553" y="11336"/>
                </a:cubicBezTo>
              </a:path>
              <a:path w="3846" h="1663">
                <a:moveTo>
                  <a:pt x="15850" y="11063"/>
                </a:moveTo>
                <a:cubicBezTo>
                  <a:pt x="16000" y="11248"/>
                  <a:pt x="16075" y="11415"/>
                  <a:pt x="16173" y="11633"/>
                </a:cubicBezTo>
                <a:cubicBezTo>
                  <a:pt x="16234" y="11769"/>
                  <a:pt x="16247" y="11858"/>
                  <a:pt x="16247" y="12005"/>
                </a:cubicBezTo>
                <a:cubicBezTo>
                  <a:pt x="16247" y="12109"/>
                  <a:pt x="16211" y="12236"/>
                  <a:pt x="16123" y="12303"/>
                </a:cubicBezTo>
                <a:cubicBezTo>
                  <a:pt x="16073" y="12328"/>
                  <a:pt x="16057" y="12336"/>
                  <a:pt x="16024" y="123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4880" y="4768920"/>
            <a:ext cx="1081080" cy="642960"/>
          </a:xfrm>
          <a:custGeom>
            <a:avLst/>
            <a:gdLst/>
            <a:ahLst/>
            <a:rect l="l" t="t" r="r" b="b"/>
            <a:pathLst>
              <a:path w="3003" h="1787">
                <a:moveTo>
                  <a:pt x="8458" y="13246"/>
                </a:moveTo>
                <a:cubicBezTo>
                  <a:pt x="8499" y="13277"/>
                  <a:pt x="8555" y="13292"/>
                  <a:pt x="8607" y="13295"/>
                </a:cubicBezTo>
                <a:cubicBezTo>
                  <a:pt x="8730" y="13302"/>
                  <a:pt x="8839" y="13291"/>
                  <a:pt x="8954" y="13320"/>
                </a:cubicBezTo>
                <a:cubicBezTo>
                  <a:pt x="8975" y="13325"/>
                  <a:pt x="9007" y="13320"/>
                  <a:pt x="9029" y="13320"/>
                </a:cubicBezTo>
                <a:cubicBezTo>
                  <a:pt x="9029" y="13356"/>
                  <a:pt x="9022" y="13392"/>
                  <a:pt x="9004" y="13419"/>
                </a:cubicBezTo>
                <a:cubicBezTo>
                  <a:pt x="8971" y="13468"/>
                  <a:pt x="8960" y="13533"/>
                  <a:pt x="8930" y="13593"/>
                </a:cubicBezTo>
                <a:cubicBezTo>
                  <a:pt x="8895" y="13663"/>
                  <a:pt x="8883" y="13762"/>
                  <a:pt x="8880" y="13841"/>
                </a:cubicBezTo>
                <a:cubicBezTo>
                  <a:pt x="8877" y="13921"/>
                  <a:pt x="8855" y="13982"/>
                  <a:pt x="8855" y="14064"/>
                </a:cubicBezTo>
                <a:cubicBezTo>
                  <a:pt x="8855" y="14109"/>
                  <a:pt x="8836" y="14197"/>
                  <a:pt x="8880" y="14188"/>
                </a:cubicBezTo>
                <a:cubicBezTo>
                  <a:pt x="8902" y="14166"/>
                  <a:pt x="8911" y="14161"/>
                  <a:pt x="8905" y="14139"/>
                </a:cubicBezTo>
              </a:path>
              <a:path w="3003" h="1787">
                <a:moveTo>
                  <a:pt x="9302" y="13692"/>
                </a:moveTo>
                <a:cubicBezTo>
                  <a:pt x="9302" y="13790"/>
                  <a:pt x="9291" y="13870"/>
                  <a:pt x="9277" y="13965"/>
                </a:cubicBezTo>
                <a:cubicBezTo>
                  <a:pt x="9268" y="14027"/>
                  <a:pt x="9283" y="14107"/>
                  <a:pt x="9302" y="14163"/>
                </a:cubicBezTo>
                <a:cubicBezTo>
                  <a:pt x="9326" y="14233"/>
                  <a:pt x="9403" y="14313"/>
                  <a:pt x="9475" y="14337"/>
                </a:cubicBezTo>
                <a:cubicBezTo>
                  <a:pt x="9499" y="14345"/>
                  <a:pt x="9613" y="14284"/>
                  <a:pt x="9624" y="14263"/>
                </a:cubicBezTo>
                <a:cubicBezTo>
                  <a:pt x="9624" y="14246"/>
                  <a:pt x="9624" y="14230"/>
                  <a:pt x="9624" y="14213"/>
                </a:cubicBezTo>
              </a:path>
              <a:path w="3003" h="1787">
                <a:moveTo>
                  <a:pt x="9426" y="13295"/>
                </a:moveTo>
                <a:cubicBezTo>
                  <a:pt x="9426" y="13320"/>
                  <a:pt x="9426" y="13345"/>
                  <a:pt x="9426" y="13370"/>
                </a:cubicBezTo>
              </a:path>
              <a:path w="3003" h="1787">
                <a:moveTo>
                  <a:pt x="9798" y="13816"/>
                </a:moveTo>
                <a:cubicBezTo>
                  <a:pt x="9852" y="13857"/>
                  <a:pt x="9879" y="13820"/>
                  <a:pt x="9947" y="13816"/>
                </a:cubicBezTo>
                <a:cubicBezTo>
                  <a:pt x="9996" y="13816"/>
                  <a:pt x="10013" y="13816"/>
                  <a:pt x="10046" y="13816"/>
                </a:cubicBezTo>
              </a:path>
              <a:path w="3003" h="1787">
                <a:moveTo>
                  <a:pt x="10542" y="13519"/>
                </a:moveTo>
                <a:cubicBezTo>
                  <a:pt x="10607" y="13523"/>
                  <a:pt x="10754" y="13572"/>
                  <a:pt x="10815" y="13543"/>
                </a:cubicBezTo>
                <a:cubicBezTo>
                  <a:pt x="10837" y="13521"/>
                  <a:pt x="10842" y="13513"/>
                  <a:pt x="10864" y="13519"/>
                </a:cubicBezTo>
              </a:path>
              <a:path w="3003" h="1787">
                <a:moveTo>
                  <a:pt x="10443" y="13519"/>
                </a:moveTo>
                <a:cubicBezTo>
                  <a:pt x="10389" y="13594"/>
                  <a:pt x="10344" y="13629"/>
                  <a:pt x="10344" y="13717"/>
                </a:cubicBezTo>
                <a:cubicBezTo>
                  <a:pt x="10344" y="13767"/>
                  <a:pt x="10358" y="13771"/>
                  <a:pt x="10368" y="13791"/>
                </a:cubicBezTo>
                <a:cubicBezTo>
                  <a:pt x="10377" y="13810"/>
                  <a:pt x="10405" y="13837"/>
                  <a:pt x="10443" y="13816"/>
                </a:cubicBezTo>
                <a:cubicBezTo>
                  <a:pt x="10485" y="13793"/>
                  <a:pt x="10491" y="13791"/>
                  <a:pt x="10542" y="13791"/>
                </a:cubicBezTo>
                <a:cubicBezTo>
                  <a:pt x="10588" y="13791"/>
                  <a:pt x="10606" y="13785"/>
                  <a:pt x="10641" y="13816"/>
                </a:cubicBezTo>
                <a:cubicBezTo>
                  <a:pt x="10689" y="13859"/>
                  <a:pt x="10733" y="13886"/>
                  <a:pt x="10765" y="13940"/>
                </a:cubicBezTo>
                <a:cubicBezTo>
                  <a:pt x="10810" y="14016"/>
                  <a:pt x="10794" y="14063"/>
                  <a:pt x="10815" y="14139"/>
                </a:cubicBezTo>
                <a:cubicBezTo>
                  <a:pt x="10839" y="14223"/>
                  <a:pt x="10826" y="14246"/>
                  <a:pt x="10765" y="14312"/>
                </a:cubicBezTo>
                <a:cubicBezTo>
                  <a:pt x="10740" y="14339"/>
                  <a:pt x="10655" y="14353"/>
                  <a:pt x="10616" y="14337"/>
                </a:cubicBezTo>
                <a:cubicBezTo>
                  <a:pt x="10581" y="14322"/>
                  <a:pt x="10523" y="14309"/>
                  <a:pt x="10492" y="14288"/>
                </a:cubicBezTo>
                <a:cubicBezTo>
                  <a:pt x="10451" y="14260"/>
                  <a:pt x="10461" y="14224"/>
                  <a:pt x="10492" y="14213"/>
                </a:cubicBezTo>
              </a:path>
              <a:path w="3003" h="1787">
                <a:moveTo>
                  <a:pt x="11336" y="14015"/>
                </a:moveTo>
                <a:cubicBezTo>
                  <a:pt x="11373" y="14103"/>
                  <a:pt x="11423" y="14215"/>
                  <a:pt x="11435" y="14312"/>
                </a:cubicBezTo>
                <a:cubicBezTo>
                  <a:pt x="11450" y="14429"/>
                  <a:pt x="11460" y="14540"/>
                  <a:pt x="11460" y="14660"/>
                </a:cubicBezTo>
                <a:cubicBezTo>
                  <a:pt x="11460" y="14760"/>
                  <a:pt x="11427" y="14842"/>
                  <a:pt x="11385" y="14932"/>
                </a:cubicBezTo>
                <a:cubicBezTo>
                  <a:pt x="11353" y="15000"/>
                  <a:pt x="11334" y="15026"/>
                  <a:pt x="11261" y="15032"/>
                </a:cubicBezTo>
                <a:cubicBezTo>
                  <a:pt x="11193" y="15038"/>
                  <a:pt x="11163" y="14983"/>
                  <a:pt x="11137" y="14932"/>
                </a:cubicBezTo>
                <a:cubicBezTo>
                  <a:pt x="11078" y="14818"/>
                  <a:pt x="11088" y="14735"/>
                  <a:pt x="11088" y="14610"/>
                </a:cubicBezTo>
              </a:path>
              <a:path w="3003" h="1787">
                <a:moveTo>
                  <a:pt x="11311" y="13494"/>
                </a:moveTo>
                <a:cubicBezTo>
                  <a:pt x="11334" y="13471"/>
                  <a:pt x="11338" y="13463"/>
                  <a:pt x="11361" y="134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81080" y="5634000"/>
            <a:ext cx="196920" cy="403200"/>
          </a:xfrm>
          <a:custGeom>
            <a:avLst/>
            <a:gdLst/>
            <a:ahLst/>
            <a:rect l="l" t="t" r="r" b="b"/>
            <a:pathLst>
              <a:path w="547" h="1117">
                <a:moveTo>
                  <a:pt x="3274" y="16297"/>
                </a:moveTo>
                <a:cubicBezTo>
                  <a:pt x="3365" y="16297"/>
                  <a:pt x="3456" y="16297"/>
                  <a:pt x="3547" y="16297"/>
                </a:cubicBezTo>
              </a:path>
              <a:path w="547" h="1117">
                <a:moveTo>
                  <a:pt x="3249" y="15652"/>
                </a:moveTo>
                <a:cubicBezTo>
                  <a:pt x="3205" y="15697"/>
                  <a:pt x="3174" y="15741"/>
                  <a:pt x="3150" y="15801"/>
                </a:cubicBezTo>
                <a:cubicBezTo>
                  <a:pt x="3110" y="15903"/>
                  <a:pt x="3056" y="15991"/>
                  <a:pt x="3026" y="16098"/>
                </a:cubicBezTo>
                <a:cubicBezTo>
                  <a:pt x="2969" y="16299"/>
                  <a:pt x="3068" y="16457"/>
                  <a:pt x="3200" y="16594"/>
                </a:cubicBezTo>
                <a:cubicBezTo>
                  <a:pt x="3301" y="16697"/>
                  <a:pt x="3361" y="16739"/>
                  <a:pt x="3473" y="167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11200" y="5697360"/>
            <a:ext cx="803520" cy="562320"/>
          </a:xfrm>
          <a:custGeom>
            <a:avLst/>
            <a:gdLst/>
            <a:ahLst/>
            <a:rect l="l" t="t" r="r" b="b"/>
            <a:pathLst>
              <a:path w="2234" h="1564">
                <a:moveTo>
                  <a:pt x="3944" y="16197"/>
                </a:moveTo>
                <a:cubicBezTo>
                  <a:pt x="3935" y="16274"/>
                  <a:pt x="3919" y="16342"/>
                  <a:pt x="3919" y="16421"/>
                </a:cubicBezTo>
                <a:cubicBezTo>
                  <a:pt x="3919" y="16482"/>
                  <a:pt x="3919" y="16565"/>
                  <a:pt x="3944" y="16619"/>
                </a:cubicBezTo>
                <a:cubicBezTo>
                  <a:pt x="3955" y="16642"/>
                  <a:pt x="4042" y="16724"/>
                  <a:pt x="4068" y="16718"/>
                </a:cubicBezTo>
                <a:cubicBezTo>
                  <a:pt x="4076" y="16710"/>
                  <a:pt x="4085" y="16702"/>
                  <a:pt x="4093" y="16694"/>
                </a:cubicBezTo>
              </a:path>
              <a:path w="2234" h="1564">
                <a:moveTo>
                  <a:pt x="3969" y="15825"/>
                </a:moveTo>
                <a:cubicBezTo>
                  <a:pt x="3969" y="15853"/>
                  <a:pt x="3971" y="15864"/>
                  <a:pt x="3994" y="15875"/>
                </a:cubicBezTo>
              </a:path>
              <a:path w="2234" h="1564">
                <a:moveTo>
                  <a:pt x="4514" y="16098"/>
                </a:moveTo>
                <a:cubicBezTo>
                  <a:pt x="4506" y="16184"/>
                  <a:pt x="4490" y="16257"/>
                  <a:pt x="4490" y="16346"/>
                </a:cubicBezTo>
                <a:cubicBezTo>
                  <a:pt x="4490" y="16409"/>
                  <a:pt x="4514" y="16456"/>
                  <a:pt x="4514" y="16520"/>
                </a:cubicBezTo>
                <a:cubicBezTo>
                  <a:pt x="4514" y="16537"/>
                  <a:pt x="4514" y="16553"/>
                  <a:pt x="4514" y="16570"/>
                </a:cubicBezTo>
              </a:path>
              <a:path w="2234" h="1564">
                <a:moveTo>
                  <a:pt x="4366" y="16346"/>
                </a:moveTo>
                <a:cubicBezTo>
                  <a:pt x="4434" y="16392"/>
                  <a:pt x="4483" y="16396"/>
                  <a:pt x="4564" y="16396"/>
                </a:cubicBezTo>
                <a:cubicBezTo>
                  <a:pt x="4581" y="16396"/>
                  <a:pt x="4597" y="16396"/>
                  <a:pt x="4614" y="16396"/>
                </a:cubicBezTo>
              </a:path>
              <a:path w="2234" h="1564">
                <a:moveTo>
                  <a:pt x="4961" y="16470"/>
                </a:moveTo>
                <a:cubicBezTo>
                  <a:pt x="4983" y="16598"/>
                  <a:pt x="4986" y="16712"/>
                  <a:pt x="4986" y="16842"/>
                </a:cubicBezTo>
                <a:cubicBezTo>
                  <a:pt x="4986" y="16967"/>
                  <a:pt x="5008" y="17153"/>
                  <a:pt x="4961" y="17264"/>
                </a:cubicBezTo>
                <a:cubicBezTo>
                  <a:pt x="4947" y="17297"/>
                  <a:pt x="4887" y="17357"/>
                  <a:pt x="4862" y="17388"/>
                </a:cubicBezTo>
                <a:cubicBezTo>
                  <a:pt x="4808" y="17367"/>
                  <a:pt x="4748" y="17307"/>
                  <a:pt x="4738" y="17239"/>
                </a:cubicBezTo>
                <a:cubicBezTo>
                  <a:pt x="4738" y="17148"/>
                  <a:pt x="4738" y="17124"/>
                  <a:pt x="4738" y="17066"/>
                </a:cubicBezTo>
              </a:path>
              <a:path w="2234" h="1564">
                <a:moveTo>
                  <a:pt x="4936" y="15900"/>
                </a:moveTo>
                <a:cubicBezTo>
                  <a:pt x="4995" y="15908"/>
                  <a:pt x="4997" y="15894"/>
                  <a:pt x="5011" y="15949"/>
                </a:cubicBezTo>
              </a:path>
              <a:path w="2234" h="1564">
                <a:moveTo>
                  <a:pt x="5259" y="15900"/>
                </a:moveTo>
                <a:cubicBezTo>
                  <a:pt x="5342" y="16066"/>
                  <a:pt x="5402" y="16208"/>
                  <a:pt x="5407" y="16396"/>
                </a:cubicBezTo>
                <a:cubicBezTo>
                  <a:pt x="5410" y="16513"/>
                  <a:pt x="5422" y="16663"/>
                  <a:pt x="5358" y="16768"/>
                </a:cubicBezTo>
                <a:cubicBezTo>
                  <a:pt x="5328" y="16817"/>
                  <a:pt x="5263" y="16895"/>
                  <a:pt x="5209" y="16917"/>
                </a:cubicBezTo>
                <a:cubicBezTo>
                  <a:pt x="5172" y="16932"/>
                  <a:pt x="5167" y="16915"/>
                  <a:pt x="5159" y="16892"/>
                </a:cubicBezTo>
              </a:path>
              <a:path w="2234" h="1564">
                <a:moveTo>
                  <a:pt x="5879" y="16123"/>
                </a:moveTo>
                <a:cubicBezTo>
                  <a:pt x="5852" y="16228"/>
                  <a:pt x="5834" y="16360"/>
                  <a:pt x="5854" y="16470"/>
                </a:cubicBezTo>
                <a:cubicBezTo>
                  <a:pt x="5864" y="16528"/>
                  <a:pt x="5892" y="16586"/>
                  <a:pt x="5904" y="16644"/>
                </a:cubicBezTo>
              </a:path>
              <a:path w="2234" h="1564">
                <a:moveTo>
                  <a:pt x="5680" y="16321"/>
                </a:moveTo>
                <a:cubicBezTo>
                  <a:pt x="5776" y="16345"/>
                  <a:pt x="5860" y="16356"/>
                  <a:pt x="5953" y="16396"/>
                </a:cubicBezTo>
                <a:cubicBezTo>
                  <a:pt x="6001" y="16417"/>
                  <a:pt x="6055" y="16441"/>
                  <a:pt x="6102" y="16446"/>
                </a:cubicBezTo>
                <a:cubicBezTo>
                  <a:pt x="6127" y="16446"/>
                  <a:pt x="6135" y="16446"/>
                  <a:pt x="6152" y="16446"/>
                </a:cubicBezTo>
                <a:cubicBezTo>
                  <a:pt x="6152" y="16458"/>
                  <a:pt x="6152" y="16562"/>
                  <a:pt x="6152" y="164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74920" y="5661000"/>
            <a:ext cx="955800" cy="554040"/>
          </a:xfrm>
          <a:custGeom>
            <a:avLst/>
            <a:gdLst/>
            <a:ahLst/>
            <a:rect l="l" t="t" r="r" b="b"/>
            <a:pathLst>
              <a:path w="2655" h="1539">
                <a:moveTo>
                  <a:pt x="6821" y="15949"/>
                </a:moveTo>
                <a:cubicBezTo>
                  <a:pt x="6814" y="15978"/>
                  <a:pt x="6800" y="16030"/>
                  <a:pt x="6772" y="16049"/>
                </a:cubicBezTo>
                <a:cubicBezTo>
                  <a:pt x="6712" y="16090"/>
                  <a:pt x="6683" y="16130"/>
                  <a:pt x="6648" y="16197"/>
                </a:cubicBezTo>
                <a:cubicBezTo>
                  <a:pt x="6609" y="16271"/>
                  <a:pt x="6598" y="16313"/>
                  <a:pt x="6598" y="16396"/>
                </a:cubicBezTo>
                <a:cubicBezTo>
                  <a:pt x="6598" y="16490"/>
                  <a:pt x="6629" y="16535"/>
                  <a:pt x="6648" y="16619"/>
                </a:cubicBezTo>
                <a:cubicBezTo>
                  <a:pt x="6658" y="16665"/>
                  <a:pt x="6666" y="16719"/>
                  <a:pt x="6722" y="16743"/>
                </a:cubicBezTo>
                <a:cubicBezTo>
                  <a:pt x="6755" y="16743"/>
                  <a:pt x="6771" y="16743"/>
                  <a:pt x="6796" y="16743"/>
                </a:cubicBezTo>
              </a:path>
              <a:path w="2655" h="1539">
                <a:moveTo>
                  <a:pt x="7268" y="16123"/>
                </a:moveTo>
                <a:cubicBezTo>
                  <a:pt x="7261" y="16081"/>
                  <a:pt x="7245" y="16048"/>
                  <a:pt x="7193" y="16024"/>
                </a:cubicBezTo>
                <a:cubicBezTo>
                  <a:pt x="7170" y="16014"/>
                  <a:pt x="7111" y="16059"/>
                  <a:pt x="7094" y="16073"/>
                </a:cubicBezTo>
                <a:cubicBezTo>
                  <a:pt x="7037" y="16123"/>
                  <a:pt x="7045" y="16178"/>
                  <a:pt x="7045" y="16247"/>
                </a:cubicBezTo>
                <a:cubicBezTo>
                  <a:pt x="7045" y="16345"/>
                  <a:pt x="7066" y="16404"/>
                  <a:pt x="7094" y="16495"/>
                </a:cubicBezTo>
                <a:cubicBezTo>
                  <a:pt x="7120" y="16578"/>
                  <a:pt x="7139" y="16682"/>
                  <a:pt x="7144" y="16768"/>
                </a:cubicBezTo>
                <a:cubicBezTo>
                  <a:pt x="7147" y="16822"/>
                  <a:pt x="7154" y="16860"/>
                  <a:pt x="7094" y="16867"/>
                </a:cubicBezTo>
                <a:cubicBezTo>
                  <a:pt x="7056" y="16871"/>
                  <a:pt x="7029" y="16857"/>
                  <a:pt x="7020" y="16818"/>
                </a:cubicBezTo>
                <a:cubicBezTo>
                  <a:pt x="7007" y="16760"/>
                  <a:pt x="7013" y="16669"/>
                  <a:pt x="7045" y="16619"/>
                </a:cubicBezTo>
                <a:cubicBezTo>
                  <a:pt x="7082" y="16562"/>
                  <a:pt x="7128" y="16501"/>
                  <a:pt x="7169" y="16446"/>
                </a:cubicBezTo>
                <a:cubicBezTo>
                  <a:pt x="7200" y="16405"/>
                  <a:pt x="7255" y="16384"/>
                  <a:pt x="7293" y="16346"/>
                </a:cubicBezTo>
                <a:cubicBezTo>
                  <a:pt x="7301" y="16338"/>
                  <a:pt x="7309" y="16329"/>
                  <a:pt x="7317" y="16321"/>
                </a:cubicBezTo>
              </a:path>
              <a:path w="2655" h="1539">
                <a:moveTo>
                  <a:pt x="7417" y="16545"/>
                </a:moveTo>
                <a:cubicBezTo>
                  <a:pt x="7441" y="16630"/>
                  <a:pt x="7464" y="16719"/>
                  <a:pt x="7516" y="16793"/>
                </a:cubicBezTo>
                <a:cubicBezTo>
                  <a:pt x="7542" y="16830"/>
                  <a:pt x="7574" y="16818"/>
                  <a:pt x="7615" y="16818"/>
                </a:cubicBezTo>
              </a:path>
              <a:path w="2655" h="1539">
                <a:moveTo>
                  <a:pt x="7541" y="16098"/>
                </a:moveTo>
                <a:cubicBezTo>
                  <a:pt x="7541" y="16051"/>
                  <a:pt x="7565" y="16141"/>
                  <a:pt x="7590" y="16173"/>
                </a:cubicBezTo>
              </a:path>
              <a:path w="2655" h="1539">
                <a:moveTo>
                  <a:pt x="7764" y="16470"/>
                </a:moveTo>
                <a:cubicBezTo>
                  <a:pt x="7805" y="16470"/>
                  <a:pt x="7847" y="16470"/>
                  <a:pt x="7888" y="16470"/>
                </a:cubicBezTo>
              </a:path>
              <a:path w="2655" h="1539">
                <a:moveTo>
                  <a:pt x="8186" y="16123"/>
                </a:moveTo>
                <a:cubicBezTo>
                  <a:pt x="8164" y="16152"/>
                  <a:pt x="8123" y="16234"/>
                  <a:pt x="8136" y="16272"/>
                </a:cubicBezTo>
                <a:cubicBezTo>
                  <a:pt x="8143" y="16293"/>
                  <a:pt x="8222" y="16387"/>
                  <a:pt x="8235" y="16396"/>
                </a:cubicBezTo>
                <a:cubicBezTo>
                  <a:pt x="8280" y="16425"/>
                  <a:pt x="8314" y="16439"/>
                  <a:pt x="8359" y="16421"/>
                </a:cubicBezTo>
              </a:path>
              <a:path w="2655" h="1539">
                <a:moveTo>
                  <a:pt x="8434" y="15999"/>
                </a:moveTo>
                <a:cubicBezTo>
                  <a:pt x="8374" y="16190"/>
                  <a:pt x="8359" y="16242"/>
                  <a:pt x="8359" y="16421"/>
                </a:cubicBezTo>
                <a:cubicBezTo>
                  <a:pt x="8359" y="16448"/>
                  <a:pt x="8338" y="16594"/>
                  <a:pt x="8384" y="16594"/>
                </a:cubicBezTo>
                <a:cubicBezTo>
                  <a:pt x="8392" y="16586"/>
                  <a:pt x="8401" y="16578"/>
                  <a:pt x="8409" y="16570"/>
                </a:cubicBezTo>
              </a:path>
              <a:path w="2655" h="1539">
                <a:moveTo>
                  <a:pt x="8682" y="16371"/>
                </a:moveTo>
                <a:cubicBezTo>
                  <a:pt x="8682" y="16520"/>
                  <a:pt x="8681" y="16672"/>
                  <a:pt x="8657" y="16818"/>
                </a:cubicBezTo>
                <a:cubicBezTo>
                  <a:pt x="8639" y="16927"/>
                  <a:pt x="8612" y="17061"/>
                  <a:pt x="8582" y="17165"/>
                </a:cubicBezTo>
                <a:cubicBezTo>
                  <a:pt x="8569" y="17209"/>
                  <a:pt x="8543" y="17224"/>
                  <a:pt x="8533" y="17264"/>
                </a:cubicBezTo>
                <a:cubicBezTo>
                  <a:pt x="8487" y="17249"/>
                  <a:pt x="8508" y="17170"/>
                  <a:pt x="8508" y="17115"/>
                </a:cubicBezTo>
                <a:cubicBezTo>
                  <a:pt x="8508" y="17041"/>
                  <a:pt x="8508" y="17016"/>
                  <a:pt x="8508" y="16966"/>
                </a:cubicBezTo>
              </a:path>
              <a:path w="2655" h="1539">
                <a:moveTo>
                  <a:pt x="8756" y="15875"/>
                </a:moveTo>
                <a:cubicBezTo>
                  <a:pt x="8778" y="15837"/>
                  <a:pt x="8797" y="15813"/>
                  <a:pt x="8806" y="15776"/>
                </a:cubicBezTo>
              </a:path>
              <a:path w="2655" h="1539">
                <a:moveTo>
                  <a:pt x="9153" y="15726"/>
                </a:moveTo>
                <a:cubicBezTo>
                  <a:pt x="9207" y="15903"/>
                  <a:pt x="9248" y="16062"/>
                  <a:pt x="9252" y="16247"/>
                </a:cubicBezTo>
                <a:cubicBezTo>
                  <a:pt x="9255" y="16367"/>
                  <a:pt x="9246" y="16537"/>
                  <a:pt x="9178" y="16644"/>
                </a:cubicBezTo>
                <a:cubicBezTo>
                  <a:pt x="9168" y="16660"/>
                  <a:pt x="9090" y="16786"/>
                  <a:pt x="9079" y="16793"/>
                </a:cubicBezTo>
                <a:cubicBezTo>
                  <a:pt x="9071" y="16793"/>
                  <a:pt x="9062" y="16793"/>
                  <a:pt x="9054" y="167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63920" y="5634000"/>
            <a:ext cx="1028880" cy="669960"/>
          </a:xfrm>
          <a:custGeom>
            <a:avLst/>
            <a:gdLst/>
            <a:ahLst/>
            <a:rect l="l" t="t" r="r" b="b"/>
            <a:pathLst>
              <a:path w="2854" h="1861">
                <a:moveTo>
                  <a:pt x="9624" y="16371"/>
                </a:moveTo>
                <a:cubicBezTo>
                  <a:pt x="9728" y="16393"/>
                  <a:pt x="9794" y="16399"/>
                  <a:pt x="9872" y="16446"/>
                </a:cubicBezTo>
              </a:path>
              <a:path w="2854" h="1861">
                <a:moveTo>
                  <a:pt x="9649" y="16446"/>
                </a:moveTo>
                <a:cubicBezTo>
                  <a:pt x="9677" y="16520"/>
                  <a:pt x="9666" y="16561"/>
                  <a:pt x="9748" y="16594"/>
                </a:cubicBezTo>
                <a:cubicBezTo>
                  <a:pt x="9809" y="16614"/>
                  <a:pt x="9824" y="16612"/>
                  <a:pt x="9847" y="16644"/>
                </a:cubicBezTo>
              </a:path>
              <a:path w="2854" h="1861">
                <a:moveTo>
                  <a:pt x="10145" y="15652"/>
                </a:moveTo>
                <a:cubicBezTo>
                  <a:pt x="10239" y="15672"/>
                  <a:pt x="10324" y="15697"/>
                  <a:pt x="10418" y="15701"/>
                </a:cubicBezTo>
                <a:cubicBezTo>
                  <a:pt x="10480" y="15704"/>
                  <a:pt x="10528" y="15723"/>
                  <a:pt x="10592" y="15726"/>
                </a:cubicBezTo>
                <a:cubicBezTo>
                  <a:pt x="10632" y="15728"/>
                  <a:pt x="10679" y="15726"/>
                  <a:pt x="10691" y="15751"/>
                </a:cubicBezTo>
                <a:cubicBezTo>
                  <a:pt x="10718" y="15810"/>
                  <a:pt x="10673" y="15896"/>
                  <a:pt x="10666" y="15949"/>
                </a:cubicBezTo>
                <a:cubicBezTo>
                  <a:pt x="10654" y="16041"/>
                  <a:pt x="10626" y="16129"/>
                  <a:pt x="10616" y="16222"/>
                </a:cubicBezTo>
                <a:cubicBezTo>
                  <a:pt x="10605" y="16324"/>
                  <a:pt x="10592" y="16415"/>
                  <a:pt x="10592" y="16520"/>
                </a:cubicBezTo>
                <a:cubicBezTo>
                  <a:pt x="10592" y="16627"/>
                  <a:pt x="10592" y="16735"/>
                  <a:pt x="10592" y="16842"/>
                </a:cubicBezTo>
                <a:cubicBezTo>
                  <a:pt x="10606" y="16821"/>
                  <a:pt x="10623" y="16791"/>
                  <a:pt x="10641" y="16743"/>
                </a:cubicBezTo>
              </a:path>
              <a:path w="2854" h="1861">
                <a:moveTo>
                  <a:pt x="10939" y="16321"/>
                </a:moveTo>
                <a:cubicBezTo>
                  <a:pt x="10958" y="16410"/>
                  <a:pt x="10964" y="16510"/>
                  <a:pt x="10988" y="16594"/>
                </a:cubicBezTo>
                <a:cubicBezTo>
                  <a:pt x="11014" y="16684"/>
                  <a:pt x="11072" y="16742"/>
                  <a:pt x="11112" y="16818"/>
                </a:cubicBezTo>
                <a:cubicBezTo>
                  <a:pt x="11133" y="16858"/>
                  <a:pt x="11162" y="16972"/>
                  <a:pt x="11237" y="16966"/>
                </a:cubicBezTo>
                <a:cubicBezTo>
                  <a:pt x="11245" y="16958"/>
                  <a:pt x="11253" y="16950"/>
                  <a:pt x="11261" y="16942"/>
                </a:cubicBezTo>
              </a:path>
              <a:path w="2854" h="1861">
                <a:moveTo>
                  <a:pt x="11261" y="15925"/>
                </a:moveTo>
                <a:cubicBezTo>
                  <a:pt x="11261" y="15856"/>
                  <a:pt x="11203" y="15956"/>
                  <a:pt x="11187" y="15974"/>
                </a:cubicBezTo>
              </a:path>
              <a:path w="2854" h="1861">
                <a:moveTo>
                  <a:pt x="11460" y="16520"/>
                </a:moveTo>
                <a:cubicBezTo>
                  <a:pt x="11542" y="16543"/>
                  <a:pt x="11564" y="16550"/>
                  <a:pt x="11633" y="16520"/>
                </a:cubicBezTo>
                <a:cubicBezTo>
                  <a:pt x="11650" y="16512"/>
                  <a:pt x="11666" y="16503"/>
                  <a:pt x="11683" y="16495"/>
                </a:cubicBezTo>
              </a:path>
              <a:path w="2854" h="1861">
                <a:moveTo>
                  <a:pt x="11981" y="15999"/>
                </a:moveTo>
                <a:cubicBezTo>
                  <a:pt x="12045" y="15999"/>
                  <a:pt x="12108" y="15995"/>
                  <a:pt x="12154" y="16049"/>
                </a:cubicBezTo>
                <a:cubicBezTo>
                  <a:pt x="12197" y="16099"/>
                  <a:pt x="12221" y="16145"/>
                  <a:pt x="12179" y="16197"/>
                </a:cubicBezTo>
                <a:cubicBezTo>
                  <a:pt x="12128" y="16260"/>
                  <a:pt x="12090" y="16268"/>
                  <a:pt x="12030" y="16297"/>
                </a:cubicBezTo>
                <a:cubicBezTo>
                  <a:pt x="11993" y="16315"/>
                  <a:pt x="11964" y="16363"/>
                  <a:pt x="11956" y="16396"/>
                </a:cubicBezTo>
                <a:cubicBezTo>
                  <a:pt x="12004" y="16432"/>
                  <a:pt x="12054" y="16421"/>
                  <a:pt x="12105" y="16446"/>
                </a:cubicBezTo>
                <a:cubicBezTo>
                  <a:pt x="12159" y="16473"/>
                  <a:pt x="12202" y="16541"/>
                  <a:pt x="12204" y="16594"/>
                </a:cubicBezTo>
                <a:cubicBezTo>
                  <a:pt x="12208" y="16683"/>
                  <a:pt x="12199" y="16763"/>
                  <a:pt x="12154" y="16842"/>
                </a:cubicBezTo>
                <a:cubicBezTo>
                  <a:pt x="12127" y="16890"/>
                  <a:pt x="12083" y="16946"/>
                  <a:pt x="12030" y="16966"/>
                </a:cubicBezTo>
                <a:cubicBezTo>
                  <a:pt x="12016" y="16972"/>
                  <a:pt x="11939" y="16994"/>
                  <a:pt x="11931" y="16991"/>
                </a:cubicBezTo>
                <a:cubicBezTo>
                  <a:pt x="11894" y="16975"/>
                  <a:pt x="11865" y="16925"/>
                  <a:pt x="11857" y="16892"/>
                </a:cubicBezTo>
              </a:path>
              <a:path w="2854" h="1861">
                <a:moveTo>
                  <a:pt x="12477" y="16942"/>
                </a:moveTo>
                <a:cubicBezTo>
                  <a:pt x="12398" y="17128"/>
                  <a:pt x="12331" y="17299"/>
                  <a:pt x="12229" y="17462"/>
                </a:cubicBezTo>
                <a:cubicBezTo>
                  <a:pt x="12209" y="17503"/>
                  <a:pt x="12211" y="17519"/>
                  <a:pt x="12179" y="17512"/>
                </a:cubicBezTo>
                <a:cubicBezTo>
                  <a:pt x="12145" y="17467"/>
                  <a:pt x="12142" y="17398"/>
                  <a:pt x="12154" y="17338"/>
                </a:cubicBezTo>
                <a:cubicBezTo>
                  <a:pt x="12187" y="17166"/>
                  <a:pt x="12217" y="16990"/>
                  <a:pt x="12254" y="16818"/>
                </a:cubicBezTo>
              </a:path>
              <a:path w="2854" h="1861">
                <a:moveTo>
                  <a:pt x="12452" y="15949"/>
                </a:moveTo>
                <a:lnTo>
                  <a:pt x="12452" y="15949"/>
                </a:lnTo>
                <a:lnTo>
                  <a:pt x="12452" y="15949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33. v = 4i-3j, find a unit vector in the direction of the given vector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1820880"/>
            <a:ext cx="1706760" cy="617400"/>
          </a:xfrm>
          <a:custGeom>
            <a:avLst/>
            <a:gdLst/>
            <a:ahLst/>
            <a:rect l="l" t="t" r="r" b="b"/>
            <a:pathLst>
              <a:path w="4739" h="1713">
                <a:moveTo>
                  <a:pt x="4366" y="5110"/>
                </a:moveTo>
                <a:cubicBezTo>
                  <a:pt x="4350" y="5142"/>
                  <a:pt x="4360" y="5129"/>
                  <a:pt x="4341" y="5159"/>
                </a:cubicBezTo>
                <a:cubicBezTo>
                  <a:pt x="4307" y="5214"/>
                  <a:pt x="4267" y="5280"/>
                  <a:pt x="4217" y="5333"/>
                </a:cubicBezTo>
                <a:cubicBezTo>
                  <a:pt x="4147" y="5408"/>
                  <a:pt x="4064" y="5458"/>
                  <a:pt x="3994" y="5531"/>
                </a:cubicBezTo>
                <a:cubicBezTo>
                  <a:pt x="3908" y="5621"/>
                  <a:pt x="3813" y="5691"/>
                  <a:pt x="3721" y="5779"/>
                </a:cubicBezTo>
                <a:cubicBezTo>
                  <a:pt x="3637" y="5859"/>
                  <a:pt x="3547" y="5942"/>
                  <a:pt x="3448" y="6003"/>
                </a:cubicBezTo>
                <a:cubicBezTo>
                  <a:pt x="3392" y="6038"/>
                  <a:pt x="3348" y="6059"/>
                  <a:pt x="3299" y="6102"/>
                </a:cubicBezTo>
                <a:cubicBezTo>
                  <a:pt x="3337" y="6097"/>
                  <a:pt x="3352" y="6073"/>
                  <a:pt x="3373" y="6077"/>
                </a:cubicBezTo>
                <a:cubicBezTo>
                  <a:pt x="3406" y="6084"/>
                  <a:pt x="3396" y="6107"/>
                  <a:pt x="3423" y="6127"/>
                </a:cubicBezTo>
                <a:cubicBezTo>
                  <a:pt x="3472" y="6163"/>
                  <a:pt x="3536" y="6206"/>
                  <a:pt x="3572" y="6251"/>
                </a:cubicBezTo>
                <a:cubicBezTo>
                  <a:pt x="3620" y="6310"/>
                  <a:pt x="3697" y="6344"/>
                  <a:pt x="3746" y="6400"/>
                </a:cubicBezTo>
                <a:cubicBezTo>
                  <a:pt x="3796" y="6457"/>
                  <a:pt x="3864" y="6503"/>
                  <a:pt x="3919" y="6548"/>
                </a:cubicBezTo>
                <a:cubicBezTo>
                  <a:pt x="3950" y="6574"/>
                  <a:pt x="3966" y="6651"/>
                  <a:pt x="3994" y="6623"/>
                </a:cubicBezTo>
                <a:cubicBezTo>
                  <a:pt x="3994" y="6598"/>
                  <a:pt x="3994" y="6590"/>
                  <a:pt x="3994" y="6573"/>
                </a:cubicBezTo>
              </a:path>
              <a:path w="4739" h="1713">
                <a:moveTo>
                  <a:pt x="4539" y="5581"/>
                </a:moveTo>
                <a:cubicBezTo>
                  <a:pt x="4532" y="5627"/>
                  <a:pt x="4514" y="5689"/>
                  <a:pt x="4490" y="5730"/>
                </a:cubicBezTo>
                <a:cubicBezTo>
                  <a:pt x="4466" y="5771"/>
                  <a:pt x="4409" y="5812"/>
                  <a:pt x="4390" y="5854"/>
                </a:cubicBezTo>
                <a:cubicBezTo>
                  <a:pt x="4374" y="5889"/>
                  <a:pt x="4378" y="5867"/>
                  <a:pt x="4366" y="5904"/>
                </a:cubicBezTo>
                <a:cubicBezTo>
                  <a:pt x="4415" y="5904"/>
                  <a:pt x="4425" y="5915"/>
                  <a:pt x="4465" y="5928"/>
                </a:cubicBezTo>
                <a:cubicBezTo>
                  <a:pt x="4578" y="5964"/>
                  <a:pt x="4753" y="5928"/>
                  <a:pt x="4862" y="5904"/>
                </a:cubicBezTo>
                <a:cubicBezTo>
                  <a:pt x="4908" y="5894"/>
                  <a:pt x="4951" y="5885"/>
                  <a:pt x="4986" y="5854"/>
                </a:cubicBezTo>
                <a:cubicBezTo>
                  <a:pt x="4994" y="5846"/>
                  <a:pt x="5003" y="5837"/>
                  <a:pt x="5011" y="5829"/>
                </a:cubicBezTo>
              </a:path>
              <a:path w="4739" h="1713">
                <a:moveTo>
                  <a:pt x="4986" y="5432"/>
                </a:moveTo>
                <a:cubicBezTo>
                  <a:pt x="4950" y="5492"/>
                  <a:pt x="4961" y="5556"/>
                  <a:pt x="4961" y="5631"/>
                </a:cubicBezTo>
                <a:cubicBezTo>
                  <a:pt x="4961" y="5764"/>
                  <a:pt x="4936" y="5889"/>
                  <a:pt x="4936" y="6028"/>
                </a:cubicBezTo>
                <a:cubicBezTo>
                  <a:pt x="4936" y="6142"/>
                  <a:pt x="4944" y="6243"/>
                  <a:pt x="4961" y="6350"/>
                </a:cubicBezTo>
                <a:cubicBezTo>
                  <a:pt x="4969" y="6398"/>
                  <a:pt x="4981" y="6433"/>
                  <a:pt x="4986" y="6474"/>
                </a:cubicBezTo>
                <a:cubicBezTo>
                  <a:pt x="4986" y="6499"/>
                  <a:pt x="4986" y="6507"/>
                  <a:pt x="5011" y="6499"/>
                </a:cubicBezTo>
              </a:path>
              <a:path w="4739" h="1713">
                <a:moveTo>
                  <a:pt x="5308" y="6400"/>
                </a:moveTo>
                <a:cubicBezTo>
                  <a:pt x="5286" y="6481"/>
                  <a:pt x="5283" y="6540"/>
                  <a:pt x="5283" y="6623"/>
                </a:cubicBezTo>
                <a:cubicBezTo>
                  <a:pt x="5283" y="6643"/>
                  <a:pt x="5285" y="6803"/>
                  <a:pt x="5308" y="6772"/>
                </a:cubicBezTo>
                <a:cubicBezTo>
                  <a:pt x="5308" y="6747"/>
                  <a:pt x="5308" y="6739"/>
                  <a:pt x="5333" y="6747"/>
                </a:cubicBezTo>
              </a:path>
              <a:path w="4739" h="1713">
                <a:moveTo>
                  <a:pt x="5730" y="5755"/>
                </a:moveTo>
                <a:cubicBezTo>
                  <a:pt x="5820" y="5736"/>
                  <a:pt x="5887" y="5730"/>
                  <a:pt x="5978" y="5730"/>
                </a:cubicBezTo>
                <a:cubicBezTo>
                  <a:pt x="6070" y="5730"/>
                  <a:pt x="6137" y="5722"/>
                  <a:pt x="6226" y="5705"/>
                </a:cubicBezTo>
                <a:cubicBezTo>
                  <a:pt x="6251" y="5705"/>
                  <a:pt x="6259" y="5705"/>
                  <a:pt x="6251" y="5680"/>
                </a:cubicBezTo>
              </a:path>
              <a:path w="4739" h="1713">
                <a:moveTo>
                  <a:pt x="6325" y="5383"/>
                </a:moveTo>
                <a:cubicBezTo>
                  <a:pt x="6364" y="5360"/>
                  <a:pt x="6455" y="5295"/>
                  <a:pt x="6499" y="5283"/>
                </a:cubicBezTo>
                <a:cubicBezTo>
                  <a:pt x="6563" y="5266"/>
                  <a:pt x="6628" y="5259"/>
                  <a:pt x="6697" y="5259"/>
                </a:cubicBezTo>
                <a:cubicBezTo>
                  <a:pt x="6733" y="5259"/>
                  <a:pt x="6801" y="5272"/>
                  <a:pt x="6821" y="5308"/>
                </a:cubicBezTo>
                <a:cubicBezTo>
                  <a:pt x="6849" y="5359"/>
                  <a:pt x="6803" y="5401"/>
                  <a:pt x="6772" y="5432"/>
                </a:cubicBezTo>
                <a:cubicBezTo>
                  <a:pt x="6723" y="5482"/>
                  <a:pt x="6677" y="5515"/>
                  <a:pt x="6623" y="5556"/>
                </a:cubicBezTo>
                <a:cubicBezTo>
                  <a:pt x="6588" y="5583"/>
                  <a:pt x="6539" y="5638"/>
                  <a:pt x="6499" y="5655"/>
                </a:cubicBezTo>
                <a:cubicBezTo>
                  <a:pt x="6474" y="5655"/>
                  <a:pt x="6466" y="5655"/>
                  <a:pt x="6474" y="5680"/>
                </a:cubicBezTo>
                <a:cubicBezTo>
                  <a:pt x="6565" y="5680"/>
                  <a:pt x="6643" y="5681"/>
                  <a:pt x="6722" y="5705"/>
                </a:cubicBezTo>
                <a:cubicBezTo>
                  <a:pt x="6804" y="5730"/>
                  <a:pt x="6799" y="5766"/>
                  <a:pt x="6821" y="5829"/>
                </a:cubicBezTo>
                <a:cubicBezTo>
                  <a:pt x="6848" y="5905"/>
                  <a:pt x="6846" y="5970"/>
                  <a:pt x="6846" y="6052"/>
                </a:cubicBezTo>
                <a:cubicBezTo>
                  <a:pt x="6846" y="6174"/>
                  <a:pt x="6813" y="6219"/>
                  <a:pt x="6722" y="6251"/>
                </a:cubicBezTo>
                <a:cubicBezTo>
                  <a:pt x="6644" y="6279"/>
                  <a:pt x="6610" y="6300"/>
                  <a:pt x="6524" y="6300"/>
                </a:cubicBezTo>
                <a:cubicBezTo>
                  <a:pt x="6427" y="6300"/>
                  <a:pt x="6378" y="6275"/>
                  <a:pt x="6300" y="6251"/>
                </a:cubicBezTo>
                <a:cubicBezTo>
                  <a:pt x="6292" y="6251"/>
                  <a:pt x="6284" y="6251"/>
                  <a:pt x="6276" y="6251"/>
                </a:cubicBezTo>
                <a:cubicBezTo>
                  <a:pt x="6276" y="6185"/>
                  <a:pt x="6300" y="6177"/>
                  <a:pt x="6350" y="6127"/>
                </a:cubicBezTo>
              </a:path>
              <a:path w="4739" h="1713">
                <a:moveTo>
                  <a:pt x="7094" y="5060"/>
                </a:moveTo>
                <a:cubicBezTo>
                  <a:pt x="7137" y="5088"/>
                  <a:pt x="7198" y="5120"/>
                  <a:pt x="7243" y="5159"/>
                </a:cubicBezTo>
                <a:cubicBezTo>
                  <a:pt x="7315" y="5221"/>
                  <a:pt x="7389" y="5273"/>
                  <a:pt x="7466" y="5333"/>
                </a:cubicBezTo>
                <a:cubicBezTo>
                  <a:pt x="7555" y="5403"/>
                  <a:pt x="7640" y="5454"/>
                  <a:pt x="7739" y="5507"/>
                </a:cubicBezTo>
                <a:cubicBezTo>
                  <a:pt x="7809" y="5545"/>
                  <a:pt x="7870" y="5593"/>
                  <a:pt x="7938" y="5631"/>
                </a:cubicBezTo>
                <a:cubicBezTo>
                  <a:pt x="7987" y="5658"/>
                  <a:pt x="8013" y="5681"/>
                  <a:pt x="8037" y="5705"/>
                </a:cubicBezTo>
                <a:cubicBezTo>
                  <a:pt x="7982" y="5713"/>
                  <a:pt x="7981" y="5715"/>
                  <a:pt x="7938" y="5755"/>
                </a:cubicBezTo>
                <a:cubicBezTo>
                  <a:pt x="7850" y="5838"/>
                  <a:pt x="7797" y="5948"/>
                  <a:pt x="7714" y="6028"/>
                </a:cubicBezTo>
                <a:cubicBezTo>
                  <a:pt x="7601" y="6136"/>
                  <a:pt x="7506" y="6261"/>
                  <a:pt x="7392" y="6375"/>
                </a:cubicBezTo>
                <a:cubicBezTo>
                  <a:pt x="7350" y="6416"/>
                  <a:pt x="7342" y="6424"/>
                  <a:pt x="7317" y="64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46640" y="1795320"/>
            <a:ext cx="3260520" cy="534960"/>
          </a:xfrm>
          <a:custGeom>
            <a:avLst/>
            <a:gdLst/>
            <a:ahLst/>
            <a:rect l="l" t="t" r="r" b="b"/>
            <a:pathLst>
              <a:path w="9054" h="1489">
                <a:moveTo>
                  <a:pt x="9575" y="5606"/>
                </a:moveTo>
                <a:cubicBezTo>
                  <a:pt x="9622" y="5598"/>
                  <a:pt x="9643" y="5586"/>
                  <a:pt x="9699" y="5581"/>
                </a:cubicBezTo>
                <a:cubicBezTo>
                  <a:pt x="9785" y="5573"/>
                  <a:pt x="9868" y="5578"/>
                  <a:pt x="9947" y="5606"/>
                </a:cubicBezTo>
                <a:cubicBezTo>
                  <a:pt x="10032" y="5636"/>
                  <a:pt x="10061" y="5675"/>
                  <a:pt x="10096" y="5755"/>
                </a:cubicBezTo>
                <a:cubicBezTo>
                  <a:pt x="10140" y="5855"/>
                  <a:pt x="10115" y="5945"/>
                  <a:pt x="10096" y="6052"/>
                </a:cubicBezTo>
                <a:cubicBezTo>
                  <a:pt x="10083" y="6128"/>
                  <a:pt x="10035" y="6201"/>
                  <a:pt x="10021" y="6276"/>
                </a:cubicBezTo>
                <a:cubicBezTo>
                  <a:pt x="10011" y="6331"/>
                  <a:pt x="10024" y="6393"/>
                  <a:pt x="10021" y="6449"/>
                </a:cubicBezTo>
                <a:cubicBezTo>
                  <a:pt x="10039" y="6401"/>
                  <a:pt x="10056" y="6355"/>
                  <a:pt x="10071" y="6300"/>
                </a:cubicBezTo>
                <a:cubicBezTo>
                  <a:pt x="10091" y="6226"/>
                  <a:pt x="10083" y="6153"/>
                  <a:pt x="10096" y="6077"/>
                </a:cubicBezTo>
                <a:cubicBezTo>
                  <a:pt x="10121" y="5931"/>
                  <a:pt x="10160" y="5778"/>
                  <a:pt x="10170" y="5631"/>
                </a:cubicBezTo>
                <a:cubicBezTo>
                  <a:pt x="10177" y="5535"/>
                  <a:pt x="10179" y="5451"/>
                  <a:pt x="10195" y="5358"/>
                </a:cubicBezTo>
                <a:cubicBezTo>
                  <a:pt x="10205" y="5301"/>
                  <a:pt x="10199" y="5238"/>
                  <a:pt x="10220" y="5184"/>
                </a:cubicBezTo>
                <a:cubicBezTo>
                  <a:pt x="10228" y="5163"/>
                  <a:pt x="10260" y="5113"/>
                  <a:pt x="10269" y="5110"/>
                </a:cubicBezTo>
                <a:cubicBezTo>
                  <a:pt x="10315" y="5096"/>
                  <a:pt x="10328" y="5135"/>
                  <a:pt x="10368" y="5135"/>
                </a:cubicBezTo>
                <a:cubicBezTo>
                  <a:pt x="10634" y="5135"/>
                  <a:pt x="10899" y="5137"/>
                  <a:pt x="11162" y="5110"/>
                </a:cubicBezTo>
                <a:cubicBezTo>
                  <a:pt x="11409" y="5085"/>
                  <a:pt x="11657" y="5064"/>
                  <a:pt x="11906" y="5060"/>
                </a:cubicBezTo>
                <a:cubicBezTo>
                  <a:pt x="12180" y="5055"/>
                  <a:pt x="12449" y="5035"/>
                  <a:pt x="12725" y="5035"/>
                </a:cubicBezTo>
                <a:cubicBezTo>
                  <a:pt x="12935" y="5035"/>
                  <a:pt x="13137" y="5047"/>
                  <a:pt x="13345" y="5060"/>
                </a:cubicBezTo>
                <a:cubicBezTo>
                  <a:pt x="13530" y="5071"/>
                  <a:pt x="13739" y="5075"/>
                  <a:pt x="13915" y="5035"/>
                </a:cubicBezTo>
                <a:cubicBezTo>
                  <a:pt x="14062" y="5001"/>
                  <a:pt x="13930" y="5055"/>
                  <a:pt x="13940" y="4986"/>
                </a:cubicBezTo>
              </a:path>
              <a:path w="9054" h="1489">
                <a:moveTo>
                  <a:pt x="10641" y="5581"/>
                </a:moveTo>
                <a:cubicBezTo>
                  <a:pt x="10634" y="5674"/>
                  <a:pt x="10613" y="5723"/>
                  <a:pt x="10592" y="5804"/>
                </a:cubicBezTo>
                <a:cubicBezTo>
                  <a:pt x="10580" y="5849"/>
                  <a:pt x="10567" y="5874"/>
                  <a:pt x="10567" y="5928"/>
                </a:cubicBezTo>
                <a:cubicBezTo>
                  <a:pt x="10567" y="5953"/>
                  <a:pt x="10567" y="5961"/>
                  <a:pt x="10567" y="5978"/>
                </a:cubicBezTo>
                <a:cubicBezTo>
                  <a:pt x="10679" y="5978"/>
                  <a:pt x="10791" y="5983"/>
                  <a:pt x="10889" y="5953"/>
                </a:cubicBezTo>
                <a:cubicBezTo>
                  <a:pt x="10924" y="5942"/>
                  <a:pt x="10935" y="5933"/>
                  <a:pt x="10964" y="5904"/>
                </a:cubicBezTo>
              </a:path>
              <a:path w="9054" h="1489">
                <a:moveTo>
                  <a:pt x="10964" y="5581"/>
                </a:moveTo>
                <a:cubicBezTo>
                  <a:pt x="10964" y="5678"/>
                  <a:pt x="10952" y="5760"/>
                  <a:pt x="10939" y="5854"/>
                </a:cubicBezTo>
                <a:cubicBezTo>
                  <a:pt x="10917" y="6005"/>
                  <a:pt x="10942" y="6152"/>
                  <a:pt x="10914" y="6300"/>
                </a:cubicBezTo>
                <a:cubicBezTo>
                  <a:pt x="10907" y="6339"/>
                  <a:pt x="10914" y="6384"/>
                  <a:pt x="10914" y="6424"/>
                </a:cubicBezTo>
                <a:cubicBezTo>
                  <a:pt x="10914" y="6376"/>
                  <a:pt x="10918" y="6374"/>
                  <a:pt x="10939" y="6325"/>
                </a:cubicBezTo>
              </a:path>
              <a:path w="9054" h="1489">
                <a:moveTo>
                  <a:pt x="11261" y="5457"/>
                </a:moveTo>
                <a:cubicBezTo>
                  <a:pt x="11288" y="5441"/>
                  <a:pt x="11386" y="5372"/>
                  <a:pt x="11435" y="5407"/>
                </a:cubicBezTo>
                <a:cubicBezTo>
                  <a:pt x="11453" y="5420"/>
                  <a:pt x="11460" y="5480"/>
                  <a:pt x="11460" y="5507"/>
                </a:cubicBezTo>
                <a:cubicBezTo>
                  <a:pt x="11460" y="5584"/>
                  <a:pt x="11412" y="5594"/>
                  <a:pt x="11361" y="5631"/>
                </a:cubicBezTo>
                <a:cubicBezTo>
                  <a:pt x="11345" y="5643"/>
                  <a:pt x="11264" y="5700"/>
                  <a:pt x="11261" y="5705"/>
                </a:cubicBezTo>
                <a:cubicBezTo>
                  <a:pt x="11261" y="5713"/>
                  <a:pt x="11261" y="5722"/>
                  <a:pt x="11261" y="5730"/>
                </a:cubicBezTo>
                <a:cubicBezTo>
                  <a:pt x="11274" y="5769"/>
                  <a:pt x="11333" y="5771"/>
                  <a:pt x="11385" y="5755"/>
                </a:cubicBezTo>
                <a:cubicBezTo>
                  <a:pt x="11450" y="5734"/>
                  <a:pt x="11440" y="5730"/>
                  <a:pt x="11509" y="5730"/>
                </a:cubicBezTo>
              </a:path>
              <a:path w="9054" h="1489">
                <a:moveTo>
                  <a:pt x="11881" y="5804"/>
                </a:moveTo>
                <a:cubicBezTo>
                  <a:pt x="11881" y="5932"/>
                  <a:pt x="11872" y="6064"/>
                  <a:pt x="11906" y="6176"/>
                </a:cubicBezTo>
                <a:cubicBezTo>
                  <a:pt x="11908" y="6183"/>
                  <a:pt x="11906" y="6269"/>
                  <a:pt x="11906" y="6201"/>
                </a:cubicBezTo>
              </a:path>
              <a:path w="9054" h="1489">
                <a:moveTo>
                  <a:pt x="11683" y="6003"/>
                </a:moveTo>
                <a:cubicBezTo>
                  <a:pt x="11780" y="6003"/>
                  <a:pt x="11866" y="5990"/>
                  <a:pt x="11956" y="5978"/>
                </a:cubicBezTo>
                <a:cubicBezTo>
                  <a:pt x="12052" y="5965"/>
                  <a:pt x="12090" y="5973"/>
                  <a:pt x="12179" y="5928"/>
                </a:cubicBezTo>
              </a:path>
              <a:path w="9054" h="1489">
                <a:moveTo>
                  <a:pt x="12477" y="5631"/>
                </a:moveTo>
                <a:cubicBezTo>
                  <a:pt x="12431" y="5741"/>
                  <a:pt x="12386" y="5826"/>
                  <a:pt x="12328" y="5928"/>
                </a:cubicBezTo>
                <a:cubicBezTo>
                  <a:pt x="12289" y="5996"/>
                  <a:pt x="12258" y="6076"/>
                  <a:pt x="12254" y="6152"/>
                </a:cubicBezTo>
                <a:cubicBezTo>
                  <a:pt x="12252" y="6187"/>
                  <a:pt x="12231" y="6358"/>
                  <a:pt x="12278" y="6375"/>
                </a:cubicBezTo>
                <a:cubicBezTo>
                  <a:pt x="12387" y="6414"/>
                  <a:pt x="12423" y="6413"/>
                  <a:pt x="12502" y="6350"/>
                </a:cubicBezTo>
              </a:path>
              <a:path w="9054" h="1489">
                <a:moveTo>
                  <a:pt x="12626" y="5978"/>
                </a:moveTo>
                <a:cubicBezTo>
                  <a:pt x="12681" y="5957"/>
                  <a:pt x="12749" y="5974"/>
                  <a:pt x="12799" y="5953"/>
                </a:cubicBezTo>
                <a:cubicBezTo>
                  <a:pt x="12839" y="5936"/>
                  <a:pt x="12876" y="5921"/>
                  <a:pt x="12923" y="5904"/>
                </a:cubicBezTo>
              </a:path>
              <a:path w="9054" h="1489">
                <a:moveTo>
                  <a:pt x="13072" y="5655"/>
                </a:moveTo>
                <a:cubicBezTo>
                  <a:pt x="13119" y="5655"/>
                  <a:pt x="13218" y="5636"/>
                  <a:pt x="13246" y="5680"/>
                </a:cubicBezTo>
                <a:cubicBezTo>
                  <a:pt x="13273" y="5723"/>
                  <a:pt x="13281" y="5760"/>
                  <a:pt x="13246" y="5804"/>
                </a:cubicBezTo>
                <a:cubicBezTo>
                  <a:pt x="13192" y="5871"/>
                  <a:pt x="13168" y="5897"/>
                  <a:pt x="13097" y="5953"/>
                </a:cubicBezTo>
                <a:cubicBezTo>
                  <a:pt x="13065" y="5979"/>
                  <a:pt x="13037" y="5993"/>
                  <a:pt x="12998" y="6003"/>
                </a:cubicBezTo>
                <a:cubicBezTo>
                  <a:pt x="13055" y="6003"/>
                  <a:pt x="13076" y="5994"/>
                  <a:pt x="13122" y="5978"/>
                </a:cubicBezTo>
                <a:cubicBezTo>
                  <a:pt x="13145" y="5970"/>
                  <a:pt x="13213" y="5991"/>
                  <a:pt x="13221" y="6003"/>
                </a:cubicBezTo>
                <a:cubicBezTo>
                  <a:pt x="13249" y="6045"/>
                  <a:pt x="13262" y="6122"/>
                  <a:pt x="13246" y="6176"/>
                </a:cubicBezTo>
                <a:cubicBezTo>
                  <a:pt x="13230" y="6228"/>
                  <a:pt x="13169" y="6295"/>
                  <a:pt x="13122" y="6325"/>
                </a:cubicBezTo>
                <a:cubicBezTo>
                  <a:pt x="13080" y="6352"/>
                  <a:pt x="12997" y="6372"/>
                  <a:pt x="12948" y="6375"/>
                </a:cubicBezTo>
                <a:cubicBezTo>
                  <a:pt x="12902" y="6378"/>
                  <a:pt x="12827" y="6359"/>
                  <a:pt x="12849" y="6300"/>
                </a:cubicBezTo>
                <a:cubicBezTo>
                  <a:pt x="12857" y="6292"/>
                  <a:pt x="12866" y="6284"/>
                  <a:pt x="12874" y="6276"/>
                </a:cubicBezTo>
              </a:path>
              <a:path w="9054" h="1489">
                <a:moveTo>
                  <a:pt x="13419" y="5531"/>
                </a:moveTo>
                <a:cubicBezTo>
                  <a:pt x="13505" y="5574"/>
                  <a:pt x="13525" y="5594"/>
                  <a:pt x="13568" y="5680"/>
                </a:cubicBezTo>
                <a:cubicBezTo>
                  <a:pt x="13613" y="5769"/>
                  <a:pt x="13639" y="5854"/>
                  <a:pt x="13643" y="5953"/>
                </a:cubicBezTo>
                <a:cubicBezTo>
                  <a:pt x="13647" y="6061"/>
                  <a:pt x="13631" y="6127"/>
                  <a:pt x="13593" y="6226"/>
                </a:cubicBezTo>
                <a:cubicBezTo>
                  <a:pt x="13559" y="6316"/>
                  <a:pt x="13515" y="6409"/>
                  <a:pt x="13419" y="6449"/>
                </a:cubicBezTo>
                <a:cubicBezTo>
                  <a:pt x="13392" y="6460"/>
                  <a:pt x="13349" y="6467"/>
                  <a:pt x="13320" y="6474"/>
                </a:cubicBezTo>
                <a:cubicBezTo>
                  <a:pt x="13284" y="6425"/>
                  <a:pt x="13289" y="6402"/>
                  <a:pt x="13320" y="6350"/>
                </a:cubicBezTo>
              </a:path>
              <a:path w="9054" h="1489">
                <a:moveTo>
                  <a:pt x="13915" y="5432"/>
                </a:moveTo>
                <a:cubicBezTo>
                  <a:pt x="14009" y="5432"/>
                  <a:pt x="14030" y="5411"/>
                  <a:pt x="14064" y="5457"/>
                </a:cubicBezTo>
                <a:cubicBezTo>
                  <a:pt x="14064" y="5510"/>
                  <a:pt x="14059" y="5568"/>
                  <a:pt x="14015" y="5606"/>
                </a:cubicBezTo>
                <a:cubicBezTo>
                  <a:pt x="13969" y="5646"/>
                  <a:pt x="13923" y="5612"/>
                  <a:pt x="13915" y="5680"/>
                </a:cubicBezTo>
                <a:cubicBezTo>
                  <a:pt x="13915" y="5688"/>
                  <a:pt x="13915" y="5697"/>
                  <a:pt x="13915" y="5705"/>
                </a:cubicBezTo>
                <a:cubicBezTo>
                  <a:pt x="13968" y="5692"/>
                  <a:pt x="14001" y="5680"/>
                  <a:pt x="14064" y="5680"/>
                </a:cubicBezTo>
                <a:cubicBezTo>
                  <a:pt x="14131" y="5680"/>
                  <a:pt x="14131" y="5637"/>
                  <a:pt x="14188" y="5680"/>
                </a:cubicBezTo>
              </a:path>
              <a:path w="9054" h="1489">
                <a:moveTo>
                  <a:pt x="14337" y="5854"/>
                </a:moveTo>
                <a:cubicBezTo>
                  <a:pt x="14404" y="5854"/>
                  <a:pt x="14457" y="5862"/>
                  <a:pt x="14511" y="5829"/>
                </a:cubicBezTo>
              </a:path>
              <a:path w="9054" h="1489">
                <a:moveTo>
                  <a:pt x="14337" y="6052"/>
                </a:moveTo>
                <a:cubicBezTo>
                  <a:pt x="14419" y="6052"/>
                  <a:pt x="14485" y="6040"/>
                  <a:pt x="14560" y="6028"/>
                </a:cubicBezTo>
                <a:cubicBezTo>
                  <a:pt x="14577" y="6028"/>
                  <a:pt x="14593" y="6028"/>
                  <a:pt x="14610" y="6028"/>
                </a:cubicBezTo>
              </a:path>
              <a:path w="9054" h="1489">
                <a:moveTo>
                  <a:pt x="15007" y="5606"/>
                </a:moveTo>
                <a:cubicBezTo>
                  <a:pt x="15078" y="5552"/>
                  <a:pt x="15059" y="5578"/>
                  <a:pt x="15131" y="5581"/>
                </a:cubicBezTo>
                <a:cubicBezTo>
                  <a:pt x="15205" y="5585"/>
                  <a:pt x="15219" y="5616"/>
                  <a:pt x="15255" y="5680"/>
                </a:cubicBezTo>
                <a:cubicBezTo>
                  <a:pt x="15290" y="5743"/>
                  <a:pt x="15317" y="5881"/>
                  <a:pt x="15304" y="5953"/>
                </a:cubicBezTo>
                <a:cubicBezTo>
                  <a:pt x="15288" y="6042"/>
                  <a:pt x="15260" y="6135"/>
                  <a:pt x="15255" y="6226"/>
                </a:cubicBezTo>
                <a:cubicBezTo>
                  <a:pt x="15253" y="6256"/>
                  <a:pt x="15273" y="6347"/>
                  <a:pt x="15255" y="6300"/>
                </a:cubicBezTo>
                <a:cubicBezTo>
                  <a:pt x="15233" y="6243"/>
                  <a:pt x="15230" y="6197"/>
                  <a:pt x="15230" y="6127"/>
                </a:cubicBezTo>
                <a:cubicBezTo>
                  <a:pt x="15230" y="6011"/>
                  <a:pt x="15213" y="5888"/>
                  <a:pt x="15255" y="5779"/>
                </a:cubicBezTo>
                <a:cubicBezTo>
                  <a:pt x="15294" y="5677"/>
                  <a:pt x="15346" y="5581"/>
                  <a:pt x="15379" y="5482"/>
                </a:cubicBezTo>
                <a:cubicBezTo>
                  <a:pt x="15395" y="5435"/>
                  <a:pt x="15442" y="5401"/>
                  <a:pt x="15453" y="5358"/>
                </a:cubicBezTo>
                <a:cubicBezTo>
                  <a:pt x="15470" y="5293"/>
                  <a:pt x="15464" y="5314"/>
                  <a:pt x="15503" y="5259"/>
                </a:cubicBezTo>
                <a:cubicBezTo>
                  <a:pt x="15513" y="5245"/>
                  <a:pt x="15546" y="5215"/>
                  <a:pt x="15577" y="5209"/>
                </a:cubicBezTo>
                <a:cubicBezTo>
                  <a:pt x="15654" y="5195"/>
                  <a:pt x="15748" y="5187"/>
                  <a:pt x="15825" y="5184"/>
                </a:cubicBezTo>
                <a:cubicBezTo>
                  <a:pt x="16043" y="5176"/>
                  <a:pt x="16256" y="5191"/>
                  <a:pt x="16470" y="5209"/>
                </a:cubicBezTo>
                <a:cubicBezTo>
                  <a:pt x="16643" y="5223"/>
                  <a:pt x="17115" y="5209"/>
                  <a:pt x="16942" y="5209"/>
                </a:cubicBezTo>
                <a:cubicBezTo>
                  <a:pt x="16909" y="5209"/>
                  <a:pt x="16875" y="5209"/>
                  <a:pt x="16842" y="5209"/>
                </a:cubicBezTo>
              </a:path>
              <a:path w="9054" h="1489">
                <a:moveTo>
                  <a:pt x="15726" y="5705"/>
                </a:moveTo>
                <a:cubicBezTo>
                  <a:pt x="15761" y="5645"/>
                  <a:pt x="15777" y="5638"/>
                  <a:pt x="15825" y="5606"/>
                </a:cubicBezTo>
                <a:cubicBezTo>
                  <a:pt x="15879" y="5570"/>
                  <a:pt x="15939" y="5569"/>
                  <a:pt x="15999" y="5606"/>
                </a:cubicBezTo>
                <a:cubicBezTo>
                  <a:pt x="16047" y="5635"/>
                  <a:pt x="16090" y="5754"/>
                  <a:pt x="16098" y="5804"/>
                </a:cubicBezTo>
                <a:cubicBezTo>
                  <a:pt x="16115" y="5906"/>
                  <a:pt x="16087" y="6009"/>
                  <a:pt x="16049" y="6102"/>
                </a:cubicBezTo>
                <a:cubicBezTo>
                  <a:pt x="16022" y="6169"/>
                  <a:pt x="15952" y="6207"/>
                  <a:pt x="15900" y="6251"/>
                </a:cubicBezTo>
                <a:cubicBezTo>
                  <a:pt x="15848" y="6294"/>
                  <a:pt x="15818" y="6300"/>
                  <a:pt x="15751" y="6300"/>
                </a:cubicBezTo>
                <a:cubicBezTo>
                  <a:pt x="15709" y="6300"/>
                  <a:pt x="15680" y="6266"/>
                  <a:pt x="15677" y="6226"/>
                </a:cubicBezTo>
                <a:cubicBezTo>
                  <a:pt x="15674" y="6176"/>
                  <a:pt x="15673" y="6105"/>
                  <a:pt x="15726" y="6077"/>
                </a:cubicBezTo>
                <a:cubicBezTo>
                  <a:pt x="15803" y="6036"/>
                  <a:pt x="15840" y="6048"/>
                  <a:pt x="15900" y="6102"/>
                </a:cubicBezTo>
                <a:cubicBezTo>
                  <a:pt x="15944" y="6141"/>
                  <a:pt x="15965" y="6181"/>
                  <a:pt x="15999" y="6226"/>
                </a:cubicBezTo>
                <a:cubicBezTo>
                  <a:pt x="16008" y="6238"/>
                  <a:pt x="16045" y="6312"/>
                  <a:pt x="16073" y="6276"/>
                </a:cubicBezTo>
                <a:cubicBezTo>
                  <a:pt x="16089" y="6255"/>
                  <a:pt x="16089" y="6253"/>
                  <a:pt x="16098" y="6226"/>
                </a:cubicBezTo>
              </a:path>
              <a:path w="9054" h="1489">
                <a:moveTo>
                  <a:pt x="16321" y="5655"/>
                </a:moveTo>
                <a:cubicBezTo>
                  <a:pt x="16383" y="5633"/>
                  <a:pt x="16436" y="5648"/>
                  <a:pt x="16495" y="5631"/>
                </a:cubicBezTo>
                <a:cubicBezTo>
                  <a:pt x="16543" y="5617"/>
                  <a:pt x="16625" y="5624"/>
                  <a:pt x="16669" y="5606"/>
                </a:cubicBezTo>
                <a:cubicBezTo>
                  <a:pt x="16702" y="5592"/>
                  <a:pt x="16710" y="5580"/>
                  <a:pt x="16718" y="5556"/>
                </a:cubicBezTo>
              </a:path>
              <a:path w="9054" h="1489">
                <a:moveTo>
                  <a:pt x="16346" y="5705"/>
                </a:moveTo>
                <a:cubicBezTo>
                  <a:pt x="16285" y="5838"/>
                  <a:pt x="16294" y="5792"/>
                  <a:pt x="16321" y="5904"/>
                </a:cubicBezTo>
                <a:cubicBezTo>
                  <a:pt x="16328" y="5933"/>
                  <a:pt x="16358" y="5949"/>
                  <a:pt x="16396" y="5953"/>
                </a:cubicBezTo>
                <a:cubicBezTo>
                  <a:pt x="16438" y="5958"/>
                  <a:pt x="16460" y="5915"/>
                  <a:pt x="16495" y="5904"/>
                </a:cubicBezTo>
                <a:cubicBezTo>
                  <a:pt x="16544" y="5888"/>
                  <a:pt x="16577" y="5877"/>
                  <a:pt x="16619" y="5904"/>
                </a:cubicBezTo>
                <a:cubicBezTo>
                  <a:pt x="16678" y="5942"/>
                  <a:pt x="16710" y="5966"/>
                  <a:pt x="16743" y="6028"/>
                </a:cubicBezTo>
                <a:cubicBezTo>
                  <a:pt x="16762" y="6063"/>
                  <a:pt x="16806" y="6163"/>
                  <a:pt x="16793" y="6201"/>
                </a:cubicBezTo>
                <a:cubicBezTo>
                  <a:pt x="16780" y="6239"/>
                  <a:pt x="16681" y="6316"/>
                  <a:pt x="16644" y="6325"/>
                </a:cubicBezTo>
                <a:cubicBezTo>
                  <a:pt x="16583" y="6339"/>
                  <a:pt x="16387" y="6349"/>
                  <a:pt x="16371" y="6300"/>
                </a:cubicBezTo>
              </a:path>
              <a:path w="9054" h="1489">
                <a:moveTo>
                  <a:pt x="17388" y="5829"/>
                </a:moveTo>
                <a:cubicBezTo>
                  <a:pt x="17475" y="5829"/>
                  <a:pt x="17617" y="5803"/>
                  <a:pt x="17686" y="5854"/>
                </a:cubicBezTo>
              </a:path>
              <a:path w="9054" h="1489">
                <a:moveTo>
                  <a:pt x="17338" y="6077"/>
                </a:moveTo>
                <a:cubicBezTo>
                  <a:pt x="17430" y="6077"/>
                  <a:pt x="17509" y="6068"/>
                  <a:pt x="17587" y="6052"/>
                </a:cubicBezTo>
                <a:cubicBezTo>
                  <a:pt x="17643" y="6041"/>
                  <a:pt x="17663" y="6056"/>
                  <a:pt x="17711" y="6028"/>
                </a:cubicBezTo>
              </a:path>
              <a:path w="9054" h="1489">
                <a:moveTo>
                  <a:pt x="18157" y="5482"/>
                </a:moveTo>
                <a:cubicBezTo>
                  <a:pt x="18241" y="5451"/>
                  <a:pt x="18292" y="5432"/>
                  <a:pt x="18380" y="5432"/>
                </a:cubicBezTo>
                <a:cubicBezTo>
                  <a:pt x="18446" y="5432"/>
                  <a:pt x="18494" y="5411"/>
                  <a:pt x="18554" y="5407"/>
                </a:cubicBezTo>
                <a:cubicBezTo>
                  <a:pt x="18610" y="5403"/>
                  <a:pt x="18614" y="5424"/>
                  <a:pt x="18628" y="5383"/>
                </a:cubicBezTo>
              </a:path>
              <a:path w="9054" h="1489">
                <a:moveTo>
                  <a:pt x="18107" y="5457"/>
                </a:moveTo>
                <a:cubicBezTo>
                  <a:pt x="18090" y="5556"/>
                  <a:pt x="18064" y="5623"/>
                  <a:pt x="18107" y="5705"/>
                </a:cubicBezTo>
                <a:cubicBezTo>
                  <a:pt x="18120" y="5730"/>
                  <a:pt x="18156" y="5791"/>
                  <a:pt x="18182" y="5804"/>
                </a:cubicBezTo>
                <a:cubicBezTo>
                  <a:pt x="18224" y="5825"/>
                  <a:pt x="18244" y="5794"/>
                  <a:pt x="18256" y="5779"/>
                </a:cubicBezTo>
                <a:cubicBezTo>
                  <a:pt x="18269" y="5762"/>
                  <a:pt x="18316" y="5685"/>
                  <a:pt x="18331" y="5680"/>
                </a:cubicBezTo>
                <a:cubicBezTo>
                  <a:pt x="18371" y="5668"/>
                  <a:pt x="18455" y="5673"/>
                  <a:pt x="18479" y="5705"/>
                </a:cubicBezTo>
                <a:cubicBezTo>
                  <a:pt x="18545" y="5792"/>
                  <a:pt x="18597" y="5924"/>
                  <a:pt x="18604" y="6028"/>
                </a:cubicBezTo>
                <a:cubicBezTo>
                  <a:pt x="18608" y="6093"/>
                  <a:pt x="18599" y="6108"/>
                  <a:pt x="18554" y="6152"/>
                </a:cubicBezTo>
                <a:cubicBezTo>
                  <a:pt x="18507" y="6198"/>
                  <a:pt x="18416" y="6207"/>
                  <a:pt x="18355" y="6226"/>
                </a:cubicBezTo>
                <a:cubicBezTo>
                  <a:pt x="18277" y="6250"/>
                  <a:pt x="18186" y="6284"/>
                  <a:pt x="18107" y="6300"/>
                </a:cubicBezTo>
                <a:cubicBezTo>
                  <a:pt x="18048" y="6300"/>
                  <a:pt x="18022" y="6303"/>
                  <a:pt x="17983" y="63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3116160"/>
            <a:ext cx="1598760" cy="849240"/>
          </a:xfrm>
          <a:custGeom>
            <a:avLst/>
            <a:gdLst/>
            <a:ahLst/>
            <a:rect l="l" t="t" r="r" b="b"/>
            <a:pathLst>
              <a:path w="4441" h="2357">
                <a:moveTo>
                  <a:pt x="3746" y="8781"/>
                </a:moveTo>
                <a:cubicBezTo>
                  <a:pt x="3732" y="8849"/>
                  <a:pt x="3698" y="8945"/>
                  <a:pt x="3671" y="9004"/>
                </a:cubicBezTo>
                <a:cubicBezTo>
                  <a:pt x="3658" y="9032"/>
                  <a:pt x="3634" y="9134"/>
                  <a:pt x="3621" y="9153"/>
                </a:cubicBezTo>
                <a:cubicBezTo>
                  <a:pt x="3598" y="9187"/>
                  <a:pt x="3543" y="9198"/>
                  <a:pt x="3572" y="9227"/>
                </a:cubicBezTo>
                <a:cubicBezTo>
                  <a:pt x="3591" y="9246"/>
                  <a:pt x="3788" y="9244"/>
                  <a:pt x="3820" y="9252"/>
                </a:cubicBezTo>
                <a:cubicBezTo>
                  <a:pt x="3870" y="9264"/>
                  <a:pt x="3907" y="9238"/>
                  <a:pt x="3944" y="9227"/>
                </a:cubicBezTo>
                <a:cubicBezTo>
                  <a:pt x="3969" y="9227"/>
                  <a:pt x="3977" y="9227"/>
                  <a:pt x="3994" y="9227"/>
                </a:cubicBezTo>
              </a:path>
              <a:path w="4441" h="2357">
                <a:moveTo>
                  <a:pt x="4043" y="8657"/>
                </a:moveTo>
                <a:cubicBezTo>
                  <a:pt x="4036" y="8720"/>
                  <a:pt x="4032" y="8793"/>
                  <a:pt x="4018" y="8855"/>
                </a:cubicBezTo>
                <a:cubicBezTo>
                  <a:pt x="3995" y="8961"/>
                  <a:pt x="4008" y="9076"/>
                  <a:pt x="3969" y="9178"/>
                </a:cubicBezTo>
                <a:cubicBezTo>
                  <a:pt x="3940" y="9254"/>
                  <a:pt x="3967" y="9328"/>
                  <a:pt x="3944" y="9401"/>
                </a:cubicBezTo>
                <a:cubicBezTo>
                  <a:pt x="3925" y="9461"/>
                  <a:pt x="3919" y="9484"/>
                  <a:pt x="3919" y="9550"/>
                </a:cubicBezTo>
                <a:cubicBezTo>
                  <a:pt x="3919" y="9606"/>
                  <a:pt x="3934" y="9611"/>
                  <a:pt x="3894" y="9624"/>
                </a:cubicBezTo>
              </a:path>
              <a:path w="4441" h="2357">
                <a:moveTo>
                  <a:pt x="3299" y="9699"/>
                </a:moveTo>
                <a:cubicBezTo>
                  <a:pt x="3389" y="9699"/>
                  <a:pt x="3417" y="9739"/>
                  <a:pt x="3497" y="9748"/>
                </a:cubicBezTo>
                <a:cubicBezTo>
                  <a:pt x="3618" y="9761"/>
                  <a:pt x="4150" y="9799"/>
                  <a:pt x="4167" y="9699"/>
                </a:cubicBezTo>
                <a:cubicBezTo>
                  <a:pt x="4132" y="9699"/>
                  <a:pt x="4119" y="9708"/>
                  <a:pt x="4118" y="9748"/>
                </a:cubicBezTo>
              </a:path>
              <a:path w="4441" h="2357">
                <a:moveTo>
                  <a:pt x="3522" y="10046"/>
                </a:moveTo>
                <a:cubicBezTo>
                  <a:pt x="3618" y="10060"/>
                  <a:pt x="3637" y="10046"/>
                  <a:pt x="3721" y="10046"/>
                </a:cubicBezTo>
                <a:cubicBezTo>
                  <a:pt x="3746" y="10046"/>
                  <a:pt x="3874" y="10039"/>
                  <a:pt x="3820" y="9971"/>
                </a:cubicBezTo>
                <a:cubicBezTo>
                  <a:pt x="3812" y="9971"/>
                  <a:pt x="3803" y="9971"/>
                  <a:pt x="3795" y="9971"/>
                </a:cubicBezTo>
              </a:path>
              <a:path w="4441" h="2357">
                <a:moveTo>
                  <a:pt x="3621" y="9996"/>
                </a:moveTo>
                <a:cubicBezTo>
                  <a:pt x="3549" y="10076"/>
                  <a:pt x="3548" y="10116"/>
                  <a:pt x="3497" y="10195"/>
                </a:cubicBezTo>
                <a:cubicBezTo>
                  <a:pt x="3466" y="10243"/>
                  <a:pt x="3473" y="10284"/>
                  <a:pt x="3473" y="10344"/>
                </a:cubicBezTo>
                <a:cubicBezTo>
                  <a:pt x="3504" y="10322"/>
                  <a:pt x="3493" y="10287"/>
                  <a:pt x="3547" y="10269"/>
                </a:cubicBezTo>
                <a:cubicBezTo>
                  <a:pt x="3589" y="10255"/>
                  <a:pt x="3716" y="10261"/>
                  <a:pt x="3746" y="10294"/>
                </a:cubicBezTo>
                <a:cubicBezTo>
                  <a:pt x="3780" y="10332"/>
                  <a:pt x="3823" y="10364"/>
                  <a:pt x="3845" y="10418"/>
                </a:cubicBezTo>
                <a:cubicBezTo>
                  <a:pt x="3869" y="10475"/>
                  <a:pt x="3889" y="10577"/>
                  <a:pt x="3870" y="10641"/>
                </a:cubicBezTo>
                <a:cubicBezTo>
                  <a:pt x="3846" y="10723"/>
                  <a:pt x="3782" y="10722"/>
                  <a:pt x="3721" y="10765"/>
                </a:cubicBezTo>
                <a:cubicBezTo>
                  <a:pt x="3673" y="10798"/>
                  <a:pt x="3632" y="10790"/>
                  <a:pt x="3572" y="10790"/>
                </a:cubicBezTo>
                <a:cubicBezTo>
                  <a:pt x="3518" y="10790"/>
                  <a:pt x="3479" y="10773"/>
                  <a:pt x="3473" y="10716"/>
                </a:cubicBezTo>
                <a:cubicBezTo>
                  <a:pt x="3473" y="10681"/>
                  <a:pt x="3477" y="10663"/>
                  <a:pt x="3497" y="10641"/>
                </a:cubicBezTo>
              </a:path>
              <a:path w="4441" h="2357">
                <a:moveTo>
                  <a:pt x="4638" y="9773"/>
                </a:moveTo>
                <a:cubicBezTo>
                  <a:pt x="4627" y="9843"/>
                  <a:pt x="4614" y="9814"/>
                  <a:pt x="4614" y="9897"/>
                </a:cubicBezTo>
                <a:cubicBezTo>
                  <a:pt x="4614" y="9971"/>
                  <a:pt x="4614" y="10046"/>
                  <a:pt x="4614" y="10120"/>
                </a:cubicBezTo>
                <a:cubicBezTo>
                  <a:pt x="4659" y="10120"/>
                  <a:pt x="4673" y="10141"/>
                  <a:pt x="4713" y="10145"/>
                </a:cubicBezTo>
                <a:cubicBezTo>
                  <a:pt x="4759" y="10150"/>
                  <a:pt x="4771" y="10125"/>
                  <a:pt x="4812" y="10120"/>
                </a:cubicBezTo>
                <a:cubicBezTo>
                  <a:pt x="4848" y="10116"/>
                  <a:pt x="4841" y="10081"/>
                  <a:pt x="4862" y="10046"/>
                </a:cubicBezTo>
              </a:path>
              <a:path w="4441" h="2357">
                <a:moveTo>
                  <a:pt x="4638" y="9451"/>
                </a:moveTo>
                <a:lnTo>
                  <a:pt x="4638" y="9451"/>
                </a:lnTo>
                <a:lnTo>
                  <a:pt x="4638" y="9451"/>
                </a:lnTo>
              </a:path>
              <a:path w="4441" h="2357">
                <a:moveTo>
                  <a:pt x="5358" y="9897"/>
                </a:moveTo>
                <a:cubicBezTo>
                  <a:pt x="5521" y="9897"/>
                  <a:pt x="5781" y="9953"/>
                  <a:pt x="5904" y="9847"/>
                </a:cubicBezTo>
              </a:path>
              <a:path w="4441" h="2357">
                <a:moveTo>
                  <a:pt x="6350" y="9079"/>
                </a:moveTo>
                <a:cubicBezTo>
                  <a:pt x="6439" y="9079"/>
                  <a:pt x="6769" y="9029"/>
                  <a:pt x="6821" y="9103"/>
                </a:cubicBezTo>
                <a:cubicBezTo>
                  <a:pt x="6877" y="9184"/>
                  <a:pt x="6818" y="9209"/>
                  <a:pt x="6772" y="9252"/>
                </a:cubicBezTo>
                <a:cubicBezTo>
                  <a:pt x="6719" y="9302"/>
                  <a:pt x="6641" y="9291"/>
                  <a:pt x="6598" y="9327"/>
                </a:cubicBezTo>
                <a:cubicBezTo>
                  <a:pt x="6565" y="9354"/>
                  <a:pt x="6508" y="9374"/>
                  <a:pt x="6499" y="9401"/>
                </a:cubicBezTo>
                <a:cubicBezTo>
                  <a:pt x="6619" y="9401"/>
                  <a:pt x="6688" y="9417"/>
                  <a:pt x="6772" y="9451"/>
                </a:cubicBezTo>
                <a:cubicBezTo>
                  <a:pt x="6835" y="9476"/>
                  <a:pt x="6868" y="9471"/>
                  <a:pt x="6921" y="9525"/>
                </a:cubicBezTo>
                <a:cubicBezTo>
                  <a:pt x="6960" y="9565"/>
                  <a:pt x="6957" y="9673"/>
                  <a:pt x="6896" y="9699"/>
                </a:cubicBezTo>
                <a:cubicBezTo>
                  <a:pt x="6839" y="9724"/>
                  <a:pt x="6791" y="9748"/>
                  <a:pt x="6722" y="9748"/>
                </a:cubicBezTo>
                <a:cubicBezTo>
                  <a:pt x="6575" y="9748"/>
                  <a:pt x="6585" y="9759"/>
                  <a:pt x="6524" y="9699"/>
                </a:cubicBezTo>
                <a:cubicBezTo>
                  <a:pt x="6489" y="9699"/>
                  <a:pt x="6485" y="9708"/>
                  <a:pt x="6524" y="9748"/>
                </a:cubicBezTo>
              </a:path>
              <a:path w="4441" h="2357">
                <a:moveTo>
                  <a:pt x="6325" y="9847"/>
                </a:moveTo>
                <a:cubicBezTo>
                  <a:pt x="6396" y="9875"/>
                  <a:pt x="6414" y="9897"/>
                  <a:pt x="6499" y="9897"/>
                </a:cubicBezTo>
                <a:cubicBezTo>
                  <a:pt x="6697" y="9897"/>
                  <a:pt x="7243" y="9897"/>
                  <a:pt x="7045" y="9897"/>
                </a:cubicBezTo>
              </a:path>
              <a:path w="4441" h="2357">
                <a:moveTo>
                  <a:pt x="6499" y="10145"/>
                </a:moveTo>
                <a:cubicBezTo>
                  <a:pt x="6574" y="10202"/>
                  <a:pt x="6601" y="10195"/>
                  <a:pt x="6697" y="10195"/>
                </a:cubicBezTo>
                <a:cubicBezTo>
                  <a:pt x="6779" y="10195"/>
                  <a:pt x="6801" y="10212"/>
                  <a:pt x="6846" y="10145"/>
                </a:cubicBezTo>
              </a:path>
              <a:path w="4441" h="2357">
                <a:moveTo>
                  <a:pt x="6573" y="10120"/>
                </a:moveTo>
                <a:cubicBezTo>
                  <a:pt x="6491" y="10195"/>
                  <a:pt x="6499" y="10211"/>
                  <a:pt x="6449" y="10269"/>
                </a:cubicBezTo>
                <a:cubicBezTo>
                  <a:pt x="6421" y="10301"/>
                  <a:pt x="6424" y="10356"/>
                  <a:pt x="6424" y="10418"/>
                </a:cubicBezTo>
                <a:cubicBezTo>
                  <a:pt x="6531" y="10418"/>
                  <a:pt x="6617" y="10438"/>
                  <a:pt x="6697" y="10368"/>
                </a:cubicBezTo>
                <a:cubicBezTo>
                  <a:pt x="6754" y="10391"/>
                  <a:pt x="6813" y="10396"/>
                  <a:pt x="6871" y="10418"/>
                </a:cubicBezTo>
                <a:cubicBezTo>
                  <a:pt x="6902" y="10430"/>
                  <a:pt x="6960" y="10535"/>
                  <a:pt x="6970" y="10567"/>
                </a:cubicBezTo>
                <a:cubicBezTo>
                  <a:pt x="6992" y="10632"/>
                  <a:pt x="6992" y="10697"/>
                  <a:pt x="6970" y="10765"/>
                </a:cubicBezTo>
                <a:cubicBezTo>
                  <a:pt x="6950" y="10828"/>
                  <a:pt x="6891" y="10869"/>
                  <a:pt x="6846" y="10914"/>
                </a:cubicBezTo>
                <a:cubicBezTo>
                  <a:pt x="6780" y="10980"/>
                  <a:pt x="6730" y="10961"/>
                  <a:pt x="6648" y="10988"/>
                </a:cubicBezTo>
                <a:cubicBezTo>
                  <a:pt x="6596" y="11005"/>
                  <a:pt x="6532" y="11007"/>
                  <a:pt x="6474" y="10988"/>
                </a:cubicBezTo>
                <a:cubicBezTo>
                  <a:pt x="6426" y="10973"/>
                  <a:pt x="6355" y="10924"/>
                  <a:pt x="6375" y="10864"/>
                </a:cubicBezTo>
                <a:cubicBezTo>
                  <a:pt x="6400" y="10840"/>
                  <a:pt x="6408" y="10832"/>
                  <a:pt x="6424" y="10815"/>
                </a:cubicBezTo>
              </a:path>
              <a:path w="4441" h="2357">
                <a:moveTo>
                  <a:pt x="7640" y="9971"/>
                </a:moveTo>
                <a:cubicBezTo>
                  <a:pt x="7657" y="10028"/>
                  <a:pt x="7648" y="10093"/>
                  <a:pt x="7665" y="10145"/>
                </a:cubicBezTo>
                <a:cubicBezTo>
                  <a:pt x="7697" y="10246"/>
                  <a:pt x="7669" y="10313"/>
                  <a:pt x="7665" y="10418"/>
                </a:cubicBezTo>
                <a:cubicBezTo>
                  <a:pt x="7662" y="10502"/>
                  <a:pt x="7625" y="10565"/>
                  <a:pt x="7615" y="10641"/>
                </a:cubicBezTo>
                <a:cubicBezTo>
                  <a:pt x="7599" y="10761"/>
                  <a:pt x="7606" y="10736"/>
                  <a:pt x="7516" y="10790"/>
                </a:cubicBezTo>
                <a:cubicBezTo>
                  <a:pt x="7445" y="10833"/>
                  <a:pt x="7418" y="10803"/>
                  <a:pt x="7342" y="10790"/>
                </a:cubicBezTo>
                <a:cubicBezTo>
                  <a:pt x="7257" y="10776"/>
                  <a:pt x="7223" y="10739"/>
                  <a:pt x="7193" y="10641"/>
                </a:cubicBezTo>
                <a:cubicBezTo>
                  <a:pt x="7172" y="10572"/>
                  <a:pt x="7221" y="10503"/>
                  <a:pt x="7243" y="10443"/>
                </a:cubicBezTo>
                <a:cubicBezTo>
                  <a:pt x="7251" y="10418"/>
                  <a:pt x="7260" y="10393"/>
                  <a:pt x="7268" y="10368"/>
                </a:cubicBezTo>
              </a:path>
              <a:path w="4441" h="2357">
                <a:moveTo>
                  <a:pt x="7714" y="9500"/>
                </a:moveTo>
                <a:cubicBezTo>
                  <a:pt x="7688" y="9509"/>
                  <a:pt x="7667" y="9519"/>
                  <a:pt x="7665" y="9550"/>
                </a:cubicBezTo>
                <a:cubicBezTo>
                  <a:pt x="7665" y="9566"/>
                  <a:pt x="7665" y="9583"/>
                  <a:pt x="7665" y="9599"/>
                </a:cubicBezTo>
                <a:cubicBezTo>
                  <a:pt x="7691" y="9599"/>
                  <a:pt x="7785" y="9617"/>
                  <a:pt x="7739" y="9550"/>
                </a:cubicBezTo>
                <a:cubicBezTo>
                  <a:pt x="7714" y="9550"/>
                  <a:pt x="7706" y="9550"/>
                  <a:pt x="7689" y="95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4760" y="2357280"/>
            <a:ext cx="349200" cy="374760"/>
          </a:xfrm>
          <a:custGeom>
            <a:avLst/>
            <a:gdLst/>
            <a:ahLst/>
            <a:rect l="l" t="t" r="r" b="b"/>
            <a:pathLst>
              <a:path w="969" h="1043">
                <a:moveTo>
                  <a:pt x="4291" y="6747"/>
                </a:moveTo>
                <a:cubicBezTo>
                  <a:pt x="4351" y="6747"/>
                  <a:pt x="4379" y="6731"/>
                  <a:pt x="4440" y="6722"/>
                </a:cubicBezTo>
                <a:cubicBezTo>
                  <a:pt x="4538" y="6707"/>
                  <a:pt x="4640" y="6689"/>
                  <a:pt x="4738" y="6672"/>
                </a:cubicBezTo>
                <a:cubicBezTo>
                  <a:pt x="4856" y="6651"/>
                  <a:pt x="4968" y="6613"/>
                  <a:pt x="5085" y="6598"/>
                </a:cubicBezTo>
                <a:cubicBezTo>
                  <a:pt x="5149" y="6590"/>
                  <a:pt x="5207" y="6579"/>
                  <a:pt x="5259" y="6548"/>
                </a:cubicBezTo>
                <a:cubicBezTo>
                  <a:pt x="5209" y="6548"/>
                  <a:pt x="5160" y="6548"/>
                  <a:pt x="5110" y="6548"/>
                </a:cubicBezTo>
              </a:path>
              <a:path w="969" h="1043">
                <a:moveTo>
                  <a:pt x="4490" y="6970"/>
                </a:moveTo>
                <a:cubicBezTo>
                  <a:pt x="4568" y="6953"/>
                  <a:pt x="4639" y="6939"/>
                  <a:pt x="4713" y="6921"/>
                </a:cubicBezTo>
                <a:cubicBezTo>
                  <a:pt x="4753" y="6911"/>
                  <a:pt x="4775" y="6883"/>
                  <a:pt x="4812" y="6871"/>
                </a:cubicBezTo>
                <a:cubicBezTo>
                  <a:pt x="4820" y="6871"/>
                  <a:pt x="4829" y="6871"/>
                  <a:pt x="4837" y="6871"/>
                </a:cubicBezTo>
              </a:path>
              <a:path w="969" h="1043">
                <a:moveTo>
                  <a:pt x="4589" y="6921"/>
                </a:moveTo>
                <a:cubicBezTo>
                  <a:pt x="4544" y="7017"/>
                  <a:pt x="4521" y="7085"/>
                  <a:pt x="4514" y="7193"/>
                </a:cubicBezTo>
                <a:cubicBezTo>
                  <a:pt x="4510" y="7246"/>
                  <a:pt x="4549" y="7243"/>
                  <a:pt x="4589" y="7243"/>
                </a:cubicBezTo>
                <a:cubicBezTo>
                  <a:pt x="4635" y="7243"/>
                  <a:pt x="4647" y="7213"/>
                  <a:pt x="4663" y="7193"/>
                </a:cubicBezTo>
                <a:cubicBezTo>
                  <a:pt x="4701" y="7144"/>
                  <a:pt x="4728" y="7144"/>
                  <a:pt x="4787" y="7144"/>
                </a:cubicBezTo>
                <a:cubicBezTo>
                  <a:pt x="4831" y="7144"/>
                  <a:pt x="4880" y="7166"/>
                  <a:pt x="4911" y="7193"/>
                </a:cubicBezTo>
                <a:cubicBezTo>
                  <a:pt x="4946" y="7224"/>
                  <a:pt x="4996" y="7296"/>
                  <a:pt x="5011" y="7342"/>
                </a:cubicBezTo>
                <a:cubicBezTo>
                  <a:pt x="5032" y="7406"/>
                  <a:pt x="4958" y="7484"/>
                  <a:pt x="4911" y="7516"/>
                </a:cubicBezTo>
                <a:cubicBezTo>
                  <a:pt x="4859" y="7551"/>
                  <a:pt x="4799" y="7580"/>
                  <a:pt x="4738" y="7590"/>
                </a:cubicBezTo>
                <a:cubicBezTo>
                  <a:pt x="4718" y="7593"/>
                  <a:pt x="4568" y="7606"/>
                  <a:pt x="4589" y="7565"/>
                </a:cubicBezTo>
                <a:cubicBezTo>
                  <a:pt x="4614" y="7541"/>
                  <a:pt x="4622" y="7533"/>
                  <a:pt x="4638" y="75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32000" y="2286000"/>
            <a:ext cx="223920" cy="366840"/>
          </a:xfrm>
          <a:custGeom>
            <a:avLst/>
            <a:gdLst/>
            <a:ahLst/>
            <a:rect l="l" t="t" r="r" b="b"/>
            <a:pathLst>
              <a:path w="621" h="1018">
                <a:moveTo>
                  <a:pt x="6201" y="6573"/>
                </a:moveTo>
                <a:cubicBezTo>
                  <a:pt x="6251" y="6524"/>
                  <a:pt x="6285" y="6525"/>
                  <a:pt x="6350" y="6499"/>
                </a:cubicBezTo>
                <a:cubicBezTo>
                  <a:pt x="6441" y="6463"/>
                  <a:pt x="6552" y="6412"/>
                  <a:pt x="6648" y="6400"/>
                </a:cubicBezTo>
                <a:cubicBezTo>
                  <a:pt x="6666" y="6398"/>
                  <a:pt x="6806" y="6394"/>
                  <a:pt x="6821" y="6375"/>
                </a:cubicBezTo>
                <a:cubicBezTo>
                  <a:pt x="6821" y="6350"/>
                  <a:pt x="6821" y="6342"/>
                  <a:pt x="6796" y="6350"/>
                </a:cubicBezTo>
              </a:path>
              <a:path w="621" h="1018">
                <a:moveTo>
                  <a:pt x="6300" y="6722"/>
                </a:moveTo>
                <a:cubicBezTo>
                  <a:pt x="6368" y="6722"/>
                  <a:pt x="6437" y="6718"/>
                  <a:pt x="6499" y="6697"/>
                </a:cubicBezTo>
                <a:cubicBezTo>
                  <a:pt x="6536" y="6684"/>
                  <a:pt x="6604" y="6664"/>
                  <a:pt x="6623" y="6623"/>
                </a:cubicBezTo>
                <a:cubicBezTo>
                  <a:pt x="6623" y="6598"/>
                  <a:pt x="6623" y="6590"/>
                  <a:pt x="6648" y="6598"/>
                </a:cubicBezTo>
              </a:path>
              <a:path w="621" h="1018">
                <a:moveTo>
                  <a:pt x="6350" y="6697"/>
                </a:moveTo>
                <a:cubicBezTo>
                  <a:pt x="6305" y="6769"/>
                  <a:pt x="6191" y="6861"/>
                  <a:pt x="6251" y="6921"/>
                </a:cubicBezTo>
                <a:cubicBezTo>
                  <a:pt x="6269" y="6939"/>
                  <a:pt x="6287" y="6945"/>
                  <a:pt x="6325" y="6945"/>
                </a:cubicBezTo>
                <a:cubicBezTo>
                  <a:pt x="6361" y="6945"/>
                  <a:pt x="6398" y="6939"/>
                  <a:pt x="6424" y="6921"/>
                </a:cubicBezTo>
                <a:cubicBezTo>
                  <a:pt x="6492" y="6875"/>
                  <a:pt x="6484" y="6874"/>
                  <a:pt x="6548" y="6896"/>
                </a:cubicBezTo>
                <a:cubicBezTo>
                  <a:pt x="6644" y="6928"/>
                  <a:pt x="6656" y="6983"/>
                  <a:pt x="6672" y="7069"/>
                </a:cubicBezTo>
                <a:cubicBezTo>
                  <a:pt x="6693" y="7183"/>
                  <a:pt x="6724" y="7217"/>
                  <a:pt x="6648" y="7293"/>
                </a:cubicBezTo>
                <a:cubicBezTo>
                  <a:pt x="6614" y="7327"/>
                  <a:pt x="6546" y="7359"/>
                  <a:pt x="6499" y="7367"/>
                </a:cubicBezTo>
                <a:cubicBezTo>
                  <a:pt x="6425" y="7380"/>
                  <a:pt x="6359" y="7362"/>
                  <a:pt x="6300" y="7342"/>
                </a:cubicBezTo>
                <a:cubicBezTo>
                  <a:pt x="6231" y="7319"/>
                  <a:pt x="6332" y="7317"/>
                  <a:pt x="6276" y="73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35.  w = 2j, find a unit vector in the direction of the given vector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04920" y="1687680"/>
            <a:ext cx="1689120" cy="571320"/>
          </a:xfrm>
          <a:custGeom>
            <a:avLst/>
            <a:gdLst/>
            <a:ahLst/>
            <a:rect l="l" t="t" r="r" b="b"/>
            <a:pathLst>
              <a:path w="4689" h="1589">
                <a:moveTo>
                  <a:pt x="4638" y="4688"/>
                </a:moveTo>
                <a:cubicBezTo>
                  <a:pt x="4602" y="4711"/>
                  <a:pt x="4577" y="4736"/>
                  <a:pt x="4539" y="4762"/>
                </a:cubicBezTo>
                <a:cubicBezTo>
                  <a:pt x="4458" y="4816"/>
                  <a:pt x="4369" y="4860"/>
                  <a:pt x="4291" y="4911"/>
                </a:cubicBezTo>
                <a:cubicBezTo>
                  <a:pt x="4166" y="4992"/>
                  <a:pt x="4054" y="5068"/>
                  <a:pt x="3919" y="5135"/>
                </a:cubicBezTo>
                <a:cubicBezTo>
                  <a:pt x="3796" y="5196"/>
                  <a:pt x="3689" y="5283"/>
                  <a:pt x="3572" y="5358"/>
                </a:cubicBezTo>
                <a:cubicBezTo>
                  <a:pt x="3503" y="5402"/>
                  <a:pt x="3389" y="5455"/>
                  <a:pt x="3349" y="5531"/>
                </a:cubicBezTo>
                <a:cubicBezTo>
                  <a:pt x="3330" y="5568"/>
                  <a:pt x="3370" y="5597"/>
                  <a:pt x="3398" y="5606"/>
                </a:cubicBezTo>
                <a:cubicBezTo>
                  <a:pt x="3432" y="5617"/>
                  <a:pt x="3468" y="5610"/>
                  <a:pt x="3497" y="5631"/>
                </a:cubicBezTo>
                <a:cubicBezTo>
                  <a:pt x="3549" y="5668"/>
                  <a:pt x="3582" y="5711"/>
                  <a:pt x="3621" y="5755"/>
                </a:cubicBezTo>
                <a:cubicBezTo>
                  <a:pt x="3689" y="5832"/>
                  <a:pt x="3786" y="5895"/>
                  <a:pt x="3870" y="5953"/>
                </a:cubicBezTo>
                <a:cubicBezTo>
                  <a:pt x="3956" y="6013"/>
                  <a:pt x="4033" y="6073"/>
                  <a:pt x="4118" y="6127"/>
                </a:cubicBezTo>
                <a:cubicBezTo>
                  <a:pt x="4181" y="6167"/>
                  <a:pt x="4204" y="6195"/>
                  <a:pt x="4266" y="6226"/>
                </a:cubicBezTo>
                <a:cubicBezTo>
                  <a:pt x="4308" y="6247"/>
                  <a:pt x="4248" y="6214"/>
                  <a:pt x="4266" y="6176"/>
                </a:cubicBezTo>
                <a:cubicBezTo>
                  <a:pt x="4296" y="6147"/>
                  <a:pt x="4308" y="6133"/>
                  <a:pt x="4316" y="6102"/>
                </a:cubicBezTo>
              </a:path>
              <a:path w="4689" h="1589">
                <a:moveTo>
                  <a:pt x="4961" y="5308"/>
                </a:moveTo>
                <a:cubicBezTo>
                  <a:pt x="4920" y="5402"/>
                  <a:pt x="4896" y="5484"/>
                  <a:pt x="4862" y="5581"/>
                </a:cubicBezTo>
                <a:cubicBezTo>
                  <a:pt x="4836" y="5657"/>
                  <a:pt x="4816" y="5773"/>
                  <a:pt x="4837" y="5854"/>
                </a:cubicBezTo>
                <a:cubicBezTo>
                  <a:pt x="4850" y="5903"/>
                  <a:pt x="4891" y="5974"/>
                  <a:pt x="4936" y="6003"/>
                </a:cubicBezTo>
                <a:cubicBezTo>
                  <a:pt x="5013" y="6053"/>
                  <a:pt x="5104" y="6028"/>
                  <a:pt x="5184" y="6003"/>
                </a:cubicBezTo>
                <a:cubicBezTo>
                  <a:pt x="5277" y="5974"/>
                  <a:pt x="5358" y="5893"/>
                  <a:pt x="5432" y="5829"/>
                </a:cubicBezTo>
                <a:cubicBezTo>
                  <a:pt x="5482" y="5786"/>
                  <a:pt x="5544" y="5674"/>
                  <a:pt x="5556" y="5606"/>
                </a:cubicBezTo>
                <a:cubicBezTo>
                  <a:pt x="5567" y="5545"/>
                  <a:pt x="5568" y="5435"/>
                  <a:pt x="5531" y="5383"/>
                </a:cubicBezTo>
                <a:cubicBezTo>
                  <a:pt x="5481" y="5314"/>
                  <a:pt x="5388" y="5254"/>
                  <a:pt x="5308" y="5234"/>
                </a:cubicBezTo>
                <a:cubicBezTo>
                  <a:pt x="5256" y="5221"/>
                  <a:pt x="5154" y="5239"/>
                  <a:pt x="5110" y="5259"/>
                </a:cubicBezTo>
                <a:cubicBezTo>
                  <a:pt x="5074" y="5275"/>
                  <a:pt x="5040" y="5291"/>
                  <a:pt x="5035" y="5333"/>
                </a:cubicBezTo>
                <a:cubicBezTo>
                  <a:pt x="5035" y="5358"/>
                  <a:pt x="5035" y="5366"/>
                  <a:pt x="5035" y="5383"/>
                </a:cubicBezTo>
              </a:path>
              <a:path w="4689" h="1589">
                <a:moveTo>
                  <a:pt x="5804" y="6003"/>
                </a:moveTo>
                <a:cubicBezTo>
                  <a:pt x="5780" y="6115"/>
                  <a:pt x="5756" y="6163"/>
                  <a:pt x="5730" y="6251"/>
                </a:cubicBezTo>
                <a:cubicBezTo>
                  <a:pt x="5719" y="6288"/>
                  <a:pt x="5717" y="6286"/>
                  <a:pt x="5705" y="6251"/>
                </a:cubicBezTo>
              </a:path>
              <a:path w="4689" h="1589">
                <a:moveTo>
                  <a:pt x="6226" y="5135"/>
                </a:moveTo>
                <a:cubicBezTo>
                  <a:pt x="6292" y="5068"/>
                  <a:pt x="6336" y="5020"/>
                  <a:pt x="6424" y="4986"/>
                </a:cubicBezTo>
                <a:cubicBezTo>
                  <a:pt x="6487" y="4961"/>
                  <a:pt x="6579" y="4946"/>
                  <a:pt x="6648" y="4961"/>
                </a:cubicBezTo>
                <a:cubicBezTo>
                  <a:pt x="6721" y="4977"/>
                  <a:pt x="6741" y="4986"/>
                  <a:pt x="6747" y="5060"/>
                </a:cubicBezTo>
                <a:cubicBezTo>
                  <a:pt x="6750" y="5097"/>
                  <a:pt x="6743" y="5209"/>
                  <a:pt x="6722" y="5234"/>
                </a:cubicBezTo>
                <a:cubicBezTo>
                  <a:pt x="6677" y="5287"/>
                  <a:pt x="6621" y="5348"/>
                  <a:pt x="6573" y="5407"/>
                </a:cubicBezTo>
                <a:cubicBezTo>
                  <a:pt x="6509" y="5485"/>
                  <a:pt x="6451" y="5542"/>
                  <a:pt x="6400" y="5631"/>
                </a:cubicBezTo>
                <a:cubicBezTo>
                  <a:pt x="6394" y="5641"/>
                  <a:pt x="6351" y="5736"/>
                  <a:pt x="6375" y="5755"/>
                </a:cubicBezTo>
                <a:cubicBezTo>
                  <a:pt x="6428" y="5797"/>
                  <a:pt x="6503" y="5801"/>
                  <a:pt x="6573" y="5804"/>
                </a:cubicBezTo>
                <a:cubicBezTo>
                  <a:pt x="6650" y="5807"/>
                  <a:pt x="6715" y="5829"/>
                  <a:pt x="6796" y="5829"/>
                </a:cubicBezTo>
                <a:cubicBezTo>
                  <a:pt x="6847" y="5829"/>
                  <a:pt x="6881" y="5837"/>
                  <a:pt x="6921" y="5804"/>
                </a:cubicBezTo>
                <a:cubicBezTo>
                  <a:pt x="6944" y="5785"/>
                  <a:pt x="6943" y="5790"/>
                  <a:pt x="6970" y="5755"/>
                </a:cubicBezTo>
              </a:path>
              <a:path w="4689" h="1589">
                <a:moveTo>
                  <a:pt x="7119" y="4688"/>
                </a:moveTo>
                <a:cubicBezTo>
                  <a:pt x="7183" y="4725"/>
                  <a:pt x="7232" y="4771"/>
                  <a:pt x="7293" y="4812"/>
                </a:cubicBezTo>
                <a:cubicBezTo>
                  <a:pt x="7375" y="4867"/>
                  <a:pt x="7459" y="4913"/>
                  <a:pt x="7541" y="4961"/>
                </a:cubicBezTo>
                <a:cubicBezTo>
                  <a:pt x="7623" y="5009"/>
                  <a:pt x="7701" y="5073"/>
                  <a:pt x="7789" y="5110"/>
                </a:cubicBezTo>
                <a:cubicBezTo>
                  <a:pt x="7848" y="5135"/>
                  <a:pt x="7934" y="5154"/>
                  <a:pt x="7987" y="5184"/>
                </a:cubicBezTo>
                <a:cubicBezTo>
                  <a:pt x="8012" y="5209"/>
                  <a:pt x="8020" y="5217"/>
                  <a:pt x="8037" y="5234"/>
                </a:cubicBezTo>
                <a:cubicBezTo>
                  <a:pt x="7976" y="5251"/>
                  <a:pt x="8009" y="5236"/>
                  <a:pt x="7962" y="5283"/>
                </a:cubicBezTo>
                <a:cubicBezTo>
                  <a:pt x="7778" y="5468"/>
                  <a:pt x="7580" y="5650"/>
                  <a:pt x="7417" y="5854"/>
                </a:cubicBezTo>
                <a:cubicBezTo>
                  <a:pt x="7415" y="5857"/>
                  <a:pt x="7277" y="6037"/>
                  <a:pt x="7268" y="6052"/>
                </a:cubicBezTo>
                <a:cubicBezTo>
                  <a:pt x="7268" y="6060"/>
                  <a:pt x="7268" y="6069"/>
                  <a:pt x="7268" y="60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87840" y="1652760"/>
            <a:ext cx="2349360" cy="571320"/>
          </a:xfrm>
          <a:custGeom>
            <a:avLst/>
            <a:gdLst/>
            <a:ahLst/>
            <a:rect l="l" t="t" r="r" b="b"/>
            <a:pathLst>
              <a:path w="6525" h="1588">
                <a:moveTo>
                  <a:pt x="10244" y="5283"/>
                </a:moveTo>
                <a:lnTo>
                  <a:pt x="10244" y="5283"/>
                </a:lnTo>
              </a:path>
              <a:path w="6525" h="1588">
                <a:moveTo>
                  <a:pt x="10244" y="5283"/>
                </a:moveTo>
                <a:cubicBezTo>
                  <a:pt x="10252" y="5275"/>
                  <a:pt x="10261" y="5267"/>
                  <a:pt x="10269" y="5259"/>
                </a:cubicBezTo>
              </a:path>
              <a:path w="6525" h="1588">
                <a:moveTo>
                  <a:pt x="10269" y="5259"/>
                </a:moveTo>
                <a:cubicBezTo>
                  <a:pt x="10320" y="5242"/>
                  <a:pt x="10367" y="5223"/>
                  <a:pt x="10418" y="5209"/>
                </a:cubicBezTo>
                <a:cubicBezTo>
                  <a:pt x="10469" y="5195"/>
                  <a:pt x="10534" y="5165"/>
                  <a:pt x="10592" y="5184"/>
                </a:cubicBezTo>
                <a:cubicBezTo>
                  <a:pt x="10640" y="5200"/>
                  <a:pt x="10671" y="5248"/>
                  <a:pt x="10691" y="5283"/>
                </a:cubicBezTo>
                <a:cubicBezTo>
                  <a:pt x="10742" y="5372"/>
                  <a:pt x="10732" y="5556"/>
                  <a:pt x="10740" y="5655"/>
                </a:cubicBezTo>
                <a:cubicBezTo>
                  <a:pt x="10748" y="5752"/>
                  <a:pt x="10751" y="5856"/>
                  <a:pt x="10765" y="5953"/>
                </a:cubicBezTo>
                <a:cubicBezTo>
                  <a:pt x="10775" y="6020"/>
                  <a:pt x="10785" y="6080"/>
                  <a:pt x="10790" y="6152"/>
                </a:cubicBezTo>
                <a:cubicBezTo>
                  <a:pt x="10793" y="6111"/>
                  <a:pt x="10783" y="6117"/>
                  <a:pt x="10790" y="6077"/>
                </a:cubicBezTo>
                <a:cubicBezTo>
                  <a:pt x="10803" y="5999"/>
                  <a:pt x="10835" y="5910"/>
                  <a:pt x="10840" y="5829"/>
                </a:cubicBezTo>
                <a:cubicBezTo>
                  <a:pt x="10847" y="5713"/>
                  <a:pt x="10841" y="5595"/>
                  <a:pt x="10864" y="5482"/>
                </a:cubicBezTo>
                <a:cubicBezTo>
                  <a:pt x="10888" y="5360"/>
                  <a:pt x="10908" y="5236"/>
                  <a:pt x="10914" y="5110"/>
                </a:cubicBezTo>
                <a:cubicBezTo>
                  <a:pt x="10917" y="5050"/>
                  <a:pt x="10908" y="4925"/>
                  <a:pt x="10939" y="4862"/>
                </a:cubicBezTo>
                <a:cubicBezTo>
                  <a:pt x="10966" y="4808"/>
                  <a:pt x="10958" y="4827"/>
                  <a:pt x="11013" y="4812"/>
                </a:cubicBezTo>
                <a:cubicBezTo>
                  <a:pt x="11068" y="4797"/>
                  <a:pt x="11111" y="4831"/>
                  <a:pt x="11162" y="4837"/>
                </a:cubicBezTo>
                <a:cubicBezTo>
                  <a:pt x="11328" y="4856"/>
                  <a:pt x="11495" y="4823"/>
                  <a:pt x="11658" y="4812"/>
                </a:cubicBezTo>
                <a:cubicBezTo>
                  <a:pt x="11835" y="4801"/>
                  <a:pt x="12004" y="4771"/>
                  <a:pt x="12179" y="4738"/>
                </a:cubicBezTo>
                <a:cubicBezTo>
                  <a:pt x="12362" y="4704"/>
                  <a:pt x="12564" y="4678"/>
                  <a:pt x="12750" y="4663"/>
                </a:cubicBezTo>
                <a:cubicBezTo>
                  <a:pt x="12916" y="4650"/>
                  <a:pt x="13082" y="4627"/>
                  <a:pt x="13246" y="4614"/>
                </a:cubicBezTo>
                <a:cubicBezTo>
                  <a:pt x="13360" y="4605"/>
                  <a:pt x="13486" y="4597"/>
                  <a:pt x="13593" y="4589"/>
                </a:cubicBezTo>
                <a:cubicBezTo>
                  <a:pt x="13618" y="4589"/>
                  <a:pt x="13626" y="4589"/>
                  <a:pt x="13643" y="4589"/>
                </a:cubicBezTo>
                <a:cubicBezTo>
                  <a:pt x="13590" y="4605"/>
                  <a:pt x="13528" y="4623"/>
                  <a:pt x="13469" y="4638"/>
                </a:cubicBezTo>
              </a:path>
              <a:path w="6525" h="1588">
                <a:moveTo>
                  <a:pt x="11460" y="5457"/>
                </a:moveTo>
                <a:cubicBezTo>
                  <a:pt x="11429" y="5565"/>
                  <a:pt x="11389" y="5673"/>
                  <a:pt x="11361" y="5779"/>
                </a:cubicBezTo>
                <a:cubicBezTo>
                  <a:pt x="11346" y="5835"/>
                  <a:pt x="11321" y="5929"/>
                  <a:pt x="11361" y="5978"/>
                </a:cubicBezTo>
                <a:cubicBezTo>
                  <a:pt x="11376" y="5996"/>
                  <a:pt x="11457" y="6015"/>
                  <a:pt x="11485" y="6003"/>
                </a:cubicBezTo>
                <a:cubicBezTo>
                  <a:pt x="11539" y="5980"/>
                  <a:pt x="11577" y="5896"/>
                  <a:pt x="11609" y="5854"/>
                </a:cubicBezTo>
                <a:cubicBezTo>
                  <a:pt x="11661" y="5785"/>
                  <a:pt x="11658" y="5741"/>
                  <a:pt x="11658" y="5655"/>
                </a:cubicBezTo>
                <a:cubicBezTo>
                  <a:pt x="11658" y="5606"/>
                  <a:pt x="11657" y="5548"/>
                  <a:pt x="11633" y="5507"/>
                </a:cubicBezTo>
                <a:cubicBezTo>
                  <a:pt x="11614" y="5475"/>
                  <a:pt x="11548" y="5478"/>
                  <a:pt x="11534" y="5457"/>
                </a:cubicBezTo>
                <a:cubicBezTo>
                  <a:pt x="11534" y="5432"/>
                  <a:pt x="11534" y="5424"/>
                  <a:pt x="11509" y="5432"/>
                </a:cubicBezTo>
              </a:path>
              <a:path w="6525" h="1588">
                <a:moveTo>
                  <a:pt x="11807" y="5110"/>
                </a:moveTo>
                <a:cubicBezTo>
                  <a:pt x="11882" y="5097"/>
                  <a:pt x="11969" y="5056"/>
                  <a:pt x="12030" y="5110"/>
                </a:cubicBezTo>
                <a:cubicBezTo>
                  <a:pt x="12060" y="5136"/>
                  <a:pt x="12067" y="5194"/>
                  <a:pt x="12055" y="5234"/>
                </a:cubicBezTo>
                <a:cubicBezTo>
                  <a:pt x="12039" y="5289"/>
                  <a:pt x="11985" y="5335"/>
                  <a:pt x="11956" y="5383"/>
                </a:cubicBezTo>
                <a:cubicBezTo>
                  <a:pt x="11934" y="5420"/>
                  <a:pt x="11915" y="5445"/>
                  <a:pt x="11906" y="5482"/>
                </a:cubicBezTo>
                <a:cubicBezTo>
                  <a:pt x="11964" y="5525"/>
                  <a:pt x="11987" y="5517"/>
                  <a:pt x="12055" y="5507"/>
                </a:cubicBezTo>
                <a:cubicBezTo>
                  <a:pt x="12063" y="5507"/>
                  <a:pt x="12072" y="5507"/>
                  <a:pt x="12080" y="5507"/>
                </a:cubicBezTo>
              </a:path>
              <a:path w="6525" h="1588">
                <a:moveTo>
                  <a:pt x="12378" y="5482"/>
                </a:moveTo>
                <a:cubicBezTo>
                  <a:pt x="12360" y="5614"/>
                  <a:pt x="12348" y="5686"/>
                  <a:pt x="12378" y="5804"/>
                </a:cubicBezTo>
                <a:cubicBezTo>
                  <a:pt x="12378" y="5829"/>
                  <a:pt x="12378" y="5837"/>
                  <a:pt x="12378" y="5854"/>
                </a:cubicBezTo>
              </a:path>
              <a:path w="6525" h="1588">
                <a:moveTo>
                  <a:pt x="12179" y="5730"/>
                </a:moveTo>
                <a:cubicBezTo>
                  <a:pt x="12185" y="5743"/>
                  <a:pt x="12230" y="5746"/>
                  <a:pt x="12278" y="5730"/>
                </a:cubicBezTo>
                <a:cubicBezTo>
                  <a:pt x="12346" y="5707"/>
                  <a:pt x="12405" y="5689"/>
                  <a:pt x="12477" y="5680"/>
                </a:cubicBezTo>
              </a:path>
              <a:path w="6525" h="1588">
                <a:moveTo>
                  <a:pt x="12750" y="5358"/>
                </a:moveTo>
                <a:cubicBezTo>
                  <a:pt x="12818" y="5310"/>
                  <a:pt x="12860" y="5264"/>
                  <a:pt x="12948" y="5283"/>
                </a:cubicBezTo>
                <a:cubicBezTo>
                  <a:pt x="13024" y="5300"/>
                  <a:pt x="13066" y="5326"/>
                  <a:pt x="13047" y="5407"/>
                </a:cubicBezTo>
                <a:cubicBezTo>
                  <a:pt x="13032" y="5473"/>
                  <a:pt x="12991" y="5576"/>
                  <a:pt x="12948" y="5631"/>
                </a:cubicBezTo>
                <a:cubicBezTo>
                  <a:pt x="12910" y="5680"/>
                  <a:pt x="12818" y="5772"/>
                  <a:pt x="12799" y="5829"/>
                </a:cubicBezTo>
                <a:cubicBezTo>
                  <a:pt x="12781" y="5883"/>
                  <a:pt x="12755" y="5963"/>
                  <a:pt x="12824" y="5978"/>
                </a:cubicBezTo>
                <a:cubicBezTo>
                  <a:pt x="12890" y="5993"/>
                  <a:pt x="12942" y="5956"/>
                  <a:pt x="12998" y="5928"/>
                </a:cubicBezTo>
                <a:cubicBezTo>
                  <a:pt x="13070" y="5892"/>
                  <a:pt x="13105" y="5847"/>
                  <a:pt x="13146" y="5779"/>
                </a:cubicBezTo>
              </a:path>
              <a:path w="6525" h="1588">
                <a:moveTo>
                  <a:pt x="13246" y="5085"/>
                </a:moveTo>
                <a:cubicBezTo>
                  <a:pt x="13399" y="5070"/>
                  <a:pt x="13400" y="5043"/>
                  <a:pt x="13494" y="5135"/>
                </a:cubicBezTo>
                <a:cubicBezTo>
                  <a:pt x="13541" y="5181"/>
                  <a:pt x="13509" y="5216"/>
                  <a:pt x="13469" y="5259"/>
                </a:cubicBezTo>
                <a:cubicBezTo>
                  <a:pt x="13435" y="5296"/>
                  <a:pt x="13367" y="5309"/>
                  <a:pt x="13345" y="5358"/>
                </a:cubicBezTo>
                <a:cubicBezTo>
                  <a:pt x="13345" y="5366"/>
                  <a:pt x="13345" y="5375"/>
                  <a:pt x="13345" y="5383"/>
                </a:cubicBezTo>
                <a:cubicBezTo>
                  <a:pt x="13402" y="5383"/>
                  <a:pt x="13441" y="5367"/>
                  <a:pt x="13494" y="5358"/>
                </a:cubicBezTo>
                <a:cubicBezTo>
                  <a:pt x="13543" y="5358"/>
                  <a:pt x="13560" y="5358"/>
                  <a:pt x="13593" y="5358"/>
                </a:cubicBezTo>
              </a:path>
              <a:path w="6525" h="1588">
                <a:moveTo>
                  <a:pt x="13643" y="5556"/>
                </a:moveTo>
                <a:cubicBezTo>
                  <a:pt x="13694" y="5556"/>
                  <a:pt x="13777" y="5537"/>
                  <a:pt x="13791" y="5581"/>
                </a:cubicBezTo>
              </a:path>
              <a:path w="6525" h="1588">
                <a:moveTo>
                  <a:pt x="13568" y="5804"/>
                </a:moveTo>
                <a:cubicBezTo>
                  <a:pt x="13638" y="5804"/>
                  <a:pt x="13701" y="5796"/>
                  <a:pt x="13767" y="5779"/>
                </a:cubicBezTo>
                <a:cubicBezTo>
                  <a:pt x="13792" y="5771"/>
                  <a:pt x="13816" y="5763"/>
                  <a:pt x="13841" y="5755"/>
                </a:cubicBezTo>
              </a:path>
              <a:path w="6525" h="1588">
                <a:moveTo>
                  <a:pt x="14213" y="5457"/>
                </a:moveTo>
                <a:cubicBezTo>
                  <a:pt x="14208" y="5546"/>
                  <a:pt x="14209" y="5667"/>
                  <a:pt x="14188" y="5755"/>
                </a:cubicBezTo>
                <a:cubicBezTo>
                  <a:pt x="14175" y="5808"/>
                  <a:pt x="14148" y="5843"/>
                  <a:pt x="14163" y="5904"/>
                </a:cubicBezTo>
                <a:cubicBezTo>
                  <a:pt x="14186" y="5999"/>
                  <a:pt x="14188" y="5906"/>
                  <a:pt x="14188" y="5854"/>
                </a:cubicBezTo>
                <a:cubicBezTo>
                  <a:pt x="14188" y="5788"/>
                  <a:pt x="14199" y="5697"/>
                  <a:pt x="14213" y="5631"/>
                </a:cubicBezTo>
                <a:cubicBezTo>
                  <a:pt x="14235" y="5527"/>
                  <a:pt x="14231" y="5408"/>
                  <a:pt x="14263" y="5308"/>
                </a:cubicBezTo>
                <a:cubicBezTo>
                  <a:pt x="14284" y="5242"/>
                  <a:pt x="14295" y="5170"/>
                  <a:pt x="14337" y="5110"/>
                </a:cubicBezTo>
                <a:cubicBezTo>
                  <a:pt x="14360" y="5077"/>
                  <a:pt x="14426" y="5020"/>
                  <a:pt x="14461" y="5011"/>
                </a:cubicBezTo>
                <a:cubicBezTo>
                  <a:pt x="14535" y="4992"/>
                  <a:pt x="14636" y="4969"/>
                  <a:pt x="14709" y="4961"/>
                </a:cubicBezTo>
                <a:cubicBezTo>
                  <a:pt x="14809" y="4951"/>
                  <a:pt x="14910" y="4947"/>
                  <a:pt x="15007" y="4936"/>
                </a:cubicBezTo>
                <a:cubicBezTo>
                  <a:pt x="15101" y="4925"/>
                  <a:pt x="15198" y="4928"/>
                  <a:pt x="15280" y="4911"/>
                </a:cubicBezTo>
                <a:cubicBezTo>
                  <a:pt x="15338" y="4899"/>
                  <a:pt x="15329" y="4898"/>
                  <a:pt x="15280" y="4936"/>
                </a:cubicBezTo>
              </a:path>
              <a:path w="6525" h="1588">
                <a:moveTo>
                  <a:pt x="14536" y="5358"/>
                </a:moveTo>
                <a:cubicBezTo>
                  <a:pt x="14517" y="5445"/>
                  <a:pt x="14487" y="5525"/>
                  <a:pt x="14536" y="5606"/>
                </a:cubicBezTo>
                <a:cubicBezTo>
                  <a:pt x="14556" y="5640"/>
                  <a:pt x="14599" y="5676"/>
                  <a:pt x="14635" y="5680"/>
                </a:cubicBezTo>
                <a:cubicBezTo>
                  <a:pt x="14698" y="5687"/>
                  <a:pt x="14738" y="5673"/>
                  <a:pt x="14784" y="5631"/>
                </a:cubicBezTo>
                <a:cubicBezTo>
                  <a:pt x="14808" y="5606"/>
                  <a:pt x="14816" y="5597"/>
                  <a:pt x="14833" y="5581"/>
                </a:cubicBezTo>
              </a:path>
              <a:path w="6525" h="1588">
                <a:moveTo>
                  <a:pt x="14833" y="5283"/>
                </a:moveTo>
                <a:cubicBezTo>
                  <a:pt x="14833" y="5375"/>
                  <a:pt x="14801" y="5497"/>
                  <a:pt x="14808" y="5581"/>
                </a:cubicBezTo>
                <a:cubicBezTo>
                  <a:pt x="14814" y="5664"/>
                  <a:pt x="14833" y="5741"/>
                  <a:pt x="14833" y="5829"/>
                </a:cubicBezTo>
                <a:cubicBezTo>
                  <a:pt x="14833" y="5839"/>
                  <a:pt x="14852" y="5948"/>
                  <a:pt x="14858" y="5953"/>
                </a:cubicBezTo>
                <a:cubicBezTo>
                  <a:pt x="14883" y="5953"/>
                  <a:pt x="14891" y="5953"/>
                  <a:pt x="14883" y="5928"/>
                </a:cubicBezTo>
              </a:path>
              <a:path w="6525" h="1588">
                <a:moveTo>
                  <a:pt x="15379" y="5531"/>
                </a:moveTo>
                <a:cubicBezTo>
                  <a:pt x="15451" y="5526"/>
                  <a:pt x="15508" y="5507"/>
                  <a:pt x="15577" y="5507"/>
                </a:cubicBezTo>
                <a:cubicBezTo>
                  <a:pt x="15602" y="5507"/>
                  <a:pt x="15610" y="5507"/>
                  <a:pt x="15627" y="5507"/>
                </a:cubicBezTo>
              </a:path>
              <a:path w="6525" h="1588">
                <a:moveTo>
                  <a:pt x="15329" y="5755"/>
                </a:moveTo>
                <a:cubicBezTo>
                  <a:pt x="15393" y="5780"/>
                  <a:pt x="15431" y="5740"/>
                  <a:pt x="15503" y="5730"/>
                </a:cubicBezTo>
                <a:cubicBezTo>
                  <a:pt x="15608" y="5716"/>
                  <a:pt x="15637" y="5686"/>
                  <a:pt x="15726" y="5631"/>
                </a:cubicBezTo>
              </a:path>
              <a:path w="6525" h="1588">
                <a:moveTo>
                  <a:pt x="16073" y="5259"/>
                </a:moveTo>
                <a:cubicBezTo>
                  <a:pt x="16237" y="5212"/>
                  <a:pt x="16242" y="5192"/>
                  <a:pt x="16371" y="5259"/>
                </a:cubicBezTo>
                <a:cubicBezTo>
                  <a:pt x="16460" y="5305"/>
                  <a:pt x="16494" y="5377"/>
                  <a:pt x="16470" y="5482"/>
                </a:cubicBezTo>
                <a:cubicBezTo>
                  <a:pt x="16446" y="5585"/>
                  <a:pt x="16382" y="5628"/>
                  <a:pt x="16321" y="5705"/>
                </a:cubicBezTo>
                <a:cubicBezTo>
                  <a:pt x="16253" y="5791"/>
                  <a:pt x="16176" y="5883"/>
                  <a:pt x="16123" y="5978"/>
                </a:cubicBezTo>
                <a:cubicBezTo>
                  <a:pt x="16099" y="6026"/>
                  <a:pt x="16091" y="6040"/>
                  <a:pt x="16098" y="6077"/>
                </a:cubicBezTo>
                <a:cubicBezTo>
                  <a:pt x="16153" y="6110"/>
                  <a:pt x="16227" y="6124"/>
                  <a:pt x="16297" y="6127"/>
                </a:cubicBezTo>
                <a:cubicBezTo>
                  <a:pt x="16395" y="6131"/>
                  <a:pt x="16476" y="6138"/>
                  <a:pt x="16570" y="6152"/>
                </a:cubicBezTo>
                <a:cubicBezTo>
                  <a:pt x="16633" y="6161"/>
                  <a:pt x="16704" y="6152"/>
                  <a:pt x="16768" y="6152"/>
                </a:cubicBezTo>
                <a:cubicBezTo>
                  <a:pt x="16758" y="6122"/>
                  <a:pt x="16734" y="6109"/>
                  <a:pt x="16694" y="6102"/>
                </a:cubicBezTo>
                <a:cubicBezTo>
                  <a:pt x="16677" y="6102"/>
                  <a:pt x="16661" y="6102"/>
                  <a:pt x="16644" y="61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39920" y="2241720"/>
            <a:ext cx="2357280" cy="2795400"/>
          </a:xfrm>
          <a:custGeom>
            <a:avLst/>
            <a:gdLst/>
            <a:ahLst/>
            <a:rect l="l" t="t" r="r" b="b"/>
            <a:pathLst>
              <a:path w="6549" h="7765">
                <a:moveTo>
                  <a:pt x="4465" y="6449"/>
                </a:moveTo>
                <a:cubicBezTo>
                  <a:pt x="4528" y="6449"/>
                  <a:pt x="4577" y="6431"/>
                  <a:pt x="4638" y="6424"/>
                </a:cubicBezTo>
                <a:cubicBezTo>
                  <a:pt x="4755" y="6410"/>
                  <a:pt x="4869" y="6398"/>
                  <a:pt x="4986" y="6375"/>
                </a:cubicBezTo>
                <a:cubicBezTo>
                  <a:pt x="5100" y="6353"/>
                  <a:pt x="5222" y="6352"/>
                  <a:pt x="5333" y="6325"/>
                </a:cubicBezTo>
                <a:cubicBezTo>
                  <a:pt x="5383" y="6313"/>
                  <a:pt x="5479" y="6280"/>
                  <a:pt x="5432" y="6300"/>
                </a:cubicBezTo>
                <a:cubicBezTo>
                  <a:pt x="5416" y="6308"/>
                  <a:pt x="5399" y="6317"/>
                  <a:pt x="5383" y="6325"/>
                </a:cubicBezTo>
              </a:path>
              <a:path w="6549" h="7765">
                <a:moveTo>
                  <a:pt x="4762" y="6747"/>
                </a:moveTo>
                <a:cubicBezTo>
                  <a:pt x="4825" y="6738"/>
                  <a:pt x="4872" y="6708"/>
                  <a:pt x="4936" y="6697"/>
                </a:cubicBezTo>
                <a:cubicBezTo>
                  <a:pt x="4993" y="6687"/>
                  <a:pt x="5067" y="6688"/>
                  <a:pt x="5110" y="6722"/>
                </a:cubicBezTo>
                <a:cubicBezTo>
                  <a:pt x="5156" y="6759"/>
                  <a:pt x="5139" y="6828"/>
                  <a:pt x="5110" y="6871"/>
                </a:cubicBezTo>
                <a:cubicBezTo>
                  <a:pt x="5070" y="6931"/>
                  <a:pt x="5011" y="6978"/>
                  <a:pt x="4961" y="7020"/>
                </a:cubicBezTo>
                <a:cubicBezTo>
                  <a:pt x="4930" y="7046"/>
                  <a:pt x="4920" y="7059"/>
                  <a:pt x="4911" y="7094"/>
                </a:cubicBezTo>
                <a:cubicBezTo>
                  <a:pt x="4976" y="7094"/>
                  <a:pt x="5022" y="7078"/>
                  <a:pt x="5085" y="7069"/>
                </a:cubicBezTo>
                <a:cubicBezTo>
                  <a:pt x="5189" y="7054"/>
                  <a:pt x="5282" y="7029"/>
                  <a:pt x="5383" y="6995"/>
                </a:cubicBezTo>
                <a:cubicBezTo>
                  <a:pt x="5460" y="6969"/>
                  <a:pt x="5488" y="6959"/>
                  <a:pt x="5531" y="6921"/>
                </a:cubicBezTo>
              </a:path>
              <a:path w="6549" h="7765">
                <a:moveTo>
                  <a:pt x="6226" y="6375"/>
                </a:moveTo>
                <a:cubicBezTo>
                  <a:pt x="6376" y="6329"/>
                  <a:pt x="6541" y="6268"/>
                  <a:pt x="6697" y="6251"/>
                </a:cubicBezTo>
                <a:cubicBezTo>
                  <a:pt x="6759" y="6251"/>
                  <a:pt x="6774" y="6261"/>
                  <a:pt x="6796" y="6226"/>
                </a:cubicBezTo>
              </a:path>
              <a:path w="6549" h="7765">
                <a:moveTo>
                  <a:pt x="6400" y="6573"/>
                </a:moveTo>
                <a:cubicBezTo>
                  <a:pt x="6502" y="6601"/>
                  <a:pt x="6590" y="6598"/>
                  <a:pt x="6697" y="6598"/>
                </a:cubicBezTo>
                <a:cubicBezTo>
                  <a:pt x="6758" y="6598"/>
                  <a:pt x="6829" y="6616"/>
                  <a:pt x="6796" y="6697"/>
                </a:cubicBezTo>
                <a:cubicBezTo>
                  <a:pt x="6772" y="6756"/>
                  <a:pt x="6699" y="6834"/>
                  <a:pt x="6648" y="6871"/>
                </a:cubicBezTo>
                <a:cubicBezTo>
                  <a:pt x="6603" y="6903"/>
                  <a:pt x="6521" y="6932"/>
                  <a:pt x="6499" y="6970"/>
                </a:cubicBezTo>
                <a:cubicBezTo>
                  <a:pt x="6499" y="6978"/>
                  <a:pt x="6499" y="6987"/>
                  <a:pt x="6499" y="6995"/>
                </a:cubicBezTo>
                <a:cubicBezTo>
                  <a:pt x="6546" y="7030"/>
                  <a:pt x="6586" y="7020"/>
                  <a:pt x="6648" y="7020"/>
                </a:cubicBezTo>
                <a:cubicBezTo>
                  <a:pt x="6714" y="7020"/>
                  <a:pt x="6780" y="7020"/>
                  <a:pt x="6846" y="7020"/>
                </a:cubicBezTo>
              </a:path>
              <a:path w="6549" h="7765">
                <a:moveTo>
                  <a:pt x="4589" y="7838"/>
                </a:moveTo>
                <a:cubicBezTo>
                  <a:pt x="4458" y="7926"/>
                  <a:pt x="4332" y="8014"/>
                  <a:pt x="4192" y="8086"/>
                </a:cubicBezTo>
                <a:cubicBezTo>
                  <a:pt x="4064" y="8152"/>
                  <a:pt x="3944" y="8278"/>
                  <a:pt x="3820" y="8334"/>
                </a:cubicBezTo>
                <a:cubicBezTo>
                  <a:pt x="3781" y="8351"/>
                  <a:pt x="3644" y="8406"/>
                  <a:pt x="3746" y="8483"/>
                </a:cubicBezTo>
                <a:cubicBezTo>
                  <a:pt x="3790" y="8516"/>
                  <a:pt x="3896" y="8521"/>
                  <a:pt x="3944" y="8558"/>
                </a:cubicBezTo>
                <a:cubicBezTo>
                  <a:pt x="4028" y="8624"/>
                  <a:pt x="4088" y="8660"/>
                  <a:pt x="4167" y="8731"/>
                </a:cubicBezTo>
                <a:cubicBezTo>
                  <a:pt x="4223" y="8781"/>
                  <a:pt x="4277" y="8815"/>
                  <a:pt x="4316" y="8880"/>
                </a:cubicBezTo>
                <a:cubicBezTo>
                  <a:pt x="4336" y="8913"/>
                  <a:pt x="4343" y="8903"/>
                  <a:pt x="4316" y="8930"/>
                </a:cubicBezTo>
              </a:path>
              <a:path w="6549" h="7765">
                <a:moveTo>
                  <a:pt x="4787" y="8310"/>
                </a:moveTo>
                <a:cubicBezTo>
                  <a:pt x="4749" y="8386"/>
                  <a:pt x="4701" y="8473"/>
                  <a:pt x="4688" y="8558"/>
                </a:cubicBezTo>
                <a:cubicBezTo>
                  <a:pt x="4674" y="8650"/>
                  <a:pt x="4652" y="8717"/>
                  <a:pt x="4688" y="8806"/>
                </a:cubicBezTo>
                <a:cubicBezTo>
                  <a:pt x="4727" y="8903"/>
                  <a:pt x="4819" y="8924"/>
                  <a:pt x="4911" y="8930"/>
                </a:cubicBezTo>
                <a:cubicBezTo>
                  <a:pt x="5057" y="8940"/>
                  <a:pt x="5031" y="8887"/>
                  <a:pt x="5135" y="8806"/>
                </a:cubicBezTo>
                <a:cubicBezTo>
                  <a:pt x="5207" y="8750"/>
                  <a:pt x="5230" y="8679"/>
                  <a:pt x="5234" y="8582"/>
                </a:cubicBezTo>
                <a:cubicBezTo>
                  <a:pt x="5236" y="8531"/>
                  <a:pt x="5199" y="8368"/>
                  <a:pt x="5159" y="8334"/>
                </a:cubicBezTo>
                <a:cubicBezTo>
                  <a:pt x="5119" y="8299"/>
                  <a:pt x="5046" y="8280"/>
                  <a:pt x="4986" y="8260"/>
                </a:cubicBezTo>
                <a:cubicBezTo>
                  <a:pt x="4959" y="8251"/>
                  <a:pt x="4897" y="8215"/>
                  <a:pt x="4862" y="8235"/>
                </a:cubicBezTo>
                <a:cubicBezTo>
                  <a:pt x="4854" y="8243"/>
                  <a:pt x="4845" y="8252"/>
                  <a:pt x="4837" y="8260"/>
                </a:cubicBezTo>
              </a:path>
              <a:path w="6549" h="7765">
                <a:moveTo>
                  <a:pt x="5606" y="8880"/>
                </a:moveTo>
                <a:cubicBezTo>
                  <a:pt x="5585" y="8957"/>
                  <a:pt x="5579" y="9015"/>
                  <a:pt x="5531" y="9079"/>
                </a:cubicBezTo>
                <a:cubicBezTo>
                  <a:pt x="5507" y="9112"/>
                  <a:pt x="5493" y="9183"/>
                  <a:pt x="5507" y="9153"/>
                </a:cubicBezTo>
                <a:cubicBezTo>
                  <a:pt x="5515" y="9128"/>
                  <a:pt x="5523" y="9104"/>
                  <a:pt x="5531" y="9079"/>
                </a:cubicBezTo>
              </a:path>
              <a:path w="6549" h="7765">
                <a:moveTo>
                  <a:pt x="6003" y="8310"/>
                </a:moveTo>
                <a:cubicBezTo>
                  <a:pt x="6012" y="8420"/>
                  <a:pt x="6028" y="8514"/>
                  <a:pt x="6028" y="8632"/>
                </a:cubicBezTo>
                <a:cubicBezTo>
                  <a:pt x="6028" y="8764"/>
                  <a:pt x="6007" y="9128"/>
                  <a:pt x="6052" y="9004"/>
                </a:cubicBezTo>
                <a:cubicBezTo>
                  <a:pt x="6052" y="8987"/>
                  <a:pt x="6052" y="8971"/>
                  <a:pt x="6052" y="8954"/>
                </a:cubicBezTo>
              </a:path>
              <a:path w="6549" h="7765">
                <a:moveTo>
                  <a:pt x="6300" y="7962"/>
                </a:moveTo>
                <a:cubicBezTo>
                  <a:pt x="6380" y="7972"/>
                  <a:pt x="6423" y="8009"/>
                  <a:pt x="6499" y="8037"/>
                </a:cubicBezTo>
                <a:cubicBezTo>
                  <a:pt x="6609" y="8077"/>
                  <a:pt x="6698" y="8145"/>
                  <a:pt x="6796" y="8210"/>
                </a:cubicBezTo>
                <a:cubicBezTo>
                  <a:pt x="6884" y="8268"/>
                  <a:pt x="6987" y="8300"/>
                  <a:pt x="7069" y="8359"/>
                </a:cubicBezTo>
                <a:cubicBezTo>
                  <a:pt x="7119" y="8395"/>
                  <a:pt x="7183" y="8451"/>
                  <a:pt x="7218" y="8483"/>
                </a:cubicBezTo>
                <a:cubicBezTo>
                  <a:pt x="7226" y="8491"/>
                  <a:pt x="7235" y="8500"/>
                  <a:pt x="7243" y="8508"/>
                </a:cubicBezTo>
                <a:cubicBezTo>
                  <a:pt x="7201" y="8581"/>
                  <a:pt x="7156" y="8605"/>
                  <a:pt x="7094" y="8657"/>
                </a:cubicBezTo>
                <a:cubicBezTo>
                  <a:pt x="7020" y="8719"/>
                  <a:pt x="6911" y="8787"/>
                  <a:pt x="6846" y="8855"/>
                </a:cubicBezTo>
                <a:cubicBezTo>
                  <a:pt x="6816" y="8886"/>
                  <a:pt x="6712" y="8978"/>
                  <a:pt x="6697" y="9004"/>
                </a:cubicBezTo>
                <a:cubicBezTo>
                  <a:pt x="6624" y="9127"/>
                  <a:pt x="6685" y="9030"/>
                  <a:pt x="6623" y="9103"/>
                </a:cubicBezTo>
              </a:path>
              <a:path w="6549" h="7765">
                <a:moveTo>
                  <a:pt x="4787" y="10889"/>
                </a:moveTo>
                <a:cubicBezTo>
                  <a:pt x="4827" y="10956"/>
                  <a:pt x="4800" y="10936"/>
                  <a:pt x="4787" y="11013"/>
                </a:cubicBezTo>
                <a:cubicBezTo>
                  <a:pt x="4754" y="11209"/>
                  <a:pt x="4797" y="11441"/>
                  <a:pt x="4812" y="11633"/>
                </a:cubicBezTo>
                <a:cubicBezTo>
                  <a:pt x="4824" y="11786"/>
                  <a:pt x="4811" y="11936"/>
                  <a:pt x="4787" y="12080"/>
                </a:cubicBezTo>
                <a:cubicBezTo>
                  <a:pt x="4776" y="12147"/>
                  <a:pt x="4776" y="12204"/>
                  <a:pt x="4688" y="12204"/>
                </a:cubicBezTo>
                <a:cubicBezTo>
                  <a:pt x="4645" y="12204"/>
                  <a:pt x="4560" y="12086"/>
                  <a:pt x="4539" y="12055"/>
                </a:cubicBezTo>
                <a:cubicBezTo>
                  <a:pt x="4474" y="11958"/>
                  <a:pt x="4449" y="11902"/>
                  <a:pt x="4440" y="11782"/>
                </a:cubicBezTo>
              </a:path>
              <a:path w="6549" h="7765">
                <a:moveTo>
                  <a:pt x="4688" y="10195"/>
                </a:moveTo>
                <a:cubicBezTo>
                  <a:pt x="4637" y="10208"/>
                  <a:pt x="4643" y="10218"/>
                  <a:pt x="4614" y="10269"/>
                </a:cubicBezTo>
              </a:path>
              <a:path w="6549" h="7765">
                <a:moveTo>
                  <a:pt x="8880" y="11361"/>
                </a:moveTo>
                <a:cubicBezTo>
                  <a:pt x="8917" y="11471"/>
                  <a:pt x="8921" y="11574"/>
                  <a:pt x="8954" y="11683"/>
                </a:cubicBezTo>
                <a:cubicBezTo>
                  <a:pt x="8995" y="11821"/>
                  <a:pt x="9039" y="11952"/>
                  <a:pt x="9103" y="12080"/>
                </a:cubicBezTo>
                <a:cubicBezTo>
                  <a:pt x="9122" y="12118"/>
                  <a:pt x="9158" y="12193"/>
                  <a:pt x="9178" y="12204"/>
                </a:cubicBezTo>
                <a:cubicBezTo>
                  <a:pt x="9186" y="12204"/>
                  <a:pt x="9195" y="12204"/>
                  <a:pt x="9203" y="12204"/>
                </a:cubicBezTo>
                <a:cubicBezTo>
                  <a:pt x="9220" y="12182"/>
                  <a:pt x="9254" y="12143"/>
                  <a:pt x="9277" y="12105"/>
                </a:cubicBezTo>
                <a:cubicBezTo>
                  <a:pt x="9332" y="12014"/>
                  <a:pt x="9351" y="11900"/>
                  <a:pt x="9401" y="11807"/>
                </a:cubicBezTo>
                <a:cubicBezTo>
                  <a:pt x="9451" y="11714"/>
                  <a:pt x="9506" y="11630"/>
                  <a:pt x="9550" y="11534"/>
                </a:cubicBezTo>
                <a:cubicBezTo>
                  <a:pt x="9582" y="11465"/>
                  <a:pt x="9598" y="11393"/>
                  <a:pt x="9649" y="11336"/>
                </a:cubicBezTo>
                <a:cubicBezTo>
                  <a:pt x="9657" y="11328"/>
                  <a:pt x="9735" y="11256"/>
                  <a:pt x="9699" y="11237"/>
                </a:cubicBezTo>
                <a:cubicBezTo>
                  <a:pt x="9699" y="11261"/>
                  <a:pt x="9699" y="11269"/>
                  <a:pt x="9674" y="11261"/>
                </a:cubicBezTo>
              </a:path>
              <a:path w="6549" h="7765">
                <a:moveTo>
                  <a:pt x="8210" y="12278"/>
                </a:moveTo>
                <a:cubicBezTo>
                  <a:pt x="8332" y="12255"/>
                  <a:pt x="8457" y="12241"/>
                  <a:pt x="8582" y="12254"/>
                </a:cubicBezTo>
                <a:cubicBezTo>
                  <a:pt x="8837" y="12281"/>
                  <a:pt x="9095" y="12298"/>
                  <a:pt x="9351" y="12303"/>
                </a:cubicBezTo>
                <a:cubicBezTo>
                  <a:pt x="9529" y="12306"/>
                  <a:pt x="9720" y="12308"/>
                  <a:pt x="9897" y="12328"/>
                </a:cubicBezTo>
                <a:cubicBezTo>
                  <a:pt x="10026" y="12342"/>
                  <a:pt x="10097" y="12335"/>
                  <a:pt x="10220" y="12328"/>
                </a:cubicBezTo>
                <a:cubicBezTo>
                  <a:pt x="10261" y="12328"/>
                  <a:pt x="10285" y="12328"/>
                  <a:pt x="10244" y="12328"/>
                </a:cubicBezTo>
              </a:path>
              <a:path w="6549" h="7765">
                <a:moveTo>
                  <a:pt x="8285" y="12700"/>
                </a:moveTo>
                <a:cubicBezTo>
                  <a:pt x="8255" y="12835"/>
                  <a:pt x="8239" y="12963"/>
                  <a:pt x="8210" y="13097"/>
                </a:cubicBezTo>
                <a:cubicBezTo>
                  <a:pt x="8184" y="13218"/>
                  <a:pt x="8165" y="13345"/>
                  <a:pt x="8161" y="13469"/>
                </a:cubicBezTo>
                <a:cubicBezTo>
                  <a:pt x="8158" y="13553"/>
                  <a:pt x="8166" y="13645"/>
                  <a:pt x="8186" y="13692"/>
                </a:cubicBezTo>
                <a:cubicBezTo>
                  <a:pt x="8205" y="13736"/>
                  <a:pt x="8186" y="13693"/>
                  <a:pt x="8186" y="13667"/>
                </a:cubicBezTo>
              </a:path>
              <a:path w="6549" h="7765">
                <a:moveTo>
                  <a:pt x="8632" y="12675"/>
                </a:moveTo>
                <a:cubicBezTo>
                  <a:pt x="8604" y="12814"/>
                  <a:pt x="8586" y="12954"/>
                  <a:pt x="8582" y="13097"/>
                </a:cubicBezTo>
                <a:cubicBezTo>
                  <a:pt x="8578" y="13255"/>
                  <a:pt x="8510" y="13665"/>
                  <a:pt x="8607" y="13791"/>
                </a:cubicBezTo>
              </a:path>
              <a:path w="6549" h="7765">
                <a:moveTo>
                  <a:pt x="8830" y="13221"/>
                </a:moveTo>
                <a:cubicBezTo>
                  <a:pt x="8865" y="13305"/>
                  <a:pt x="8940" y="13425"/>
                  <a:pt x="8954" y="13519"/>
                </a:cubicBezTo>
                <a:cubicBezTo>
                  <a:pt x="8967" y="13603"/>
                  <a:pt x="8969" y="13651"/>
                  <a:pt x="9029" y="13717"/>
                </a:cubicBezTo>
                <a:cubicBezTo>
                  <a:pt x="9052" y="13740"/>
                  <a:pt x="9056" y="13748"/>
                  <a:pt x="9079" y="13742"/>
                </a:cubicBezTo>
                <a:cubicBezTo>
                  <a:pt x="9109" y="13669"/>
                  <a:pt x="9120" y="13592"/>
                  <a:pt x="9153" y="13519"/>
                </a:cubicBezTo>
                <a:cubicBezTo>
                  <a:pt x="9179" y="13461"/>
                  <a:pt x="9181" y="13402"/>
                  <a:pt x="9203" y="13345"/>
                </a:cubicBezTo>
                <a:cubicBezTo>
                  <a:pt x="9221" y="13298"/>
                  <a:pt x="9232" y="13235"/>
                  <a:pt x="9252" y="13196"/>
                </a:cubicBezTo>
                <a:cubicBezTo>
                  <a:pt x="9260" y="13188"/>
                  <a:pt x="9269" y="13179"/>
                  <a:pt x="9277" y="13171"/>
                </a:cubicBezTo>
              </a:path>
              <a:path w="6549" h="7765">
                <a:moveTo>
                  <a:pt x="9599" y="12849"/>
                </a:moveTo>
                <a:cubicBezTo>
                  <a:pt x="9593" y="13010"/>
                  <a:pt x="9575" y="13160"/>
                  <a:pt x="9575" y="13320"/>
                </a:cubicBezTo>
                <a:cubicBezTo>
                  <a:pt x="9575" y="13422"/>
                  <a:pt x="9571" y="13588"/>
                  <a:pt x="9599" y="13692"/>
                </a:cubicBezTo>
                <a:cubicBezTo>
                  <a:pt x="9612" y="13742"/>
                  <a:pt x="9624" y="13763"/>
                  <a:pt x="9624" y="13816"/>
                </a:cubicBezTo>
                <a:cubicBezTo>
                  <a:pt x="9624" y="13755"/>
                  <a:pt x="9632" y="13729"/>
                  <a:pt x="9649" y="13667"/>
                </a:cubicBezTo>
              </a:path>
              <a:path w="6549" h="7765">
                <a:moveTo>
                  <a:pt x="9922" y="12700"/>
                </a:moveTo>
                <a:cubicBezTo>
                  <a:pt x="9940" y="12869"/>
                  <a:pt x="9947" y="13026"/>
                  <a:pt x="9947" y="13196"/>
                </a:cubicBezTo>
                <a:cubicBezTo>
                  <a:pt x="9947" y="13367"/>
                  <a:pt x="9981" y="13551"/>
                  <a:pt x="10021" y="13717"/>
                </a:cubicBezTo>
                <a:cubicBezTo>
                  <a:pt x="10045" y="13818"/>
                  <a:pt x="10046" y="13875"/>
                  <a:pt x="10021" y="13965"/>
                </a:cubicBezTo>
                <a:cubicBezTo>
                  <a:pt x="10021" y="13973"/>
                  <a:pt x="10021" y="13982"/>
                  <a:pt x="10021" y="13990"/>
                </a:cubicBezTo>
              </a:path>
              <a:path w="6549" h="7765">
                <a:moveTo>
                  <a:pt x="6623" y="11857"/>
                </a:moveTo>
                <a:cubicBezTo>
                  <a:pt x="6623" y="12050"/>
                  <a:pt x="6593" y="12269"/>
                  <a:pt x="6648" y="12452"/>
                </a:cubicBezTo>
                <a:cubicBezTo>
                  <a:pt x="6678" y="12550"/>
                  <a:pt x="6731" y="12546"/>
                  <a:pt x="6821" y="12551"/>
                </a:cubicBezTo>
                <a:cubicBezTo>
                  <a:pt x="6888" y="12555"/>
                  <a:pt x="6959" y="12477"/>
                  <a:pt x="6995" y="12427"/>
                </a:cubicBezTo>
                <a:cubicBezTo>
                  <a:pt x="7051" y="12351"/>
                  <a:pt x="7072" y="12259"/>
                  <a:pt x="7094" y="12179"/>
                </a:cubicBezTo>
                <a:cubicBezTo>
                  <a:pt x="7117" y="12092"/>
                  <a:pt x="7144" y="12046"/>
                  <a:pt x="7144" y="11956"/>
                </a:cubicBezTo>
                <a:cubicBezTo>
                  <a:pt x="7144" y="11948"/>
                  <a:pt x="7144" y="11939"/>
                  <a:pt x="7144" y="11931"/>
                </a:cubicBezTo>
                <a:cubicBezTo>
                  <a:pt x="7144" y="11867"/>
                  <a:pt x="7121" y="12017"/>
                  <a:pt x="7119" y="12030"/>
                </a:cubicBezTo>
                <a:cubicBezTo>
                  <a:pt x="7109" y="12105"/>
                  <a:pt x="7141" y="12210"/>
                  <a:pt x="7169" y="12278"/>
                </a:cubicBezTo>
                <a:cubicBezTo>
                  <a:pt x="7194" y="12339"/>
                  <a:pt x="7224" y="12403"/>
                  <a:pt x="7268" y="12452"/>
                </a:cubicBezTo>
                <a:cubicBezTo>
                  <a:pt x="7276" y="12460"/>
                  <a:pt x="7285" y="12469"/>
                  <a:pt x="7293" y="12477"/>
                </a:cubicBezTo>
              </a:path>
              <a:path w="6549" h="7765">
                <a:moveTo>
                  <a:pt x="7516" y="12105"/>
                </a:moveTo>
                <a:cubicBezTo>
                  <a:pt x="7610" y="12086"/>
                  <a:pt x="7630" y="12056"/>
                  <a:pt x="7665" y="12105"/>
                </a:cubicBezTo>
              </a:path>
              <a:path w="6549" h="7765">
                <a:moveTo>
                  <a:pt x="7590" y="12353"/>
                </a:moveTo>
                <a:cubicBezTo>
                  <a:pt x="7666" y="12376"/>
                  <a:pt x="7696" y="12393"/>
                  <a:pt x="7764" y="124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37. Find the vector v with IIvII=5 and direction &lt;3,3&gt;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87680" y="1652760"/>
            <a:ext cx="1474560" cy="598320"/>
          </a:xfrm>
          <a:custGeom>
            <a:avLst/>
            <a:gdLst/>
            <a:ahLst/>
            <a:rect l="l" t="t" r="r" b="b"/>
            <a:pathLst>
              <a:path w="4094" h="1663">
                <a:moveTo>
                  <a:pt x="5631" y="4614"/>
                </a:moveTo>
                <a:cubicBezTo>
                  <a:pt x="5592" y="4633"/>
                  <a:pt x="5612" y="4632"/>
                  <a:pt x="5581" y="4663"/>
                </a:cubicBezTo>
                <a:cubicBezTo>
                  <a:pt x="5540" y="4704"/>
                  <a:pt x="5497" y="4753"/>
                  <a:pt x="5457" y="4787"/>
                </a:cubicBezTo>
                <a:cubicBezTo>
                  <a:pt x="5360" y="4870"/>
                  <a:pt x="5261" y="4958"/>
                  <a:pt x="5159" y="5035"/>
                </a:cubicBezTo>
                <a:cubicBezTo>
                  <a:pt x="5070" y="5102"/>
                  <a:pt x="5000" y="5194"/>
                  <a:pt x="4911" y="5259"/>
                </a:cubicBezTo>
                <a:cubicBezTo>
                  <a:pt x="4845" y="5307"/>
                  <a:pt x="4779" y="5337"/>
                  <a:pt x="4738" y="5407"/>
                </a:cubicBezTo>
                <a:cubicBezTo>
                  <a:pt x="4719" y="5440"/>
                  <a:pt x="4701" y="5442"/>
                  <a:pt x="4688" y="5457"/>
                </a:cubicBezTo>
                <a:cubicBezTo>
                  <a:pt x="4725" y="5489"/>
                  <a:pt x="4749" y="5506"/>
                  <a:pt x="4787" y="5531"/>
                </a:cubicBezTo>
                <a:cubicBezTo>
                  <a:pt x="4844" y="5568"/>
                  <a:pt x="4888" y="5612"/>
                  <a:pt x="4936" y="5655"/>
                </a:cubicBezTo>
                <a:cubicBezTo>
                  <a:pt x="5015" y="5725"/>
                  <a:pt x="5095" y="5797"/>
                  <a:pt x="5184" y="5854"/>
                </a:cubicBezTo>
                <a:cubicBezTo>
                  <a:pt x="5284" y="5918"/>
                  <a:pt x="5364" y="5983"/>
                  <a:pt x="5457" y="6052"/>
                </a:cubicBezTo>
                <a:cubicBezTo>
                  <a:pt x="5495" y="6080"/>
                  <a:pt x="5510" y="6136"/>
                  <a:pt x="5556" y="6127"/>
                </a:cubicBezTo>
                <a:cubicBezTo>
                  <a:pt x="5556" y="6119"/>
                  <a:pt x="5556" y="6110"/>
                  <a:pt x="5556" y="6102"/>
                </a:cubicBezTo>
              </a:path>
              <a:path w="4094" h="1663">
                <a:moveTo>
                  <a:pt x="5904" y="5011"/>
                </a:moveTo>
                <a:cubicBezTo>
                  <a:pt x="5980" y="4941"/>
                  <a:pt x="6023" y="4893"/>
                  <a:pt x="6127" y="4887"/>
                </a:cubicBezTo>
                <a:cubicBezTo>
                  <a:pt x="6211" y="4882"/>
                  <a:pt x="6263" y="4863"/>
                  <a:pt x="6350" y="4887"/>
                </a:cubicBezTo>
                <a:cubicBezTo>
                  <a:pt x="6403" y="4902"/>
                  <a:pt x="6462" y="4979"/>
                  <a:pt x="6449" y="5035"/>
                </a:cubicBezTo>
                <a:cubicBezTo>
                  <a:pt x="6438" y="5083"/>
                  <a:pt x="6356" y="5205"/>
                  <a:pt x="6325" y="5234"/>
                </a:cubicBezTo>
                <a:cubicBezTo>
                  <a:pt x="6256" y="5300"/>
                  <a:pt x="6134" y="5329"/>
                  <a:pt x="6077" y="5407"/>
                </a:cubicBezTo>
                <a:cubicBezTo>
                  <a:pt x="6047" y="5449"/>
                  <a:pt x="6065" y="5431"/>
                  <a:pt x="6102" y="5407"/>
                </a:cubicBezTo>
                <a:cubicBezTo>
                  <a:pt x="6135" y="5386"/>
                  <a:pt x="6181" y="5366"/>
                  <a:pt x="6226" y="5383"/>
                </a:cubicBezTo>
                <a:cubicBezTo>
                  <a:pt x="6261" y="5396"/>
                  <a:pt x="6322" y="5457"/>
                  <a:pt x="6350" y="5482"/>
                </a:cubicBezTo>
                <a:cubicBezTo>
                  <a:pt x="6409" y="5536"/>
                  <a:pt x="6436" y="5604"/>
                  <a:pt x="6449" y="5680"/>
                </a:cubicBezTo>
                <a:cubicBezTo>
                  <a:pt x="6456" y="5724"/>
                  <a:pt x="6461" y="5819"/>
                  <a:pt x="6424" y="5854"/>
                </a:cubicBezTo>
                <a:cubicBezTo>
                  <a:pt x="6388" y="5887"/>
                  <a:pt x="6299" y="5942"/>
                  <a:pt x="6251" y="5953"/>
                </a:cubicBezTo>
                <a:cubicBezTo>
                  <a:pt x="6187" y="5967"/>
                  <a:pt x="6119" y="5978"/>
                  <a:pt x="6052" y="5978"/>
                </a:cubicBezTo>
                <a:cubicBezTo>
                  <a:pt x="5992" y="5978"/>
                  <a:pt x="5978" y="5966"/>
                  <a:pt x="5928" y="5953"/>
                </a:cubicBezTo>
              </a:path>
              <a:path w="4094" h="1663">
                <a:moveTo>
                  <a:pt x="6772" y="5953"/>
                </a:moveTo>
                <a:cubicBezTo>
                  <a:pt x="6758" y="6032"/>
                  <a:pt x="6751" y="6128"/>
                  <a:pt x="6722" y="6201"/>
                </a:cubicBezTo>
                <a:cubicBezTo>
                  <a:pt x="6714" y="6218"/>
                  <a:pt x="6705" y="6234"/>
                  <a:pt x="6697" y="6251"/>
                </a:cubicBezTo>
                <a:cubicBezTo>
                  <a:pt x="6732" y="6239"/>
                  <a:pt x="6725" y="6198"/>
                  <a:pt x="6747" y="6152"/>
                </a:cubicBezTo>
                <a:cubicBezTo>
                  <a:pt x="6775" y="6097"/>
                  <a:pt x="6783" y="6074"/>
                  <a:pt x="6772" y="6028"/>
                </a:cubicBezTo>
              </a:path>
              <a:path w="4094" h="1663">
                <a:moveTo>
                  <a:pt x="7169" y="5085"/>
                </a:moveTo>
                <a:cubicBezTo>
                  <a:pt x="7254" y="5013"/>
                  <a:pt x="7326" y="4942"/>
                  <a:pt x="7441" y="4936"/>
                </a:cubicBezTo>
                <a:cubicBezTo>
                  <a:pt x="7529" y="4931"/>
                  <a:pt x="7603" y="4959"/>
                  <a:pt x="7665" y="5011"/>
                </a:cubicBezTo>
                <a:cubicBezTo>
                  <a:pt x="7722" y="5059"/>
                  <a:pt x="7761" y="5105"/>
                  <a:pt x="7739" y="5184"/>
                </a:cubicBezTo>
                <a:cubicBezTo>
                  <a:pt x="7708" y="5293"/>
                  <a:pt x="7683" y="5260"/>
                  <a:pt x="7615" y="5333"/>
                </a:cubicBezTo>
                <a:cubicBezTo>
                  <a:pt x="7555" y="5398"/>
                  <a:pt x="7537" y="5397"/>
                  <a:pt x="7466" y="5432"/>
                </a:cubicBezTo>
                <a:cubicBezTo>
                  <a:pt x="7444" y="5454"/>
                  <a:pt x="7439" y="5463"/>
                  <a:pt x="7417" y="5457"/>
                </a:cubicBezTo>
                <a:cubicBezTo>
                  <a:pt x="7451" y="5442"/>
                  <a:pt x="7475" y="5432"/>
                  <a:pt x="7516" y="5432"/>
                </a:cubicBezTo>
                <a:cubicBezTo>
                  <a:pt x="7572" y="5432"/>
                  <a:pt x="7595" y="5431"/>
                  <a:pt x="7640" y="5457"/>
                </a:cubicBezTo>
                <a:cubicBezTo>
                  <a:pt x="7731" y="5510"/>
                  <a:pt x="7721" y="5561"/>
                  <a:pt x="7739" y="5655"/>
                </a:cubicBezTo>
                <a:cubicBezTo>
                  <a:pt x="7750" y="5710"/>
                  <a:pt x="7784" y="5830"/>
                  <a:pt x="7739" y="5879"/>
                </a:cubicBezTo>
                <a:cubicBezTo>
                  <a:pt x="7692" y="5930"/>
                  <a:pt x="7556" y="5974"/>
                  <a:pt x="7491" y="5978"/>
                </a:cubicBezTo>
                <a:cubicBezTo>
                  <a:pt x="7430" y="5981"/>
                  <a:pt x="7363" y="5991"/>
                  <a:pt x="7317" y="5953"/>
                </a:cubicBezTo>
                <a:cubicBezTo>
                  <a:pt x="7287" y="5928"/>
                  <a:pt x="7283" y="5866"/>
                  <a:pt x="7293" y="5829"/>
                </a:cubicBezTo>
                <a:cubicBezTo>
                  <a:pt x="7301" y="5812"/>
                  <a:pt x="7309" y="5796"/>
                  <a:pt x="7317" y="5779"/>
                </a:cubicBezTo>
              </a:path>
              <a:path w="4094" h="1663">
                <a:moveTo>
                  <a:pt x="7789" y="4762"/>
                </a:moveTo>
                <a:cubicBezTo>
                  <a:pt x="7850" y="4793"/>
                  <a:pt x="7902" y="4830"/>
                  <a:pt x="7962" y="4862"/>
                </a:cubicBezTo>
                <a:cubicBezTo>
                  <a:pt x="8047" y="4907"/>
                  <a:pt x="8144" y="4931"/>
                  <a:pt x="8235" y="4961"/>
                </a:cubicBezTo>
                <a:cubicBezTo>
                  <a:pt x="8351" y="5000"/>
                  <a:pt x="8467" y="5031"/>
                  <a:pt x="8582" y="5060"/>
                </a:cubicBezTo>
                <a:cubicBezTo>
                  <a:pt x="8627" y="5071"/>
                  <a:pt x="8715" y="5091"/>
                  <a:pt x="8756" y="5110"/>
                </a:cubicBezTo>
                <a:cubicBezTo>
                  <a:pt x="8764" y="5118"/>
                  <a:pt x="8773" y="5127"/>
                  <a:pt x="8781" y="5135"/>
                </a:cubicBezTo>
                <a:cubicBezTo>
                  <a:pt x="8751" y="5164"/>
                  <a:pt x="8722" y="5193"/>
                  <a:pt x="8706" y="5209"/>
                </a:cubicBezTo>
                <a:cubicBezTo>
                  <a:pt x="8640" y="5276"/>
                  <a:pt x="8609" y="5335"/>
                  <a:pt x="8558" y="5407"/>
                </a:cubicBezTo>
                <a:cubicBezTo>
                  <a:pt x="8476" y="5522"/>
                  <a:pt x="8373" y="5620"/>
                  <a:pt x="8285" y="5730"/>
                </a:cubicBezTo>
                <a:cubicBezTo>
                  <a:pt x="8225" y="5806"/>
                  <a:pt x="8167" y="5895"/>
                  <a:pt x="8086" y="5953"/>
                </a:cubicBezTo>
                <a:cubicBezTo>
                  <a:pt x="8031" y="5993"/>
                  <a:pt x="7993" y="6033"/>
                  <a:pt x="7938" y="6077"/>
                </a:cubicBezTo>
                <a:cubicBezTo>
                  <a:pt x="7909" y="6100"/>
                  <a:pt x="7950" y="6064"/>
                  <a:pt x="7962" y="60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6120" y="1571760"/>
            <a:ext cx="3465720" cy="571320"/>
          </a:xfrm>
          <a:custGeom>
            <a:avLst/>
            <a:gdLst/>
            <a:ahLst/>
            <a:rect l="l" t="t" r="r" b="b"/>
            <a:pathLst>
              <a:path w="9625" h="1588">
                <a:moveTo>
                  <a:pt x="10517" y="5060"/>
                </a:moveTo>
                <a:cubicBezTo>
                  <a:pt x="10575" y="5072"/>
                  <a:pt x="10635" y="5067"/>
                  <a:pt x="10691" y="5085"/>
                </a:cubicBezTo>
                <a:cubicBezTo>
                  <a:pt x="10747" y="5103"/>
                  <a:pt x="10791" y="5124"/>
                  <a:pt x="10840" y="5159"/>
                </a:cubicBezTo>
                <a:cubicBezTo>
                  <a:pt x="10895" y="5199"/>
                  <a:pt x="10935" y="5242"/>
                  <a:pt x="10964" y="5308"/>
                </a:cubicBezTo>
                <a:cubicBezTo>
                  <a:pt x="10994" y="5376"/>
                  <a:pt x="10986" y="5481"/>
                  <a:pt x="10988" y="5556"/>
                </a:cubicBezTo>
                <a:cubicBezTo>
                  <a:pt x="10990" y="5670"/>
                  <a:pt x="10995" y="5782"/>
                  <a:pt x="11013" y="5879"/>
                </a:cubicBezTo>
                <a:cubicBezTo>
                  <a:pt x="11013" y="5611"/>
                  <a:pt x="10993" y="5350"/>
                  <a:pt x="10988" y="5085"/>
                </a:cubicBezTo>
                <a:cubicBezTo>
                  <a:pt x="10985" y="4953"/>
                  <a:pt x="10988" y="4820"/>
                  <a:pt x="10988" y="4688"/>
                </a:cubicBezTo>
                <a:cubicBezTo>
                  <a:pt x="11014" y="4693"/>
                  <a:pt x="11072" y="4712"/>
                  <a:pt x="11088" y="4713"/>
                </a:cubicBezTo>
                <a:cubicBezTo>
                  <a:pt x="11201" y="4724"/>
                  <a:pt x="11302" y="4696"/>
                  <a:pt x="11410" y="4688"/>
                </a:cubicBezTo>
                <a:cubicBezTo>
                  <a:pt x="11535" y="4678"/>
                  <a:pt x="11658" y="4681"/>
                  <a:pt x="11782" y="4663"/>
                </a:cubicBezTo>
                <a:cubicBezTo>
                  <a:pt x="12003" y="4631"/>
                  <a:pt x="12209" y="4614"/>
                  <a:pt x="12427" y="4589"/>
                </a:cubicBezTo>
                <a:cubicBezTo>
                  <a:pt x="12647" y="4564"/>
                  <a:pt x="12848" y="4542"/>
                  <a:pt x="13072" y="4539"/>
                </a:cubicBezTo>
                <a:cubicBezTo>
                  <a:pt x="13272" y="4536"/>
                  <a:pt x="13466" y="4514"/>
                  <a:pt x="13667" y="4514"/>
                </a:cubicBezTo>
                <a:cubicBezTo>
                  <a:pt x="13884" y="4514"/>
                  <a:pt x="14096" y="4494"/>
                  <a:pt x="14312" y="4490"/>
                </a:cubicBezTo>
                <a:cubicBezTo>
                  <a:pt x="14514" y="4486"/>
                  <a:pt x="14708" y="4502"/>
                  <a:pt x="14908" y="4514"/>
                </a:cubicBezTo>
                <a:cubicBezTo>
                  <a:pt x="15072" y="4524"/>
                  <a:pt x="15248" y="4529"/>
                  <a:pt x="15404" y="4539"/>
                </a:cubicBezTo>
                <a:cubicBezTo>
                  <a:pt x="15465" y="4543"/>
                  <a:pt x="15601" y="4528"/>
                  <a:pt x="15553" y="4490"/>
                </a:cubicBezTo>
                <a:cubicBezTo>
                  <a:pt x="15503" y="4490"/>
                  <a:pt x="15486" y="4490"/>
                  <a:pt x="15453" y="4490"/>
                </a:cubicBezTo>
              </a:path>
              <a:path w="9625" h="1588">
                <a:moveTo>
                  <a:pt x="11509" y="5159"/>
                </a:moveTo>
                <a:cubicBezTo>
                  <a:pt x="11526" y="5109"/>
                  <a:pt x="11562" y="5134"/>
                  <a:pt x="11609" y="5110"/>
                </a:cubicBezTo>
                <a:cubicBezTo>
                  <a:pt x="11652" y="5088"/>
                  <a:pt x="11726" y="5047"/>
                  <a:pt x="11782" y="5060"/>
                </a:cubicBezTo>
                <a:cubicBezTo>
                  <a:pt x="11819" y="5068"/>
                  <a:pt x="11888" y="5096"/>
                  <a:pt x="11906" y="5135"/>
                </a:cubicBezTo>
                <a:cubicBezTo>
                  <a:pt x="11921" y="5169"/>
                  <a:pt x="11833" y="5264"/>
                  <a:pt x="11807" y="5283"/>
                </a:cubicBezTo>
                <a:cubicBezTo>
                  <a:pt x="11755" y="5321"/>
                  <a:pt x="11705" y="5337"/>
                  <a:pt x="11658" y="5383"/>
                </a:cubicBezTo>
                <a:cubicBezTo>
                  <a:pt x="11650" y="5391"/>
                  <a:pt x="11641" y="5399"/>
                  <a:pt x="11633" y="5407"/>
                </a:cubicBezTo>
                <a:cubicBezTo>
                  <a:pt x="11698" y="5407"/>
                  <a:pt x="11665" y="5389"/>
                  <a:pt x="11733" y="5383"/>
                </a:cubicBezTo>
                <a:cubicBezTo>
                  <a:pt x="11790" y="5378"/>
                  <a:pt x="11857" y="5375"/>
                  <a:pt x="11906" y="5407"/>
                </a:cubicBezTo>
                <a:cubicBezTo>
                  <a:pt x="11961" y="5443"/>
                  <a:pt x="11978" y="5494"/>
                  <a:pt x="11981" y="5556"/>
                </a:cubicBezTo>
                <a:cubicBezTo>
                  <a:pt x="11983" y="5598"/>
                  <a:pt x="11991" y="5672"/>
                  <a:pt x="11956" y="5705"/>
                </a:cubicBezTo>
                <a:cubicBezTo>
                  <a:pt x="11911" y="5747"/>
                  <a:pt x="11837" y="5776"/>
                  <a:pt x="11782" y="5804"/>
                </a:cubicBezTo>
                <a:cubicBezTo>
                  <a:pt x="11728" y="5831"/>
                  <a:pt x="11691" y="5829"/>
                  <a:pt x="11633" y="5829"/>
                </a:cubicBezTo>
                <a:cubicBezTo>
                  <a:pt x="11570" y="5829"/>
                  <a:pt x="11584" y="5816"/>
                  <a:pt x="11584" y="5755"/>
                </a:cubicBezTo>
              </a:path>
              <a:path w="9625" h="1588">
                <a:moveTo>
                  <a:pt x="12154" y="4887"/>
                </a:moveTo>
                <a:cubicBezTo>
                  <a:pt x="12260" y="4859"/>
                  <a:pt x="12357" y="4813"/>
                  <a:pt x="12452" y="4887"/>
                </a:cubicBezTo>
                <a:cubicBezTo>
                  <a:pt x="12499" y="4924"/>
                  <a:pt x="12480" y="4990"/>
                  <a:pt x="12452" y="5035"/>
                </a:cubicBezTo>
                <a:cubicBezTo>
                  <a:pt x="12411" y="5101"/>
                  <a:pt x="12360" y="5132"/>
                  <a:pt x="12303" y="5184"/>
                </a:cubicBezTo>
                <a:cubicBezTo>
                  <a:pt x="12270" y="5214"/>
                  <a:pt x="12238" y="5231"/>
                  <a:pt x="12229" y="5259"/>
                </a:cubicBezTo>
                <a:cubicBezTo>
                  <a:pt x="12318" y="5259"/>
                  <a:pt x="12394" y="5248"/>
                  <a:pt x="12477" y="5234"/>
                </a:cubicBezTo>
                <a:cubicBezTo>
                  <a:pt x="12544" y="5234"/>
                  <a:pt x="12578" y="5230"/>
                  <a:pt x="12626" y="5209"/>
                </a:cubicBezTo>
              </a:path>
              <a:path w="9625" h="1588">
                <a:moveTo>
                  <a:pt x="13122" y="5209"/>
                </a:moveTo>
                <a:cubicBezTo>
                  <a:pt x="13104" y="5308"/>
                  <a:pt x="13097" y="5384"/>
                  <a:pt x="13097" y="5482"/>
                </a:cubicBezTo>
                <a:cubicBezTo>
                  <a:pt x="13097" y="5528"/>
                  <a:pt x="13100" y="5571"/>
                  <a:pt x="13122" y="5606"/>
                </a:cubicBezTo>
                <a:cubicBezTo>
                  <a:pt x="13146" y="5631"/>
                  <a:pt x="13154" y="5639"/>
                  <a:pt x="13122" y="5606"/>
                </a:cubicBezTo>
              </a:path>
              <a:path w="9625" h="1588">
                <a:moveTo>
                  <a:pt x="12923" y="5457"/>
                </a:moveTo>
                <a:cubicBezTo>
                  <a:pt x="12993" y="5457"/>
                  <a:pt x="13057" y="5449"/>
                  <a:pt x="13122" y="5432"/>
                </a:cubicBezTo>
                <a:cubicBezTo>
                  <a:pt x="13215" y="5408"/>
                  <a:pt x="13308" y="5387"/>
                  <a:pt x="13395" y="5358"/>
                </a:cubicBezTo>
              </a:path>
              <a:path w="9625" h="1588">
                <a:moveTo>
                  <a:pt x="13767" y="4961"/>
                </a:moveTo>
                <a:cubicBezTo>
                  <a:pt x="13850" y="4946"/>
                  <a:pt x="13939" y="4909"/>
                  <a:pt x="14015" y="4961"/>
                </a:cubicBezTo>
                <a:cubicBezTo>
                  <a:pt x="14042" y="4979"/>
                  <a:pt x="14055" y="5054"/>
                  <a:pt x="14039" y="5085"/>
                </a:cubicBezTo>
                <a:cubicBezTo>
                  <a:pt x="14014" y="5133"/>
                  <a:pt x="13948" y="5219"/>
                  <a:pt x="13891" y="5234"/>
                </a:cubicBezTo>
                <a:cubicBezTo>
                  <a:pt x="13846" y="5246"/>
                  <a:pt x="13788" y="5274"/>
                  <a:pt x="13767" y="5283"/>
                </a:cubicBezTo>
                <a:cubicBezTo>
                  <a:pt x="13759" y="5283"/>
                  <a:pt x="13750" y="5283"/>
                  <a:pt x="13742" y="5283"/>
                </a:cubicBezTo>
                <a:cubicBezTo>
                  <a:pt x="13833" y="5283"/>
                  <a:pt x="13912" y="5285"/>
                  <a:pt x="13990" y="5308"/>
                </a:cubicBezTo>
                <a:cubicBezTo>
                  <a:pt x="14051" y="5326"/>
                  <a:pt x="14084" y="5333"/>
                  <a:pt x="14089" y="5407"/>
                </a:cubicBezTo>
                <a:cubicBezTo>
                  <a:pt x="14093" y="5466"/>
                  <a:pt x="14107" y="5559"/>
                  <a:pt x="14064" y="5606"/>
                </a:cubicBezTo>
                <a:cubicBezTo>
                  <a:pt x="14030" y="5643"/>
                  <a:pt x="13934" y="5679"/>
                  <a:pt x="13891" y="5705"/>
                </a:cubicBezTo>
                <a:cubicBezTo>
                  <a:pt x="13829" y="5742"/>
                  <a:pt x="13762" y="5730"/>
                  <a:pt x="13692" y="5730"/>
                </a:cubicBezTo>
                <a:cubicBezTo>
                  <a:pt x="13627" y="5730"/>
                  <a:pt x="13687" y="5677"/>
                  <a:pt x="13692" y="5655"/>
                </a:cubicBezTo>
                <a:cubicBezTo>
                  <a:pt x="13692" y="5639"/>
                  <a:pt x="13692" y="5622"/>
                  <a:pt x="13692" y="5606"/>
                </a:cubicBezTo>
              </a:path>
              <a:path w="9625" h="1588">
                <a:moveTo>
                  <a:pt x="14387" y="4837"/>
                </a:moveTo>
                <a:cubicBezTo>
                  <a:pt x="14450" y="4823"/>
                  <a:pt x="14575" y="4792"/>
                  <a:pt x="14635" y="4837"/>
                </a:cubicBezTo>
                <a:cubicBezTo>
                  <a:pt x="14653" y="4850"/>
                  <a:pt x="14671" y="4934"/>
                  <a:pt x="14660" y="4961"/>
                </a:cubicBezTo>
                <a:cubicBezTo>
                  <a:pt x="14646" y="4995"/>
                  <a:pt x="14569" y="5052"/>
                  <a:pt x="14536" y="5060"/>
                </a:cubicBezTo>
                <a:cubicBezTo>
                  <a:pt x="14484" y="5072"/>
                  <a:pt x="14451" y="5065"/>
                  <a:pt x="14436" y="5110"/>
                </a:cubicBezTo>
                <a:cubicBezTo>
                  <a:pt x="14483" y="5110"/>
                  <a:pt x="14515" y="5088"/>
                  <a:pt x="14560" y="5085"/>
                </a:cubicBezTo>
                <a:cubicBezTo>
                  <a:pt x="14593" y="5083"/>
                  <a:pt x="14627" y="5085"/>
                  <a:pt x="14660" y="5085"/>
                </a:cubicBezTo>
              </a:path>
              <a:path w="9625" h="1588">
                <a:moveTo>
                  <a:pt x="15354" y="5209"/>
                </a:moveTo>
                <a:cubicBezTo>
                  <a:pt x="15404" y="5209"/>
                  <a:pt x="15453" y="5209"/>
                  <a:pt x="15503" y="5209"/>
                </a:cubicBezTo>
              </a:path>
              <a:path w="9625" h="1588">
                <a:moveTo>
                  <a:pt x="15280" y="5432"/>
                </a:moveTo>
                <a:cubicBezTo>
                  <a:pt x="15345" y="5432"/>
                  <a:pt x="15393" y="5415"/>
                  <a:pt x="15453" y="5407"/>
                </a:cubicBezTo>
                <a:cubicBezTo>
                  <a:pt x="15478" y="5407"/>
                  <a:pt x="15503" y="5407"/>
                  <a:pt x="15528" y="5407"/>
                </a:cubicBezTo>
              </a:path>
              <a:path w="9625" h="1588">
                <a:moveTo>
                  <a:pt x="16024" y="5234"/>
                </a:moveTo>
                <a:cubicBezTo>
                  <a:pt x="16024" y="5461"/>
                  <a:pt x="16050" y="5711"/>
                  <a:pt x="15999" y="5928"/>
                </a:cubicBezTo>
                <a:cubicBezTo>
                  <a:pt x="16005" y="5887"/>
                  <a:pt x="15992" y="5895"/>
                  <a:pt x="15999" y="5854"/>
                </a:cubicBezTo>
                <a:cubicBezTo>
                  <a:pt x="16013" y="5774"/>
                  <a:pt x="16026" y="5686"/>
                  <a:pt x="16049" y="5606"/>
                </a:cubicBezTo>
                <a:cubicBezTo>
                  <a:pt x="16078" y="5506"/>
                  <a:pt x="16109" y="5387"/>
                  <a:pt x="16123" y="5283"/>
                </a:cubicBezTo>
                <a:cubicBezTo>
                  <a:pt x="16144" y="5129"/>
                  <a:pt x="16187" y="4981"/>
                  <a:pt x="16247" y="4837"/>
                </a:cubicBezTo>
                <a:cubicBezTo>
                  <a:pt x="16268" y="4786"/>
                  <a:pt x="16290" y="4729"/>
                  <a:pt x="16321" y="4688"/>
                </a:cubicBezTo>
                <a:cubicBezTo>
                  <a:pt x="16379" y="4611"/>
                  <a:pt x="16392" y="4631"/>
                  <a:pt x="16470" y="4614"/>
                </a:cubicBezTo>
                <a:cubicBezTo>
                  <a:pt x="16556" y="4595"/>
                  <a:pt x="16654" y="4572"/>
                  <a:pt x="16743" y="4564"/>
                </a:cubicBezTo>
                <a:cubicBezTo>
                  <a:pt x="16889" y="4550"/>
                  <a:pt x="17044" y="4549"/>
                  <a:pt x="17190" y="4539"/>
                </a:cubicBezTo>
                <a:cubicBezTo>
                  <a:pt x="17355" y="4528"/>
                  <a:pt x="17522" y="4538"/>
                  <a:pt x="17686" y="4514"/>
                </a:cubicBezTo>
                <a:cubicBezTo>
                  <a:pt x="17817" y="4495"/>
                  <a:pt x="17955" y="4482"/>
                  <a:pt x="18083" y="4440"/>
                </a:cubicBezTo>
                <a:cubicBezTo>
                  <a:pt x="18149" y="4418"/>
                  <a:pt x="18109" y="4429"/>
                  <a:pt x="18157" y="4415"/>
                </a:cubicBezTo>
                <a:cubicBezTo>
                  <a:pt x="18107" y="4378"/>
                  <a:pt x="18114" y="4388"/>
                  <a:pt x="18058" y="4366"/>
                </a:cubicBezTo>
              </a:path>
              <a:path w="9625" h="1588">
                <a:moveTo>
                  <a:pt x="16570" y="5085"/>
                </a:moveTo>
                <a:cubicBezTo>
                  <a:pt x="16554" y="5189"/>
                  <a:pt x="16545" y="5306"/>
                  <a:pt x="16520" y="5407"/>
                </a:cubicBezTo>
                <a:cubicBezTo>
                  <a:pt x="16500" y="5485"/>
                  <a:pt x="16478" y="5579"/>
                  <a:pt x="16470" y="5655"/>
                </a:cubicBezTo>
                <a:cubicBezTo>
                  <a:pt x="16463" y="5721"/>
                  <a:pt x="16470" y="5870"/>
                  <a:pt x="16470" y="5804"/>
                </a:cubicBezTo>
                <a:cubicBezTo>
                  <a:pt x="16470" y="5753"/>
                  <a:pt x="16471" y="5734"/>
                  <a:pt x="16495" y="5705"/>
                </a:cubicBezTo>
              </a:path>
              <a:path w="9625" h="1588">
                <a:moveTo>
                  <a:pt x="17066" y="5135"/>
                </a:moveTo>
                <a:cubicBezTo>
                  <a:pt x="17066" y="5110"/>
                  <a:pt x="17066" y="5102"/>
                  <a:pt x="17066" y="5085"/>
                </a:cubicBezTo>
                <a:cubicBezTo>
                  <a:pt x="17017" y="5097"/>
                  <a:pt x="16967" y="5134"/>
                  <a:pt x="16917" y="5159"/>
                </a:cubicBezTo>
                <a:cubicBezTo>
                  <a:pt x="16880" y="5178"/>
                  <a:pt x="16812" y="5217"/>
                  <a:pt x="16793" y="5259"/>
                </a:cubicBezTo>
                <a:cubicBezTo>
                  <a:pt x="16774" y="5302"/>
                  <a:pt x="16792" y="5396"/>
                  <a:pt x="16818" y="5432"/>
                </a:cubicBezTo>
                <a:cubicBezTo>
                  <a:pt x="16869" y="5503"/>
                  <a:pt x="16940" y="5560"/>
                  <a:pt x="16991" y="5631"/>
                </a:cubicBezTo>
                <a:cubicBezTo>
                  <a:pt x="17009" y="5655"/>
                  <a:pt x="17071" y="5772"/>
                  <a:pt x="17066" y="5804"/>
                </a:cubicBezTo>
                <a:cubicBezTo>
                  <a:pt x="17062" y="5825"/>
                  <a:pt x="16989" y="5890"/>
                  <a:pt x="16966" y="5879"/>
                </a:cubicBezTo>
                <a:cubicBezTo>
                  <a:pt x="16940" y="5867"/>
                  <a:pt x="16881" y="5835"/>
                  <a:pt x="16867" y="5804"/>
                </a:cubicBezTo>
                <a:cubicBezTo>
                  <a:pt x="16848" y="5760"/>
                  <a:pt x="16886" y="5710"/>
                  <a:pt x="16892" y="5680"/>
                </a:cubicBezTo>
                <a:cubicBezTo>
                  <a:pt x="16907" y="5608"/>
                  <a:pt x="16955" y="5554"/>
                  <a:pt x="16991" y="5482"/>
                </a:cubicBezTo>
                <a:cubicBezTo>
                  <a:pt x="17018" y="5429"/>
                  <a:pt x="17053" y="5342"/>
                  <a:pt x="17066" y="5283"/>
                </a:cubicBezTo>
                <a:cubicBezTo>
                  <a:pt x="17078" y="5231"/>
                  <a:pt x="17071" y="5199"/>
                  <a:pt x="17115" y="5184"/>
                </a:cubicBezTo>
              </a:path>
              <a:path w="9625" h="1588">
                <a:moveTo>
                  <a:pt x="17884" y="5308"/>
                </a:moveTo>
                <a:cubicBezTo>
                  <a:pt x="17929" y="5308"/>
                  <a:pt x="17943" y="5286"/>
                  <a:pt x="17983" y="5283"/>
                </a:cubicBezTo>
                <a:cubicBezTo>
                  <a:pt x="18032" y="5279"/>
                  <a:pt x="18083" y="5283"/>
                  <a:pt x="18132" y="5283"/>
                </a:cubicBezTo>
              </a:path>
              <a:path w="9625" h="1588">
                <a:moveTo>
                  <a:pt x="17810" y="5556"/>
                </a:moveTo>
                <a:cubicBezTo>
                  <a:pt x="17907" y="5546"/>
                  <a:pt x="18015" y="5540"/>
                  <a:pt x="18107" y="5507"/>
                </a:cubicBezTo>
                <a:cubicBezTo>
                  <a:pt x="18124" y="5499"/>
                  <a:pt x="18140" y="5490"/>
                  <a:pt x="18157" y="5482"/>
                </a:cubicBezTo>
              </a:path>
              <a:path w="9625" h="1588">
                <a:moveTo>
                  <a:pt x="18579" y="5011"/>
                </a:moveTo>
                <a:cubicBezTo>
                  <a:pt x="18675" y="4914"/>
                  <a:pt x="18708" y="4894"/>
                  <a:pt x="18852" y="4887"/>
                </a:cubicBezTo>
                <a:cubicBezTo>
                  <a:pt x="18884" y="4886"/>
                  <a:pt x="18988" y="4897"/>
                  <a:pt x="19000" y="4936"/>
                </a:cubicBezTo>
                <a:cubicBezTo>
                  <a:pt x="19022" y="5010"/>
                  <a:pt x="18972" y="5062"/>
                  <a:pt x="18926" y="5110"/>
                </a:cubicBezTo>
                <a:cubicBezTo>
                  <a:pt x="18874" y="5164"/>
                  <a:pt x="18813" y="5223"/>
                  <a:pt x="18752" y="5259"/>
                </a:cubicBezTo>
                <a:cubicBezTo>
                  <a:pt x="18701" y="5289"/>
                  <a:pt x="18670" y="5316"/>
                  <a:pt x="18628" y="5358"/>
                </a:cubicBezTo>
                <a:cubicBezTo>
                  <a:pt x="18664" y="5322"/>
                  <a:pt x="18700" y="5292"/>
                  <a:pt x="18752" y="5283"/>
                </a:cubicBezTo>
                <a:cubicBezTo>
                  <a:pt x="18784" y="5277"/>
                  <a:pt x="18858" y="5286"/>
                  <a:pt x="18876" y="5308"/>
                </a:cubicBezTo>
                <a:cubicBezTo>
                  <a:pt x="18918" y="5360"/>
                  <a:pt x="18948" y="5442"/>
                  <a:pt x="18951" y="5507"/>
                </a:cubicBezTo>
                <a:cubicBezTo>
                  <a:pt x="18955" y="5587"/>
                  <a:pt x="18959" y="5658"/>
                  <a:pt x="18926" y="5730"/>
                </a:cubicBezTo>
                <a:cubicBezTo>
                  <a:pt x="18899" y="5790"/>
                  <a:pt x="18856" y="5821"/>
                  <a:pt x="18802" y="5854"/>
                </a:cubicBezTo>
                <a:cubicBezTo>
                  <a:pt x="18740" y="5891"/>
                  <a:pt x="18674" y="5879"/>
                  <a:pt x="18604" y="5879"/>
                </a:cubicBezTo>
                <a:cubicBezTo>
                  <a:pt x="18563" y="5879"/>
                  <a:pt x="18507" y="5863"/>
                  <a:pt x="18504" y="5829"/>
                </a:cubicBezTo>
                <a:cubicBezTo>
                  <a:pt x="18504" y="5812"/>
                  <a:pt x="18504" y="5796"/>
                  <a:pt x="18504" y="5779"/>
                </a:cubicBezTo>
              </a:path>
              <a:path w="9625" h="1588">
                <a:moveTo>
                  <a:pt x="19348" y="5358"/>
                </a:moveTo>
                <a:cubicBezTo>
                  <a:pt x="19348" y="5452"/>
                  <a:pt x="19328" y="5519"/>
                  <a:pt x="19323" y="5606"/>
                </a:cubicBezTo>
                <a:cubicBezTo>
                  <a:pt x="19319" y="5678"/>
                  <a:pt x="19303" y="5735"/>
                  <a:pt x="19298" y="5804"/>
                </a:cubicBezTo>
                <a:cubicBezTo>
                  <a:pt x="19294" y="5862"/>
                  <a:pt x="19320" y="5773"/>
                  <a:pt x="19323" y="5755"/>
                </a:cubicBezTo>
                <a:cubicBezTo>
                  <a:pt x="19337" y="5677"/>
                  <a:pt x="19348" y="5614"/>
                  <a:pt x="19348" y="5531"/>
                </a:cubicBezTo>
                <a:cubicBezTo>
                  <a:pt x="19348" y="5412"/>
                  <a:pt x="19346" y="5274"/>
                  <a:pt x="19372" y="5159"/>
                </a:cubicBezTo>
                <a:cubicBezTo>
                  <a:pt x="19391" y="5076"/>
                  <a:pt x="19446" y="5018"/>
                  <a:pt x="19496" y="4961"/>
                </a:cubicBezTo>
                <a:cubicBezTo>
                  <a:pt x="19550" y="4900"/>
                  <a:pt x="19639" y="4853"/>
                  <a:pt x="19720" y="4837"/>
                </a:cubicBezTo>
                <a:cubicBezTo>
                  <a:pt x="19773" y="4827"/>
                  <a:pt x="19862" y="4790"/>
                  <a:pt x="19918" y="4812"/>
                </a:cubicBezTo>
                <a:cubicBezTo>
                  <a:pt x="19926" y="4820"/>
                  <a:pt x="19935" y="4829"/>
                  <a:pt x="19943" y="4837"/>
                </a:cubicBezTo>
              </a:path>
              <a:path w="9625" h="1588">
                <a:moveTo>
                  <a:pt x="19645" y="5209"/>
                </a:moveTo>
                <a:cubicBezTo>
                  <a:pt x="19729" y="5234"/>
                  <a:pt x="19780" y="5234"/>
                  <a:pt x="19869" y="5234"/>
                </a:cubicBezTo>
                <a:cubicBezTo>
                  <a:pt x="19958" y="5234"/>
                  <a:pt x="20028" y="5254"/>
                  <a:pt x="20092" y="5308"/>
                </a:cubicBezTo>
                <a:cubicBezTo>
                  <a:pt x="20122" y="5333"/>
                  <a:pt x="20137" y="5422"/>
                  <a:pt x="20117" y="5457"/>
                </a:cubicBezTo>
                <a:cubicBezTo>
                  <a:pt x="20069" y="5543"/>
                  <a:pt x="19955" y="5632"/>
                  <a:pt x="19869" y="5680"/>
                </a:cubicBezTo>
                <a:cubicBezTo>
                  <a:pt x="19833" y="5700"/>
                  <a:pt x="19764" y="5736"/>
                  <a:pt x="19745" y="5779"/>
                </a:cubicBezTo>
                <a:cubicBezTo>
                  <a:pt x="19745" y="5787"/>
                  <a:pt x="19745" y="5796"/>
                  <a:pt x="19745" y="5804"/>
                </a:cubicBezTo>
                <a:cubicBezTo>
                  <a:pt x="19818" y="5804"/>
                  <a:pt x="19876" y="5790"/>
                  <a:pt x="19943" y="5779"/>
                </a:cubicBezTo>
                <a:cubicBezTo>
                  <a:pt x="19964" y="5776"/>
                  <a:pt x="20171" y="5785"/>
                  <a:pt x="20141" y="5755"/>
                </a:cubicBezTo>
                <a:cubicBezTo>
                  <a:pt x="20135" y="5748"/>
                  <a:pt x="20077" y="5755"/>
                  <a:pt x="20067" y="57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62080" y="2955960"/>
            <a:ext cx="1590840" cy="696960"/>
          </a:xfrm>
          <a:custGeom>
            <a:avLst/>
            <a:gdLst/>
            <a:ahLst/>
            <a:rect l="l" t="t" r="r" b="b"/>
            <a:pathLst>
              <a:path w="4416" h="1936">
                <a:moveTo>
                  <a:pt x="5779" y="8632"/>
                </a:moveTo>
                <a:cubicBezTo>
                  <a:pt x="5779" y="8806"/>
                  <a:pt x="5779" y="8979"/>
                  <a:pt x="5779" y="9153"/>
                </a:cubicBezTo>
                <a:cubicBezTo>
                  <a:pt x="5792" y="9100"/>
                  <a:pt x="5804" y="8970"/>
                  <a:pt x="5804" y="8880"/>
                </a:cubicBezTo>
                <a:cubicBezTo>
                  <a:pt x="5804" y="8791"/>
                  <a:pt x="5819" y="8718"/>
                  <a:pt x="5829" y="8632"/>
                </a:cubicBezTo>
                <a:cubicBezTo>
                  <a:pt x="5838" y="8550"/>
                  <a:pt x="5836" y="8460"/>
                  <a:pt x="5854" y="8409"/>
                </a:cubicBezTo>
                <a:cubicBezTo>
                  <a:pt x="5889" y="8314"/>
                  <a:pt x="5930" y="8354"/>
                  <a:pt x="6003" y="8310"/>
                </a:cubicBezTo>
                <a:cubicBezTo>
                  <a:pt x="6076" y="8266"/>
                  <a:pt x="6141" y="8248"/>
                  <a:pt x="6226" y="8235"/>
                </a:cubicBezTo>
                <a:cubicBezTo>
                  <a:pt x="6279" y="8227"/>
                  <a:pt x="6455" y="8183"/>
                  <a:pt x="6524" y="8210"/>
                </a:cubicBezTo>
                <a:cubicBezTo>
                  <a:pt x="6585" y="8234"/>
                  <a:pt x="6570" y="8241"/>
                  <a:pt x="6548" y="8285"/>
                </a:cubicBezTo>
              </a:path>
              <a:path w="4416" h="1936">
                <a:moveTo>
                  <a:pt x="6102" y="8558"/>
                </a:moveTo>
                <a:cubicBezTo>
                  <a:pt x="6177" y="8580"/>
                  <a:pt x="6223" y="8582"/>
                  <a:pt x="6300" y="8582"/>
                </a:cubicBezTo>
                <a:cubicBezTo>
                  <a:pt x="6378" y="8582"/>
                  <a:pt x="6416" y="8591"/>
                  <a:pt x="6474" y="8632"/>
                </a:cubicBezTo>
                <a:cubicBezTo>
                  <a:pt x="6515" y="8661"/>
                  <a:pt x="6510" y="8748"/>
                  <a:pt x="6474" y="8781"/>
                </a:cubicBezTo>
                <a:cubicBezTo>
                  <a:pt x="6403" y="8846"/>
                  <a:pt x="6356" y="8939"/>
                  <a:pt x="6276" y="9004"/>
                </a:cubicBezTo>
                <a:cubicBezTo>
                  <a:pt x="6213" y="9055"/>
                  <a:pt x="6188" y="9073"/>
                  <a:pt x="6176" y="9153"/>
                </a:cubicBezTo>
                <a:cubicBezTo>
                  <a:pt x="6341" y="9153"/>
                  <a:pt x="6507" y="9153"/>
                  <a:pt x="6672" y="9153"/>
                </a:cubicBezTo>
              </a:path>
              <a:path w="4416" h="1936">
                <a:moveTo>
                  <a:pt x="5730" y="9252"/>
                </a:moveTo>
                <a:cubicBezTo>
                  <a:pt x="5850" y="9252"/>
                  <a:pt x="5960" y="9237"/>
                  <a:pt x="6077" y="9227"/>
                </a:cubicBezTo>
                <a:cubicBezTo>
                  <a:pt x="6245" y="9212"/>
                  <a:pt x="6411" y="9235"/>
                  <a:pt x="6573" y="9252"/>
                </a:cubicBezTo>
                <a:cubicBezTo>
                  <a:pt x="6626" y="9258"/>
                  <a:pt x="6724" y="9229"/>
                  <a:pt x="6697" y="9252"/>
                </a:cubicBezTo>
                <a:cubicBezTo>
                  <a:pt x="6681" y="9269"/>
                  <a:pt x="6664" y="9285"/>
                  <a:pt x="6648" y="9302"/>
                </a:cubicBezTo>
              </a:path>
              <a:path w="4416" h="1936">
                <a:moveTo>
                  <a:pt x="5953" y="9475"/>
                </a:moveTo>
                <a:cubicBezTo>
                  <a:pt x="6008" y="9508"/>
                  <a:pt x="6059" y="9500"/>
                  <a:pt x="6127" y="9500"/>
                </a:cubicBezTo>
                <a:cubicBezTo>
                  <a:pt x="6191" y="9500"/>
                  <a:pt x="6270" y="9492"/>
                  <a:pt x="6325" y="9525"/>
                </a:cubicBezTo>
                <a:cubicBezTo>
                  <a:pt x="6413" y="9578"/>
                  <a:pt x="6343" y="9638"/>
                  <a:pt x="6325" y="9674"/>
                </a:cubicBezTo>
                <a:cubicBezTo>
                  <a:pt x="6282" y="9759"/>
                  <a:pt x="6231" y="9768"/>
                  <a:pt x="6152" y="9847"/>
                </a:cubicBezTo>
                <a:cubicBezTo>
                  <a:pt x="6101" y="9898"/>
                  <a:pt x="5996" y="9963"/>
                  <a:pt x="5978" y="9996"/>
                </a:cubicBezTo>
                <a:cubicBezTo>
                  <a:pt x="5937" y="10072"/>
                  <a:pt x="5962" y="10023"/>
                  <a:pt x="5978" y="10071"/>
                </a:cubicBezTo>
                <a:cubicBezTo>
                  <a:pt x="6091" y="10071"/>
                  <a:pt x="6191" y="10062"/>
                  <a:pt x="6300" y="10046"/>
                </a:cubicBezTo>
                <a:cubicBezTo>
                  <a:pt x="6317" y="10046"/>
                  <a:pt x="6333" y="10046"/>
                  <a:pt x="6350" y="10046"/>
                </a:cubicBezTo>
              </a:path>
              <a:path w="4416" h="1936">
                <a:moveTo>
                  <a:pt x="7417" y="9227"/>
                </a:moveTo>
                <a:cubicBezTo>
                  <a:pt x="7391" y="9323"/>
                  <a:pt x="7367" y="9401"/>
                  <a:pt x="7367" y="9500"/>
                </a:cubicBezTo>
                <a:cubicBezTo>
                  <a:pt x="7367" y="9546"/>
                  <a:pt x="7325" y="9576"/>
                  <a:pt x="7392" y="9525"/>
                </a:cubicBezTo>
              </a:path>
              <a:path w="4416" h="1936">
                <a:moveTo>
                  <a:pt x="7813" y="8632"/>
                </a:moveTo>
                <a:cubicBezTo>
                  <a:pt x="7844" y="8663"/>
                  <a:pt x="7838" y="8719"/>
                  <a:pt x="7838" y="8781"/>
                </a:cubicBezTo>
                <a:cubicBezTo>
                  <a:pt x="7838" y="8880"/>
                  <a:pt x="7838" y="8980"/>
                  <a:pt x="7838" y="9079"/>
                </a:cubicBezTo>
                <a:cubicBezTo>
                  <a:pt x="7868" y="9059"/>
                  <a:pt x="7886" y="9007"/>
                  <a:pt x="7888" y="8954"/>
                </a:cubicBezTo>
                <a:cubicBezTo>
                  <a:pt x="7892" y="8863"/>
                  <a:pt x="7895" y="8794"/>
                  <a:pt x="7913" y="8706"/>
                </a:cubicBezTo>
                <a:cubicBezTo>
                  <a:pt x="7942" y="8562"/>
                  <a:pt x="7934" y="8513"/>
                  <a:pt x="8012" y="8409"/>
                </a:cubicBezTo>
                <a:cubicBezTo>
                  <a:pt x="8077" y="8322"/>
                  <a:pt x="8210" y="8299"/>
                  <a:pt x="8310" y="8285"/>
                </a:cubicBezTo>
                <a:cubicBezTo>
                  <a:pt x="8380" y="8275"/>
                  <a:pt x="8486" y="8240"/>
                  <a:pt x="8558" y="8260"/>
                </a:cubicBezTo>
                <a:cubicBezTo>
                  <a:pt x="8598" y="8280"/>
                  <a:pt x="8604" y="8289"/>
                  <a:pt x="8632" y="8285"/>
                </a:cubicBezTo>
              </a:path>
              <a:path w="4416" h="1936">
                <a:moveTo>
                  <a:pt x="8310" y="8582"/>
                </a:moveTo>
                <a:cubicBezTo>
                  <a:pt x="8410" y="8637"/>
                  <a:pt x="8431" y="8610"/>
                  <a:pt x="8533" y="8632"/>
                </a:cubicBezTo>
                <a:cubicBezTo>
                  <a:pt x="8589" y="8644"/>
                  <a:pt x="8681" y="8708"/>
                  <a:pt x="8657" y="8781"/>
                </a:cubicBezTo>
                <a:cubicBezTo>
                  <a:pt x="8636" y="8844"/>
                  <a:pt x="8527" y="8914"/>
                  <a:pt x="8483" y="8954"/>
                </a:cubicBezTo>
                <a:cubicBezTo>
                  <a:pt x="8426" y="9005"/>
                  <a:pt x="8359" y="9042"/>
                  <a:pt x="8310" y="9079"/>
                </a:cubicBezTo>
                <a:cubicBezTo>
                  <a:pt x="8289" y="9095"/>
                  <a:pt x="8293" y="9147"/>
                  <a:pt x="8334" y="9153"/>
                </a:cubicBezTo>
                <a:cubicBezTo>
                  <a:pt x="8406" y="9164"/>
                  <a:pt x="8681" y="9190"/>
                  <a:pt x="8706" y="9103"/>
                </a:cubicBezTo>
                <a:cubicBezTo>
                  <a:pt x="8666" y="9063"/>
                  <a:pt x="8636" y="9055"/>
                  <a:pt x="8582" y="9079"/>
                </a:cubicBezTo>
              </a:path>
              <a:path w="4416" h="1936">
                <a:moveTo>
                  <a:pt x="7938" y="9227"/>
                </a:moveTo>
                <a:cubicBezTo>
                  <a:pt x="8169" y="9227"/>
                  <a:pt x="8401" y="9227"/>
                  <a:pt x="8632" y="9227"/>
                </a:cubicBezTo>
              </a:path>
              <a:path w="4416" h="1936">
                <a:moveTo>
                  <a:pt x="8086" y="9599"/>
                </a:moveTo>
                <a:cubicBezTo>
                  <a:pt x="8194" y="9599"/>
                  <a:pt x="8397" y="9559"/>
                  <a:pt x="8483" y="9624"/>
                </a:cubicBezTo>
                <a:cubicBezTo>
                  <a:pt x="8474" y="9676"/>
                  <a:pt x="8454" y="9721"/>
                  <a:pt x="8409" y="9773"/>
                </a:cubicBezTo>
                <a:cubicBezTo>
                  <a:pt x="8372" y="9815"/>
                  <a:pt x="8267" y="9947"/>
                  <a:pt x="8235" y="9971"/>
                </a:cubicBezTo>
                <a:cubicBezTo>
                  <a:pt x="8200" y="9997"/>
                  <a:pt x="8140" y="10021"/>
                  <a:pt x="8136" y="10071"/>
                </a:cubicBezTo>
                <a:cubicBezTo>
                  <a:pt x="8132" y="10120"/>
                  <a:pt x="8159" y="10141"/>
                  <a:pt x="8210" y="10145"/>
                </a:cubicBezTo>
                <a:cubicBezTo>
                  <a:pt x="8357" y="10156"/>
                  <a:pt x="8398" y="10128"/>
                  <a:pt x="8533" y="10071"/>
                </a:cubicBezTo>
                <a:cubicBezTo>
                  <a:pt x="8558" y="10063"/>
                  <a:pt x="8582" y="10054"/>
                  <a:pt x="8607" y="10046"/>
                </a:cubicBezTo>
              </a:path>
              <a:path w="4416" h="1936">
                <a:moveTo>
                  <a:pt x="9103" y="8483"/>
                </a:moveTo>
                <a:cubicBezTo>
                  <a:pt x="9191" y="8579"/>
                  <a:pt x="9255" y="8658"/>
                  <a:pt x="9351" y="8731"/>
                </a:cubicBezTo>
                <a:cubicBezTo>
                  <a:pt x="9495" y="8840"/>
                  <a:pt x="9626" y="8930"/>
                  <a:pt x="9773" y="9029"/>
                </a:cubicBezTo>
                <a:cubicBezTo>
                  <a:pt x="9861" y="9088"/>
                  <a:pt x="9949" y="9192"/>
                  <a:pt x="10046" y="9227"/>
                </a:cubicBezTo>
                <a:cubicBezTo>
                  <a:pt x="10126" y="9256"/>
                  <a:pt x="10123" y="9222"/>
                  <a:pt x="10145" y="9302"/>
                </a:cubicBezTo>
                <a:cubicBezTo>
                  <a:pt x="10060" y="9310"/>
                  <a:pt x="10020" y="9316"/>
                  <a:pt x="9947" y="9376"/>
                </a:cubicBezTo>
                <a:cubicBezTo>
                  <a:pt x="9821" y="9480"/>
                  <a:pt x="9603" y="9637"/>
                  <a:pt x="9500" y="9773"/>
                </a:cubicBezTo>
                <a:cubicBezTo>
                  <a:pt x="9420" y="9879"/>
                  <a:pt x="9388" y="9972"/>
                  <a:pt x="9277" y="10046"/>
                </a:cubicBezTo>
                <a:cubicBezTo>
                  <a:pt x="9214" y="10088"/>
                  <a:pt x="9190" y="10070"/>
                  <a:pt x="9128" y="100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44760" y="3929040"/>
            <a:ext cx="2214360" cy="911160"/>
          </a:xfrm>
          <a:custGeom>
            <a:avLst/>
            <a:gdLst/>
            <a:ahLst/>
            <a:rect l="l" t="t" r="r" b="b"/>
            <a:pathLst>
              <a:path w="6153" h="2531">
                <a:moveTo>
                  <a:pt x="5135" y="10914"/>
                </a:moveTo>
                <a:cubicBezTo>
                  <a:pt x="5114" y="11050"/>
                  <a:pt x="5095" y="11036"/>
                  <a:pt x="5011" y="11137"/>
                </a:cubicBezTo>
                <a:cubicBezTo>
                  <a:pt x="4936" y="11227"/>
                  <a:pt x="4847" y="11329"/>
                  <a:pt x="4738" y="11385"/>
                </a:cubicBezTo>
                <a:cubicBezTo>
                  <a:pt x="4645" y="11433"/>
                  <a:pt x="4554" y="11476"/>
                  <a:pt x="4465" y="11534"/>
                </a:cubicBezTo>
                <a:cubicBezTo>
                  <a:pt x="4414" y="11567"/>
                  <a:pt x="4364" y="11596"/>
                  <a:pt x="4316" y="11633"/>
                </a:cubicBezTo>
                <a:cubicBezTo>
                  <a:pt x="4291" y="11633"/>
                  <a:pt x="4283" y="11633"/>
                  <a:pt x="4291" y="11658"/>
                </a:cubicBezTo>
                <a:cubicBezTo>
                  <a:pt x="4344" y="11653"/>
                  <a:pt x="4372" y="11645"/>
                  <a:pt x="4415" y="11633"/>
                </a:cubicBezTo>
                <a:cubicBezTo>
                  <a:pt x="4419" y="11681"/>
                  <a:pt x="4434" y="11715"/>
                  <a:pt x="4440" y="11733"/>
                </a:cubicBezTo>
                <a:cubicBezTo>
                  <a:pt x="4454" y="11772"/>
                  <a:pt x="4471" y="11795"/>
                  <a:pt x="4490" y="11832"/>
                </a:cubicBezTo>
                <a:cubicBezTo>
                  <a:pt x="4533" y="11913"/>
                  <a:pt x="4572" y="11964"/>
                  <a:pt x="4638" y="12030"/>
                </a:cubicBezTo>
                <a:cubicBezTo>
                  <a:pt x="4729" y="12121"/>
                  <a:pt x="4800" y="12232"/>
                  <a:pt x="4887" y="12328"/>
                </a:cubicBezTo>
                <a:cubicBezTo>
                  <a:pt x="4991" y="12444"/>
                  <a:pt x="5098" y="12542"/>
                  <a:pt x="5209" y="12650"/>
                </a:cubicBezTo>
                <a:cubicBezTo>
                  <a:pt x="5324" y="12762"/>
                  <a:pt x="5426" y="12881"/>
                  <a:pt x="5531" y="12998"/>
                </a:cubicBezTo>
                <a:cubicBezTo>
                  <a:pt x="5605" y="13081"/>
                  <a:pt x="5686" y="13135"/>
                  <a:pt x="5755" y="13221"/>
                </a:cubicBezTo>
                <a:cubicBezTo>
                  <a:pt x="5777" y="13248"/>
                  <a:pt x="5808" y="13326"/>
                  <a:pt x="5829" y="13345"/>
                </a:cubicBezTo>
                <a:cubicBezTo>
                  <a:pt x="5837" y="13345"/>
                  <a:pt x="5846" y="13345"/>
                  <a:pt x="5854" y="13345"/>
                </a:cubicBezTo>
                <a:cubicBezTo>
                  <a:pt x="5866" y="13299"/>
                  <a:pt x="5870" y="13269"/>
                  <a:pt x="5879" y="13221"/>
                </a:cubicBezTo>
                <a:cubicBezTo>
                  <a:pt x="5879" y="13213"/>
                  <a:pt x="5879" y="13204"/>
                  <a:pt x="5879" y="13196"/>
                </a:cubicBezTo>
              </a:path>
              <a:path w="6153" h="2531">
                <a:moveTo>
                  <a:pt x="5655" y="11088"/>
                </a:moveTo>
                <a:cubicBezTo>
                  <a:pt x="5727" y="11098"/>
                  <a:pt x="5740" y="11100"/>
                  <a:pt x="5804" y="11088"/>
                </a:cubicBezTo>
                <a:cubicBezTo>
                  <a:pt x="5860" y="11077"/>
                  <a:pt x="5881" y="11079"/>
                  <a:pt x="5928" y="11063"/>
                </a:cubicBezTo>
                <a:cubicBezTo>
                  <a:pt x="5936" y="11063"/>
                  <a:pt x="5945" y="11063"/>
                  <a:pt x="5953" y="11063"/>
                </a:cubicBezTo>
              </a:path>
              <a:path w="6153" h="2531">
                <a:moveTo>
                  <a:pt x="5556" y="11137"/>
                </a:moveTo>
                <a:cubicBezTo>
                  <a:pt x="5539" y="11174"/>
                  <a:pt x="5431" y="11322"/>
                  <a:pt x="5507" y="11361"/>
                </a:cubicBezTo>
                <a:cubicBezTo>
                  <a:pt x="5543" y="11380"/>
                  <a:pt x="5574" y="11340"/>
                  <a:pt x="5606" y="11336"/>
                </a:cubicBezTo>
                <a:cubicBezTo>
                  <a:pt x="5648" y="11331"/>
                  <a:pt x="5691" y="11298"/>
                  <a:pt x="5730" y="11311"/>
                </a:cubicBezTo>
                <a:cubicBezTo>
                  <a:pt x="5770" y="11324"/>
                  <a:pt x="5789" y="11351"/>
                  <a:pt x="5804" y="11385"/>
                </a:cubicBezTo>
                <a:cubicBezTo>
                  <a:pt x="5837" y="11461"/>
                  <a:pt x="5854" y="11472"/>
                  <a:pt x="5854" y="11559"/>
                </a:cubicBezTo>
                <a:cubicBezTo>
                  <a:pt x="5854" y="11617"/>
                  <a:pt x="5857" y="11648"/>
                  <a:pt x="5804" y="11683"/>
                </a:cubicBezTo>
                <a:cubicBezTo>
                  <a:pt x="5760" y="11712"/>
                  <a:pt x="5711" y="11752"/>
                  <a:pt x="5655" y="11733"/>
                </a:cubicBezTo>
                <a:cubicBezTo>
                  <a:pt x="5591" y="11711"/>
                  <a:pt x="5538" y="11700"/>
                  <a:pt x="5482" y="11658"/>
                </a:cubicBezTo>
                <a:cubicBezTo>
                  <a:pt x="5457" y="11633"/>
                  <a:pt x="5449" y="11625"/>
                  <a:pt x="5432" y="11609"/>
                </a:cubicBezTo>
              </a:path>
              <a:path w="6153" h="2531">
                <a:moveTo>
                  <a:pt x="6102" y="11311"/>
                </a:moveTo>
                <a:cubicBezTo>
                  <a:pt x="6117" y="11432"/>
                  <a:pt x="6102" y="11449"/>
                  <a:pt x="6102" y="11559"/>
                </a:cubicBezTo>
                <a:cubicBezTo>
                  <a:pt x="6102" y="11569"/>
                  <a:pt x="6102" y="11725"/>
                  <a:pt x="6102" y="11658"/>
                </a:cubicBezTo>
                <a:cubicBezTo>
                  <a:pt x="6102" y="11522"/>
                  <a:pt x="6102" y="11382"/>
                  <a:pt x="6127" y="11261"/>
                </a:cubicBezTo>
                <a:cubicBezTo>
                  <a:pt x="6136" y="11215"/>
                  <a:pt x="6160" y="11147"/>
                  <a:pt x="6201" y="11112"/>
                </a:cubicBezTo>
                <a:cubicBezTo>
                  <a:pt x="6252" y="11069"/>
                  <a:pt x="6322" y="11073"/>
                  <a:pt x="6375" y="11038"/>
                </a:cubicBezTo>
                <a:cubicBezTo>
                  <a:pt x="6418" y="11009"/>
                  <a:pt x="6447" y="11013"/>
                  <a:pt x="6499" y="11013"/>
                </a:cubicBezTo>
              </a:path>
              <a:path w="6153" h="2531">
                <a:moveTo>
                  <a:pt x="6400" y="11261"/>
                </a:moveTo>
                <a:cubicBezTo>
                  <a:pt x="6437" y="11290"/>
                  <a:pt x="6451" y="11286"/>
                  <a:pt x="6499" y="11286"/>
                </a:cubicBezTo>
                <a:cubicBezTo>
                  <a:pt x="6557" y="11286"/>
                  <a:pt x="6614" y="11286"/>
                  <a:pt x="6672" y="11286"/>
                </a:cubicBezTo>
                <a:cubicBezTo>
                  <a:pt x="6672" y="11339"/>
                  <a:pt x="6672" y="11360"/>
                  <a:pt x="6648" y="11410"/>
                </a:cubicBezTo>
                <a:cubicBezTo>
                  <a:pt x="6621" y="11468"/>
                  <a:pt x="6563" y="11506"/>
                  <a:pt x="6524" y="11559"/>
                </a:cubicBezTo>
                <a:cubicBezTo>
                  <a:pt x="6494" y="11599"/>
                  <a:pt x="6443" y="11636"/>
                  <a:pt x="6424" y="11683"/>
                </a:cubicBezTo>
                <a:cubicBezTo>
                  <a:pt x="6413" y="11711"/>
                  <a:pt x="6421" y="11768"/>
                  <a:pt x="6449" y="11782"/>
                </a:cubicBezTo>
                <a:cubicBezTo>
                  <a:pt x="6463" y="11789"/>
                  <a:pt x="6611" y="11805"/>
                  <a:pt x="6623" y="11807"/>
                </a:cubicBezTo>
                <a:cubicBezTo>
                  <a:pt x="6650" y="11811"/>
                  <a:pt x="6794" y="11791"/>
                  <a:pt x="6821" y="11782"/>
                </a:cubicBezTo>
                <a:cubicBezTo>
                  <a:pt x="6843" y="11775"/>
                  <a:pt x="6876" y="11747"/>
                  <a:pt x="6896" y="11733"/>
                </a:cubicBezTo>
                <a:cubicBezTo>
                  <a:pt x="6871" y="11682"/>
                  <a:pt x="6856" y="11690"/>
                  <a:pt x="6796" y="11683"/>
                </a:cubicBezTo>
              </a:path>
              <a:path w="6153" h="2531">
                <a:moveTo>
                  <a:pt x="5631" y="11931"/>
                </a:moveTo>
                <a:cubicBezTo>
                  <a:pt x="5784" y="11931"/>
                  <a:pt x="5929" y="11923"/>
                  <a:pt x="6077" y="11906"/>
                </a:cubicBezTo>
                <a:cubicBezTo>
                  <a:pt x="6254" y="11886"/>
                  <a:pt x="6444" y="11906"/>
                  <a:pt x="6623" y="11906"/>
                </a:cubicBezTo>
              </a:path>
              <a:path w="6153" h="2531">
                <a:moveTo>
                  <a:pt x="6102" y="12254"/>
                </a:moveTo>
                <a:cubicBezTo>
                  <a:pt x="6147" y="12220"/>
                  <a:pt x="6180" y="12227"/>
                  <a:pt x="6226" y="12204"/>
                </a:cubicBezTo>
                <a:cubicBezTo>
                  <a:pt x="6296" y="12169"/>
                  <a:pt x="6303" y="12167"/>
                  <a:pt x="6375" y="12179"/>
                </a:cubicBezTo>
                <a:cubicBezTo>
                  <a:pt x="6467" y="12194"/>
                  <a:pt x="6507" y="12265"/>
                  <a:pt x="6524" y="12353"/>
                </a:cubicBezTo>
                <a:cubicBezTo>
                  <a:pt x="6535" y="12410"/>
                  <a:pt x="6497" y="12500"/>
                  <a:pt x="6474" y="12551"/>
                </a:cubicBezTo>
                <a:cubicBezTo>
                  <a:pt x="6442" y="12623"/>
                  <a:pt x="6405" y="12670"/>
                  <a:pt x="6350" y="12725"/>
                </a:cubicBezTo>
                <a:cubicBezTo>
                  <a:pt x="6311" y="12764"/>
                  <a:pt x="6279" y="12774"/>
                  <a:pt x="6226" y="12774"/>
                </a:cubicBezTo>
                <a:cubicBezTo>
                  <a:pt x="6168" y="12774"/>
                  <a:pt x="6151" y="12781"/>
                  <a:pt x="6127" y="12750"/>
                </a:cubicBezTo>
                <a:cubicBezTo>
                  <a:pt x="6118" y="12738"/>
                  <a:pt x="6076" y="12671"/>
                  <a:pt x="6102" y="12650"/>
                </a:cubicBezTo>
                <a:cubicBezTo>
                  <a:pt x="6125" y="12632"/>
                  <a:pt x="6135" y="12626"/>
                  <a:pt x="6176" y="12626"/>
                </a:cubicBezTo>
                <a:cubicBezTo>
                  <a:pt x="6243" y="12626"/>
                  <a:pt x="6270" y="12633"/>
                  <a:pt x="6325" y="12675"/>
                </a:cubicBezTo>
                <a:cubicBezTo>
                  <a:pt x="6373" y="12711"/>
                  <a:pt x="6426" y="12739"/>
                  <a:pt x="6474" y="12774"/>
                </a:cubicBezTo>
                <a:cubicBezTo>
                  <a:pt x="6507" y="12798"/>
                  <a:pt x="6524" y="12842"/>
                  <a:pt x="6573" y="12824"/>
                </a:cubicBezTo>
                <a:cubicBezTo>
                  <a:pt x="6617" y="12802"/>
                  <a:pt x="6629" y="12799"/>
                  <a:pt x="6648" y="12774"/>
                </a:cubicBezTo>
              </a:path>
              <a:path w="6153" h="2531">
                <a:moveTo>
                  <a:pt x="7243" y="11956"/>
                </a:moveTo>
                <a:cubicBezTo>
                  <a:pt x="7226" y="12044"/>
                  <a:pt x="7212" y="12122"/>
                  <a:pt x="7193" y="12204"/>
                </a:cubicBezTo>
                <a:cubicBezTo>
                  <a:pt x="7182" y="12251"/>
                  <a:pt x="7210" y="12227"/>
                  <a:pt x="7218" y="12204"/>
                </a:cubicBezTo>
              </a:path>
              <a:path w="6153" h="2531">
                <a:moveTo>
                  <a:pt x="7665" y="11336"/>
                </a:moveTo>
                <a:cubicBezTo>
                  <a:pt x="7749" y="11305"/>
                  <a:pt x="7800" y="11286"/>
                  <a:pt x="7888" y="11286"/>
                </a:cubicBezTo>
                <a:cubicBezTo>
                  <a:pt x="7959" y="11286"/>
                  <a:pt x="7998" y="11270"/>
                  <a:pt x="8062" y="11261"/>
                </a:cubicBezTo>
              </a:path>
              <a:path w="6153" h="2531">
                <a:moveTo>
                  <a:pt x="7813" y="11311"/>
                </a:moveTo>
                <a:cubicBezTo>
                  <a:pt x="7798" y="11326"/>
                  <a:pt x="7724" y="11428"/>
                  <a:pt x="7714" y="11435"/>
                </a:cubicBezTo>
                <a:cubicBezTo>
                  <a:pt x="7689" y="11435"/>
                  <a:pt x="7681" y="11435"/>
                  <a:pt x="7689" y="11460"/>
                </a:cubicBezTo>
                <a:cubicBezTo>
                  <a:pt x="7698" y="11487"/>
                  <a:pt x="7707" y="11505"/>
                  <a:pt x="7739" y="11509"/>
                </a:cubicBezTo>
                <a:cubicBezTo>
                  <a:pt x="7800" y="11516"/>
                  <a:pt x="7836" y="11517"/>
                  <a:pt x="7888" y="11534"/>
                </a:cubicBezTo>
                <a:cubicBezTo>
                  <a:pt x="7964" y="11559"/>
                  <a:pt x="7962" y="11547"/>
                  <a:pt x="8037" y="11584"/>
                </a:cubicBezTo>
                <a:cubicBezTo>
                  <a:pt x="8077" y="11604"/>
                  <a:pt x="8120" y="11650"/>
                  <a:pt x="8111" y="11708"/>
                </a:cubicBezTo>
                <a:cubicBezTo>
                  <a:pt x="8096" y="11810"/>
                  <a:pt x="8078" y="11837"/>
                  <a:pt x="8012" y="11881"/>
                </a:cubicBezTo>
                <a:cubicBezTo>
                  <a:pt x="7959" y="11916"/>
                  <a:pt x="7905" y="11906"/>
                  <a:pt x="7838" y="11906"/>
                </a:cubicBezTo>
                <a:cubicBezTo>
                  <a:pt x="7779" y="11906"/>
                  <a:pt x="7734" y="11873"/>
                  <a:pt x="7689" y="11832"/>
                </a:cubicBezTo>
                <a:cubicBezTo>
                  <a:pt x="7650" y="11796"/>
                  <a:pt x="7647" y="11767"/>
                  <a:pt x="7665" y="11733"/>
                </a:cubicBezTo>
              </a:path>
              <a:path w="6153" h="2531">
                <a:moveTo>
                  <a:pt x="8334" y="11435"/>
                </a:moveTo>
                <a:cubicBezTo>
                  <a:pt x="8388" y="11534"/>
                  <a:pt x="8384" y="11570"/>
                  <a:pt x="8384" y="11683"/>
                </a:cubicBezTo>
                <a:cubicBezTo>
                  <a:pt x="8384" y="11749"/>
                  <a:pt x="8384" y="11815"/>
                  <a:pt x="8384" y="11881"/>
                </a:cubicBezTo>
                <a:cubicBezTo>
                  <a:pt x="8429" y="11867"/>
                  <a:pt x="8409" y="11810"/>
                  <a:pt x="8409" y="11757"/>
                </a:cubicBezTo>
                <a:cubicBezTo>
                  <a:pt x="8409" y="11665"/>
                  <a:pt x="8434" y="11600"/>
                  <a:pt x="8434" y="11509"/>
                </a:cubicBezTo>
                <a:cubicBezTo>
                  <a:pt x="8434" y="11434"/>
                  <a:pt x="8435" y="11355"/>
                  <a:pt x="8458" y="11286"/>
                </a:cubicBezTo>
                <a:cubicBezTo>
                  <a:pt x="8473" y="11240"/>
                  <a:pt x="8490" y="11190"/>
                  <a:pt x="8533" y="11162"/>
                </a:cubicBezTo>
                <a:cubicBezTo>
                  <a:pt x="8599" y="11119"/>
                  <a:pt x="8626" y="11112"/>
                  <a:pt x="8706" y="11112"/>
                </a:cubicBezTo>
                <a:cubicBezTo>
                  <a:pt x="8769" y="11112"/>
                  <a:pt x="8816" y="11088"/>
                  <a:pt x="8880" y="11088"/>
                </a:cubicBezTo>
                <a:cubicBezTo>
                  <a:pt x="8913" y="11088"/>
                  <a:pt x="8946" y="11088"/>
                  <a:pt x="8979" y="11088"/>
                </a:cubicBezTo>
              </a:path>
              <a:path w="6153" h="2531">
                <a:moveTo>
                  <a:pt x="8706" y="11435"/>
                </a:moveTo>
                <a:cubicBezTo>
                  <a:pt x="8706" y="11443"/>
                  <a:pt x="8706" y="11452"/>
                  <a:pt x="8706" y="11460"/>
                </a:cubicBezTo>
                <a:cubicBezTo>
                  <a:pt x="8730" y="11452"/>
                  <a:pt x="8753" y="11451"/>
                  <a:pt x="8781" y="11435"/>
                </a:cubicBezTo>
                <a:cubicBezTo>
                  <a:pt x="8832" y="11406"/>
                  <a:pt x="8841" y="11376"/>
                  <a:pt x="8905" y="11361"/>
                </a:cubicBezTo>
                <a:cubicBezTo>
                  <a:pt x="8952" y="11350"/>
                  <a:pt x="8968" y="11374"/>
                  <a:pt x="9004" y="11385"/>
                </a:cubicBezTo>
                <a:cubicBezTo>
                  <a:pt x="9053" y="11401"/>
                  <a:pt x="9054" y="11407"/>
                  <a:pt x="9054" y="11460"/>
                </a:cubicBezTo>
                <a:cubicBezTo>
                  <a:pt x="9054" y="11516"/>
                  <a:pt x="9005" y="11561"/>
                  <a:pt x="8979" y="11609"/>
                </a:cubicBezTo>
                <a:cubicBezTo>
                  <a:pt x="8937" y="11687"/>
                  <a:pt x="8850" y="11728"/>
                  <a:pt x="8781" y="11782"/>
                </a:cubicBezTo>
                <a:cubicBezTo>
                  <a:pt x="8743" y="11812"/>
                  <a:pt x="8687" y="11860"/>
                  <a:pt x="8682" y="11906"/>
                </a:cubicBezTo>
                <a:cubicBezTo>
                  <a:pt x="8682" y="11914"/>
                  <a:pt x="8682" y="11923"/>
                  <a:pt x="8682" y="11931"/>
                </a:cubicBezTo>
                <a:cubicBezTo>
                  <a:pt x="8837" y="11931"/>
                  <a:pt x="9016" y="11952"/>
                  <a:pt x="9153" y="11906"/>
                </a:cubicBezTo>
                <a:cubicBezTo>
                  <a:pt x="9161" y="11906"/>
                  <a:pt x="9170" y="11906"/>
                  <a:pt x="9178" y="11906"/>
                </a:cubicBezTo>
              </a:path>
              <a:path w="6153" h="2531">
                <a:moveTo>
                  <a:pt x="7888" y="12080"/>
                </a:moveTo>
                <a:cubicBezTo>
                  <a:pt x="7956" y="12114"/>
                  <a:pt x="8030" y="12105"/>
                  <a:pt x="8111" y="12105"/>
                </a:cubicBezTo>
                <a:cubicBezTo>
                  <a:pt x="8273" y="12105"/>
                  <a:pt x="8423" y="12125"/>
                  <a:pt x="8582" y="12129"/>
                </a:cubicBezTo>
                <a:cubicBezTo>
                  <a:pt x="8711" y="12132"/>
                  <a:pt x="8829" y="12121"/>
                  <a:pt x="8954" y="12105"/>
                </a:cubicBezTo>
                <a:cubicBezTo>
                  <a:pt x="8973" y="12103"/>
                  <a:pt x="9092" y="12094"/>
                  <a:pt x="9103" y="12080"/>
                </a:cubicBezTo>
                <a:cubicBezTo>
                  <a:pt x="9103" y="12072"/>
                  <a:pt x="9103" y="12063"/>
                  <a:pt x="9103" y="12055"/>
                </a:cubicBezTo>
                <a:cubicBezTo>
                  <a:pt x="9053" y="12042"/>
                  <a:pt x="9040" y="12030"/>
                  <a:pt x="8979" y="12030"/>
                </a:cubicBezTo>
              </a:path>
              <a:path w="6153" h="2531">
                <a:moveTo>
                  <a:pt x="8285" y="12477"/>
                </a:moveTo>
                <a:cubicBezTo>
                  <a:pt x="8265" y="12517"/>
                  <a:pt x="8256" y="12523"/>
                  <a:pt x="8260" y="12551"/>
                </a:cubicBezTo>
                <a:cubicBezTo>
                  <a:pt x="8307" y="12551"/>
                  <a:pt x="8339" y="12531"/>
                  <a:pt x="8384" y="12526"/>
                </a:cubicBezTo>
                <a:cubicBezTo>
                  <a:pt x="8418" y="12523"/>
                  <a:pt x="8500" y="12515"/>
                  <a:pt x="8533" y="12502"/>
                </a:cubicBezTo>
                <a:cubicBezTo>
                  <a:pt x="8584" y="12482"/>
                  <a:pt x="8626" y="12474"/>
                  <a:pt x="8682" y="12502"/>
                </a:cubicBezTo>
                <a:cubicBezTo>
                  <a:pt x="8781" y="12551"/>
                  <a:pt x="8775" y="12597"/>
                  <a:pt x="8781" y="12700"/>
                </a:cubicBezTo>
                <a:cubicBezTo>
                  <a:pt x="8786" y="12783"/>
                  <a:pt x="8725" y="12875"/>
                  <a:pt x="8657" y="12923"/>
                </a:cubicBezTo>
                <a:cubicBezTo>
                  <a:pt x="8594" y="12967"/>
                  <a:pt x="8519" y="12970"/>
                  <a:pt x="8458" y="12998"/>
                </a:cubicBezTo>
                <a:cubicBezTo>
                  <a:pt x="8445" y="13004"/>
                  <a:pt x="8381" y="13049"/>
                  <a:pt x="8359" y="13022"/>
                </a:cubicBezTo>
                <a:cubicBezTo>
                  <a:pt x="8359" y="12998"/>
                  <a:pt x="8359" y="12990"/>
                  <a:pt x="8334" y="12998"/>
                </a:cubicBezTo>
                <a:cubicBezTo>
                  <a:pt x="8343" y="12962"/>
                  <a:pt x="8350" y="12927"/>
                  <a:pt x="8384" y="12923"/>
                </a:cubicBezTo>
                <a:cubicBezTo>
                  <a:pt x="8434" y="12917"/>
                  <a:pt x="8446" y="12940"/>
                  <a:pt x="8483" y="12948"/>
                </a:cubicBezTo>
                <a:cubicBezTo>
                  <a:pt x="8552" y="12963"/>
                  <a:pt x="8594" y="13006"/>
                  <a:pt x="8657" y="13047"/>
                </a:cubicBezTo>
                <a:cubicBezTo>
                  <a:pt x="8741" y="13101"/>
                  <a:pt x="8835" y="13197"/>
                  <a:pt x="8930" y="13221"/>
                </a:cubicBezTo>
                <a:cubicBezTo>
                  <a:pt x="8982" y="13234"/>
                  <a:pt x="9039" y="13220"/>
                  <a:pt x="9079" y="13196"/>
                </a:cubicBezTo>
              </a:path>
              <a:path w="6153" h="2531">
                <a:moveTo>
                  <a:pt x="9649" y="11708"/>
                </a:moveTo>
                <a:cubicBezTo>
                  <a:pt x="9707" y="11794"/>
                  <a:pt x="9763" y="11870"/>
                  <a:pt x="9847" y="11931"/>
                </a:cubicBezTo>
                <a:cubicBezTo>
                  <a:pt x="9981" y="12028"/>
                  <a:pt x="10099" y="12161"/>
                  <a:pt x="10220" y="12278"/>
                </a:cubicBezTo>
                <a:cubicBezTo>
                  <a:pt x="10264" y="12321"/>
                  <a:pt x="10317" y="12368"/>
                  <a:pt x="10368" y="12402"/>
                </a:cubicBezTo>
                <a:cubicBezTo>
                  <a:pt x="10410" y="12430"/>
                  <a:pt x="10398" y="12416"/>
                  <a:pt x="10443" y="12427"/>
                </a:cubicBezTo>
                <a:cubicBezTo>
                  <a:pt x="10387" y="12476"/>
                  <a:pt x="10325" y="12485"/>
                  <a:pt x="10269" y="12526"/>
                </a:cubicBezTo>
                <a:cubicBezTo>
                  <a:pt x="10142" y="12619"/>
                  <a:pt x="10004" y="12732"/>
                  <a:pt x="9897" y="12849"/>
                </a:cubicBezTo>
                <a:cubicBezTo>
                  <a:pt x="9730" y="13032"/>
                  <a:pt x="9672" y="13223"/>
                  <a:pt x="9575" y="134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1160" y="1751040"/>
            <a:ext cx="2187720" cy="1892160"/>
          </a:xfrm>
          <a:custGeom>
            <a:avLst/>
            <a:gdLst/>
            <a:ahLst/>
            <a:rect l="l" t="t" r="r" b="b"/>
            <a:pathLst>
              <a:path w="6078" h="5259">
                <a:moveTo>
                  <a:pt x="5730" y="6226"/>
                </a:moveTo>
                <a:cubicBezTo>
                  <a:pt x="5722" y="6234"/>
                  <a:pt x="5713" y="6243"/>
                  <a:pt x="5705" y="6251"/>
                </a:cubicBezTo>
                <a:cubicBezTo>
                  <a:pt x="5755" y="6251"/>
                  <a:pt x="5807" y="6238"/>
                  <a:pt x="5854" y="6226"/>
                </a:cubicBezTo>
                <a:cubicBezTo>
                  <a:pt x="5962" y="6197"/>
                  <a:pt x="6068" y="6197"/>
                  <a:pt x="6176" y="6176"/>
                </a:cubicBezTo>
                <a:cubicBezTo>
                  <a:pt x="6235" y="6164"/>
                  <a:pt x="6375" y="6149"/>
                  <a:pt x="6424" y="6127"/>
                </a:cubicBezTo>
                <a:cubicBezTo>
                  <a:pt x="6477" y="6103"/>
                  <a:pt x="6380" y="6135"/>
                  <a:pt x="6325" y="6152"/>
                </a:cubicBezTo>
              </a:path>
              <a:path w="6078" h="5259">
                <a:moveTo>
                  <a:pt x="5581" y="6573"/>
                </a:moveTo>
                <a:cubicBezTo>
                  <a:pt x="5589" y="6550"/>
                  <a:pt x="5623" y="6520"/>
                  <a:pt x="5655" y="6499"/>
                </a:cubicBezTo>
                <a:cubicBezTo>
                  <a:pt x="5710" y="6464"/>
                  <a:pt x="5791" y="6457"/>
                  <a:pt x="5854" y="6449"/>
                </a:cubicBezTo>
                <a:cubicBezTo>
                  <a:pt x="5892" y="6499"/>
                  <a:pt x="5882" y="6513"/>
                  <a:pt x="5854" y="6573"/>
                </a:cubicBezTo>
                <a:cubicBezTo>
                  <a:pt x="5815" y="6656"/>
                  <a:pt x="5728" y="6744"/>
                  <a:pt x="5655" y="6796"/>
                </a:cubicBezTo>
                <a:cubicBezTo>
                  <a:pt x="5612" y="6818"/>
                  <a:pt x="5600" y="6822"/>
                  <a:pt x="5581" y="6846"/>
                </a:cubicBezTo>
                <a:cubicBezTo>
                  <a:pt x="5644" y="6846"/>
                  <a:pt x="5689" y="6824"/>
                  <a:pt x="5755" y="6821"/>
                </a:cubicBezTo>
                <a:cubicBezTo>
                  <a:pt x="5828" y="6817"/>
                  <a:pt x="5880" y="6850"/>
                  <a:pt x="5904" y="6921"/>
                </a:cubicBezTo>
                <a:cubicBezTo>
                  <a:pt x="5925" y="6982"/>
                  <a:pt x="5830" y="7055"/>
                  <a:pt x="5804" y="7094"/>
                </a:cubicBezTo>
                <a:cubicBezTo>
                  <a:pt x="5766" y="7151"/>
                  <a:pt x="5680" y="7202"/>
                  <a:pt x="5606" y="7218"/>
                </a:cubicBezTo>
                <a:cubicBezTo>
                  <a:pt x="5503" y="7241"/>
                  <a:pt x="5504" y="7174"/>
                  <a:pt x="5531" y="7094"/>
                </a:cubicBezTo>
                <a:cubicBezTo>
                  <a:pt x="5539" y="7078"/>
                  <a:pt x="5548" y="7061"/>
                  <a:pt x="5556" y="7045"/>
                </a:cubicBezTo>
              </a:path>
              <a:path w="6078" h="5259">
                <a:moveTo>
                  <a:pt x="6003" y="6772"/>
                </a:moveTo>
                <a:cubicBezTo>
                  <a:pt x="5968" y="6903"/>
                  <a:pt x="5953" y="6950"/>
                  <a:pt x="5953" y="7069"/>
                </a:cubicBezTo>
                <a:cubicBezTo>
                  <a:pt x="5953" y="7097"/>
                  <a:pt x="5955" y="7108"/>
                  <a:pt x="5978" y="7119"/>
                </a:cubicBezTo>
                <a:cubicBezTo>
                  <a:pt x="6013" y="7072"/>
                  <a:pt x="6003" y="7032"/>
                  <a:pt x="6003" y="6970"/>
                </a:cubicBezTo>
                <a:cubicBezTo>
                  <a:pt x="6003" y="6857"/>
                  <a:pt x="5983" y="6726"/>
                  <a:pt x="6028" y="6623"/>
                </a:cubicBezTo>
                <a:cubicBezTo>
                  <a:pt x="6065" y="6538"/>
                  <a:pt x="6132" y="6507"/>
                  <a:pt x="6201" y="6449"/>
                </a:cubicBezTo>
                <a:cubicBezTo>
                  <a:pt x="6265" y="6395"/>
                  <a:pt x="6333" y="6372"/>
                  <a:pt x="6400" y="6325"/>
                </a:cubicBezTo>
                <a:cubicBezTo>
                  <a:pt x="6408" y="6317"/>
                  <a:pt x="6416" y="6308"/>
                  <a:pt x="6424" y="6300"/>
                </a:cubicBezTo>
              </a:path>
              <a:path w="6078" h="5259">
                <a:moveTo>
                  <a:pt x="6276" y="6598"/>
                </a:moveTo>
                <a:cubicBezTo>
                  <a:pt x="6354" y="6598"/>
                  <a:pt x="6456" y="6580"/>
                  <a:pt x="6524" y="6623"/>
                </a:cubicBezTo>
                <a:cubicBezTo>
                  <a:pt x="6571" y="6653"/>
                  <a:pt x="6551" y="6735"/>
                  <a:pt x="6524" y="6772"/>
                </a:cubicBezTo>
                <a:cubicBezTo>
                  <a:pt x="6484" y="6827"/>
                  <a:pt x="6425" y="6927"/>
                  <a:pt x="6375" y="6970"/>
                </a:cubicBezTo>
                <a:cubicBezTo>
                  <a:pt x="6328" y="7010"/>
                  <a:pt x="6314" y="6988"/>
                  <a:pt x="6300" y="7045"/>
                </a:cubicBezTo>
                <a:cubicBezTo>
                  <a:pt x="6355" y="7077"/>
                  <a:pt x="6388" y="7062"/>
                  <a:pt x="6449" y="7045"/>
                </a:cubicBezTo>
                <a:cubicBezTo>
                  <a:pt x="6546" y="7019"/>
                  <a:pt x="6609" y="6961"/>
                  <a:pt x="6697" y="6921"/>
                </a:cubicBezTo>
              </a:path>
              <a:path w="6078" h="5259">
                <a:moveTo>
                  <a:pt x="7144" y="6276"/>
                </a:moveTo>
                <a:cubicBezTo>
                  <a:pt x="7270" y="6248"/>
                  <a:pt x="7393" y="6215"/>
                  <a:pt x="7516" y="6176"/>
                </a:cubicBezTo>
                <a:cubicBezTo>
                  <a:pt x="7604" y="6148"/>
                  <a:pt x="7701" y="6122"/>
                  <a:pt x="7789" y="6102"/>
                </a:cubicBezTo>
                <a:cubicBezTo>
                  <a:pt x="7812" y="6097"/>
                  <a:pt x="7890" y="6077"/>
                  <a:pt x="7838" y="6077"/>
                </a:cubicBezTo>
                <a:cubicBezTo>
                  <a:pt x="7791" y="6077"/>
                  <a:pt x="7758" y="6093"/>
                  <a:pt x="7714" y="6102"/>
                </a:cubicBezTo>
              </a:path>
              <a:path w="6078" h="5259">
                <a:moveTo>
                  <a:pt x="7243" y="6474"/>
                </a:moveTo>
                <a:cubicBezTo>
                  <a:pt x="7310" y="6501"/>
                  <a:pt x="7319" y="6459"/>
                  <a:pt x="7392" y="6449"/>
                </a:cubicBezTo>
                <a:cubicBezTo>
                  <a:pt x="7433" y="6443"/>
                  <a:pt x="7549" y="6404"/>
                  <a:pt x="7590" y="6424"/>
                </a:cubicBezTo>
                <a:cubicBezTo>
                  <a:pt x="7598" y="6432"/>
                  <a:pt x="7607" y="6441"/>
                  <a:pt x="7615" y="6449"/>
                </a:cubicBezTo>
                <a:cubicBezTo>
                  <a:pt x="7604" y="6493"/>
                  <a:pt x="7575" y="6537"/>
                  <a:pt x="7541" y="6573"/>
                </a:cubicBezTo>
                <a:cubicBezTo>
                  <a:pt x="7495" y="6623"/>
                  <a:pt x="7430" y="6697"/>
                  <a:pt x="7367" y="6722"/>
                </a:cubicBezTo>
                <a:cubicBezTo>
                  <a:pt x="7339" y="6722"/>
                  <a:pt x="7328" y="6724"/>
                  <a:pt x="7317" y="6747"/>
                </a:cubicBezTo>
                <a:cubicBezTo>
                  <a:pt x="7379" y="6732"/>
                  <a:pt x="7415" y="6722"/>
                  <a:pt x="7491" y="6722"/>
                </a:cubicBezTo>
                <a:cubicBezTo>
                  <a:pt x="7548" y="6722"/>
                  <a:pt x="7694" y="6727"/>
                  <a:pt x="7689" y="6821"/>
                </a:cubicBezTo>
                <a:cubicBezTo>
                  <a:pt x="7684" y="6909"/>
                  <a:pt x="7625" y="6960"/>
                  <a:pt x="7565" y="7020"/>
                </a:cubicBezTo>
                <a:cubicBezTo>
                  <a:pt x="7498" y="7087"/>
                  <a:pt x="7458" y="7123"/>
                  <a:pt x="7367" y="7144"/>
                </a:cubicBezTo>
                <a:cubicBezTo>
                  <a:pt x="7345" y="7149"/>
                  <a:pt x="7315" y="7144"/>
                  <a:pt x="7293" y="7144"/>
                </a:cubicBezTo>
                <a:cubicBezTo>
                  <a:pt x="7293" y="7091"/>
                  <a:pt x="7293" y="7070"/>
                  <a:pt x="7317" y="7020"/>
                </a:cubicBezTo>
                <a:cubicBezTo>
                  <a:pt x="7325" y="7003"/>
                  <a:pt x="7334" y="6987"/>
                  <a:pt x="7342" y="6970"/>
                </a:cubicBezTo>
              </a:path>
              <a:path w="6078" h="5259">
                <a:moveTo>
                  <a:pt x="7888" y="6598"/>
                </a:moveTo>
                <a:cubicBezTo>
                  <a:pt x="7883" y="6729"/>
                  <a:pt x="7863" y="6843"/>
                  <a:pt x="7863" y="6970"/>
                </a:cubicBezTo>
                <a:cubicBezTo>
                  <a:pt x="7863" y="7003"/>
                  <a:pt x="7863" y="7036"/>
                  <a:pt x="7863" y="7069"/>
                </a:cubicBezTo>
                <a:cubicBezTo>
                  <a:pt x="7863" y="6972"/>
                  <a:pt x="7874" y="6890"/>
                  <a:pt x="7888" y="6796"/>
                </a:cubicBezTo>
                <a:cubicBezTo>
                  <a:pt x="7900" y="6715"/>
                  <a:pt x="7891" y="6626"/>
                  <a:pt x="7913" y="6548"/>
                </a:cubicBezTo>
                <a:cubicBezTo>
                  <a:pt x="7929" y="6489"/>
                  <a:pt x="7977" y="6400"/>
                  <a:pt x="8012" y="6350"/>
                </a:cubicBezTo>
                <a:cubicBezTo>
                  <a:pt x="8051" y="6294"/>
                  <a:pt x="8106" y="6234"/>
                  <a:pt x="8161" y="6201"/>
                </a:cubicBezTo>
                <a:cubicBezTo>
                  <a:pt x="8231" y="6159"/>
                  <a:pt x="8279" y="6152"/>
                  <a:pt x="8359" y="6152"/>
                </a:cubicBezTo>
              </a:path>
              <a:path w="6078" h="5259">
                <a:moveTo>
                  <a:pt x="8235" y="6474"/>
                </a:moveTo>
                <a:cubicBezTo>
                  <a:pt x="8334" y="6474"/>
                  <a:pt x="8416" y="6484"/>
                  <a:pt x="8508" y="6499"/>
                </a:cubicBezTo>
                <a:cubicBezTo>
                  <a:pt x="8553" y="6499"/>
                  <a:pt x="8566" y="6495"/>
                  <a:pt x="8582" y="6524"/>
                </a:cubicBezTo>
                <a:cubicBezTo>
                  <a:pt x="8562" y="6604"/>
                  <a:pt x="8493" y="6661"/>
                  <a:pt x="8434" y="6722"/>
                </a:cubicBezTo>
                <a:cubicBezTo>
                  <a:pt x="8374" y="6785"/>
                  <a:pt x="8297" y="6815"/>
                  <a:pt x="8235" y="6871"/>
                </a:cubicBezTo>
                <a:cubicBezTo>
                  <a:pt x="8227" y="6879"/>
                  <a:pt x="8218" y="6888"/>
                  <a:pt x="8210" y="6896"/>
                </a:cubicBezTo>
                <a:cubicBezTo>
                  <a:pt x="8270" y="6944"/>
                  <a:pt x="8328" y="6960"/>
                  <a:pt x="8409" y="6945"/>
                </a:cubicBezTo>
                <a:cubicBezTo>
                  <a:pt x="8467" y="6934"/>
                  <a:pt x="8578" y="6937"/>
                  <a:pt x="8607" y="6871"/>
                </a:cubicBezTo>
                <a:cubicBezTo>
                  <a:pt x="8607" y="6863"/>
                  <a:pt x="8607" y="6854"/>
                  <a:pt x="8607" y="6846"/>
                </a:cubicBezTo>
              </a:path>
              <a:path w="6078" h="5259">
                <a:moveTo>
                  <a:pt x="5333" y="7119"/>
                </a:moveTo>
                <a:cubicBezTo>
                  <a:pt x="5398" y="7054"/>
                  <a:pt x="5476" y="7000"/>
                  <a:pt x="5531" y="6945"/>
                </a:cubicBezTo>
                <a:cubicBezTo>
                  <a:pt x="5612" y="6865"/>
                  <a:pt x="5687" y="6770"/>
                  <a:pt x="5779" y="6697"/>
                </a:cubicBezTo>
                <a:cubicBezTo>
                  <a:pt x="5850" y="6641"/>
                  <a:pt x="5945" y="6566"/>
                  <a:pt x="6003" y="6499"/>
                </a:cubicBezTo>
                <a:cubicBezTo>
                  <a:pt x="6041" y="6455"/>
                  <a:pt x="6045" y="6393"/>
                  <a:pt x="6077" y="6350"/>
                </a:cubicBezTo>
              </a:path>
              <a:path w="6078" h="5259">
                <a:moveTo>
                  <a:pt x="6003" y="5705"/>
                </a:moveTo>
                <a:cubicBezTo>
                  <a:pt x="6042" y="5599"/>
                  <a:pt x="6064" y="5509"/>
                  <a:pt x="6152" y="5432"/>
                </a:cubicBezTo>
                <a:cubicBezTo>
                  <a:pt x="6271" y="5327"/>
                  <a:pt x="6384" y="5215"/>
                  <a:pt x="6499" y="5110"/>
                </a:cubicBezTo>
                <a:cubicBezTo>
                  <a:pt x="6559" y="5056"/>
                  <a:pt x="6597" y="4994"/>
                  <a:pt x="6648" y="4936"/>
                </a:cubicBezTo>
                <a:cubicBezTo>
                  <a:pt x="6670" y="4914"/>
                  <a:pt x="6678" y="4909"/>
                  <a:pt x="6672" y="4887"/>
                </a:cubicBezTo>
                <a:cubicBezTo>
                  <a:pt x="6635" y="4861"/>
                  <a:pt x="6631" y="4887"/>
                  <a:pt x="6573" y="4936"/>
                </a:cubicBezTo>
              </a:path>
              <a:path w="6078" h="5259">
                <a:moveTo>
                  <a:pt x="5283" y="8260"/>
                </a:moveTo>
                <a:cubicBezTo>
                  <a:pt x="5192" y="8335"/>
                  <a:pt x="5064" y="8504"/>
                  <a:pt x="4961" y="8558"/>
                </a:cubicBezTo>
                <a:cubicBezTo>
                  <a:pt x="4807" y="8640"/>
                  <a:pt x="4630" y="8708"/>
                  <a:pt x="4490" y="8806"/>
                </a:cubicBezTo>
                <a:cubicBezTo>
                  <a:pt x="4395" y="8873"/>
                  <a:pt x="4223" y="8996"/>
                  <a:pt x="4167" y="9079"/>
                </a:cubicBezTo>
                <a:cubicBezTo>
                  <a:pt x="4139" y="9121"/>
                  <a:pt x="4123" y="9180"/>
                  <a:pt x="4167" y="9227"/>
                </a:cubicBezTo>
                <a:cubicBezTo>
                  <a:pt x="4195" y="9257"/>
                  <a:pt x="4274" y="9300"/>
                  <a:pt x="4316" y="9327"/>
                </a:cubicBezTo>
                <a:cubicBezTo>
                  <a:pt x="4429" y="9401"/>
                  <a:pt x="4519" y="9504"/>
                  <a:pt x="4614" y="9599"/>
                </a:cubicBezTo>
                <a:cubicBezTo>
                  <a:pt x="4706" y="9691"/>
                  <a:pt x="4828" y="9748"/>
                  <a:pt x="4911" y="9847"/>
                </a:cubicBezTo>
                <a:cubicBezTo>
                  <a:pt x="4952" y="9896"/>
                  <a:pt x="4995" y="9992"/>
                  <a:pt x="4986" y="10046"/>
                </a:cubicBezTo>
                <a:cubicBezTo>
                  <a:pt x="4981" y="10074"/>
                  <a:pt x="4986" y="10018"/>
                  <a:pt x="4986" y="10046"/>
                </a:cubicBezTo>
                <a:cubicBezTo>
                  <a:pt x="4993" y="10093"/>
                  <a:pt x="4999" y="10179"/>
                  <a:pt x="5011" y="10071"/>
                </a:cubicBezTo>
                <a:cubicBezTo>
                  <a:pt x="5011" y="10063"/>
                  <a:pt x="5011" y="10054"/>
                  <a:pt x="5011" y="10046"/>
                </a:cubicBezTo>
              </a:path>
              <a:path w="6078" h="5259">
                <a:moveTo>
                  <a:pt x="7144" y="6821"/>
                </a:moveTo>
                <a:cubicBezTo>
                  <a:pt x="7254" y="6744"/>
                  <a:pt x="7336" y="6649"/>
                  <a:pt x="7441" y="6573"/>
                </a:cubicBezTo>
                <a:cubicBezTo>
                  <a:pt x="7502" y="6529"/>
                  <a:pt x="7518" y="6484"/>
                  <a:pt x="7565" y="6424"/>
                </a:cubicBezTo>
              </a:path>
              <a:path w="6078" h="5259">
                <a:moveTo>
                  <a:pt x="7541" y="5730"/>
                </a:moveTo>
                <a:cubicBezTo>
                  <a:pt x="7640" y="5614"/>
                  <a:pt x="7731" y="5488"/>
                  <a:pt x="7863" y="5407"/>
                </a:cubicBezTo>
                <a:cubicBezTo>
                  <a:pt x="7925" y="5369"/>
                  <a:pt x="7952" y="5334"/>
                  <a:pt x="7987" y="5283"/>
                </a:cubicBezTo>
                <a:cubicBezTo>
                  <a:pt x="8010" y="5261"/>
                  <a:pt x="8018" y="5256"/>
                  <a:pt x="8012" y="5234"/>
                </a:cubicBezTo>
              </a:path>
              <a:path w="6078" h="5259">
                <a:moveTo>
                  <a:pt x="2530" y="8508"/>
                </a:moveTo>
                <a:cubicBezTo>
                  <a:pt x="2635" y="8508"/>
                  <a:pt x="2730" y="8496"/>
                  <a:pt x="2828" y="8483"/>
                </a:cubicBezTo>
                <a:cubicBezTo>
                  <a:pt x="2950" y="8467"/>
                  <a:pt x="2997" y="8482"/>
                  <a:pt x="3101" y="8434"/>
                </a:cubicBezTo>
                <a:cubicBezTo>
                  <a:pt x="3131" y="8420"/>
                  <a:pt x="3205" y="8424"/>
                  <a:pt x="3175" y="8409"/>
                </a:cubicBezTo>
                <a:cubicBezTo>
                  <a:pt x="3167" y="8409"/>
                  <a:pt x="3158" y="8409"/>
                  <a:pt x="3150" y="8409"/>
                </a:cubicBezTo>
              </a:path>
              <a:path w="6078" h="5259">
                <a:moveTo>
                  <a:pt x="2679" y="8483"/>
                </a:moveTo>
                <a:cubicBezTo>
                  <a:pt x="2668" y="8512"/>
                  <a:pt x="2582" y="8693"/>
                  <a:pt x="2580" y="8706"/>
                </a:cubicBezTo>
                <a:cubicBezTo>
                  <a:pt x="2569" y="8772"/>
                  <a:pt x="2555" y="8814"/>
                  <a:pt x="2555" y="8880"/>
                </a:cubicBezTo>
                <a:cubicBezTo>
                  <a:pt x="2561" y="8878"/>
                  <a:pt x="2623" y="8861"/>
                  <a:pt x="2629" y="8855"/>
                </a:cubicBezTo>
                <a:cubicBezTo>
                  <a:pt x="2666" y="8815"/>
                  <a:pt x="2669" y="8788"/>
                  <a:pt x="2729" y="8781"/>
                </a:cubicBezTo>
                <a:cubicBezTo>
                  <a:pt x="2794" y="8774"/>
                  <a:pt x="2819" y="8791"/>
                  <a:pt x="2877" y="8806"/>
                </a:cubicBezTo>
                <a:cubicBezTo>
                  <a:pt x="2919" y="8817"/>
                  <a:pt x="3002" y="8886"/>
                  <a:pt x="3026" y="8930"/>
                </a:cubicBezTo>
                <a:cubicBezTo>
                  <a:pt x="3071" y="9012"/>
                  <a:pt x="3101" y="9015"/>
                  <a:pt x="3150" y="9103"/>
                </a:cubicBezTo>
                <a:cubicBezTo>
                  <a:pt x="3182" y="9160"/>
                  <a:pt x="3193" y="9243"/>
                  <a:pt x="3150" y="9302"/>
                </a:cubicBezTo>
                <a:cubicBezTo>
                  <a:pt x="3142" y="9313"/>
                  <a:pt x="3037" y="9320"/>
                  <a:pt x="3026" y="9327"/>
                </a:cubicBezTo>
                <a:cubicBezTo>
                  <a:pt x="2906" y="9404"/>
                  <a:pt x="2963" y="9365"/>
                  <a:pt x="2853" y="9327"/>
                </a:cubicBezTo>
                <a:cubicBezTo>
                  <a:pt x="2826" y="9318"/>
                  <a:pt x="2755" y="9305"/>
                  <a:pt x="2729" y="9302"/>
                </a:cubicBezTo>
                <a:cubicBezTo>
                  <a:pt x="2696" y="9302"/>
                  <a:pt x="2687" y="9294"/>
                  <a:pt x="2704" y="9252"/>
                </a:cubicBezTo>
              </a:path>
              <a:path w="6078" h="5259">
                <a:moveTo>
                  <a:pt x="3646" y="8954"/>
                </a:moveTo>
                <a:cubicBezTo>
                  <a:pt x="3654" y="8954"/>
                  <a:pt x="3663" y="8954"/>
                  <a:pt x="3671" y="8954"/>
                </a:cubicBezTo>
                <a:cubicBezTo>
                  <a:pt x="3627" y="8976"/>
                  <a:pt x="3631" y="9004"/>
                  <a:pt x="3572" y="90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39.  Find the vector v with IIvII=7 and direction u=3i +4j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90760" y="1901880"/>
            <a:ext cx="1679400" cy="687240"/>
          </a:xfrm>
          <a:custGeom>
            <a:avLst/>
            <a:gdLst/>
            <a:ahLst/>
            <a:rect l="l" t="t" r="r" b="b"/>
            <a:pathLst>
              <a:path w="4665" h="1911">
                <a:moveTo>
                  <a:pt x="5407" y="5283"/>
                </a:moveTo>
                <a:cubicBezTo>
                  <a:pt x="5347" y="5343"/>
                  <a:pt x="5294" y="5428"/>
                  <a:pt x="5234" y="5482"/>
                </a:cubicBezTo>
                <a:cubicBezTo>
                  <a:pt x="5138" y="5569"/>
                  <a:pt x="5038" y="5675"/>
                  <a:pt x="4936" y="5755"/>
                </a:cubicBezTo>
                <a:cubicBezTo>
                  <a:pt x="4800" y="5862"/>
                  <a:pt x="4657" y="6006"/>
                  <a:pt x="4514" y="6102"/>
                </a:cubicBezTo>
                <a:cubicBezTo>
                  <a:pt x="4420" y="6165"/>
                  <a:pt x="4328" y="6228"/>
                  <a:pt x="4242" y="6300"/>
                </a:cubicBezTo>
                <a:cubicBezTo>
                  <a:pt x="4196" y="6338"/>
                  <a:pt x="4163" y="6376"/>
                  <a:pt x="4142" y="6424"/>
                </a:cubicBezTo>
                <a:cubicBezTo>
                  <a:pt x="4142" y="6432"/>
                  <a:pt x="4142" y="6441"/>
                  <a:pt x="4142" y="6449"/>
                </a:cubicBezTo>
                <a:cubicBezTo>
                  <a:pt x="4207" y="6477"/>
                  <a:pt x="4272" y="6500"/>
                  <a:pt x="4341" y="6524"/>
                </a:cubicBezTo>
                <a:cubicBezTo>
                  <a:pt x="4448" y="6561"/>
                  <a:pt x="4564" y="6616"/>
                  <a:pt x="4663" y="6672"/>
                </a:cubicBezTo>
                <a:cubicBezTo>
                  <a:pt x="4779" y="6737"/>
                  <a:pt x="4897" y="6802"/>
                  <a:pt x="5011" y="6871"/>
                </a:cubicBezTo>
                <a:cubicBezTo>
                  <a:pt x="5080" y="6912"/>
                  <a:pt x="5206" y="6963"/>
                  <a:pt x="5259" y="7020"/>
                </a:cubicBezTo>
                <a:cubicBezTo>
                  <a:pt x="5317" y="7083"/>
                  <a:pt x="5288" y="7068"/>
                  <a:pt x="5358" y="7094"/>
                </a:cubicBezTo>
                <a:cubicBezTo>
                  <a:pt x="5358" y="7061"/>
                  <a:pt x="5358" y="7028"/>
                  <a:pt x="5358" y="6995"/>
                </a:cubicBezTo>
              </a:path>
              <a:path w="4665" h="1911">
                <a:moveTo>
                  <a:pt x="5705" y="5879"/>
                </a:moveTo>
                <a:cubicBezTo>
                  <a:pt x="5769" y="5814"/>
                  <a:pt x="5835" y="5731"/>
                  <a:pt x="5928" y="5705"/>
                </a:cubicBezTo>
                <a:cubicBezTo>
                  <a:pt x="6040" y="5674"/>
                  <a:pt x="6129" y="5663"/>
                  <a:pt x="6226" y="5730"/>
                </a:cubicBezTo>
                <a:cubicBezTo>
                  <a:pt x="6272" y="5762"/>
                  <a:pt x="6287" y="5826"/>
                  <a:pt x="6276" y="5879"/>
                </a:cubicBezTo>
                <a:cubicBezTo>
                  <a:pt x="6259" y="5961"/>
                  <a:pt x="6141" y="6037"/>
                  <a:pt x="6077" y="6077"/>
                </a:cubicBezTo>
                <a:cubicBezTo>
                  <a:pt x="6012" y="6118"/>
                  <a:pt x="5943" y="6157"/>
                  <a:pt x="5879" y="6201"/>
                </a:cubicBezTo>
                <a:cubicBezTo>
                  <a:pt x="5854" y="6226"/>
                  <a:pt x="5846" y="6234"/>
                  <a:pt x="5829" y="6251"/>
                </a:cubicBezTo>
                <a:cubicBezTo>
                  <a:pt x="5936" y="6251"/>
                  <a:pt x="6055" y="6233"/>
                  <a:pt x="6152" y="6276"/>
                </a:cubicBezTo>
                <a:cubicBezTo>
                  <a:pt x="6233" y="6312"/>
                  <a:pt x="6282" y="6345"/>
                  <a:pt x="6325" y="6424"/>
                </a:cubicBezTo>
                <a:cubicBezTo>
                  <a:pt x="6378" y="6522"/>
                  <a:pt x="6396" y="6580"/>
                  <a:pt x="6325" y="6672"/>
                </a:cubicBezTo>
                <a:cubicBezTo>
                  <a:pt x="6275" y="6737"/>
                  <a:pt x="6202" y="6790"/>
                  <a:pt x="6127" y="6821"/>
                </a:cubicBezTo>
                <a:cubicBezTo>
                  <a:pt x="6055" y="6851"/>
                  <a:pt x="5980" y="6892"/>
                  <a:pt x="5904" y="6896"/>
                </a:cubicBezTo>
                <a:cubicBezTo>
                  <a:pt x="5846" y="6899"/>
                  <a:pt x="5844" y="6891"/>
                  <a:pt x="5879" y="6846"/>
                </a:cubicBezTo>
                <a:cubicBezTo>
                  <a:pt x="5887" y="6838"/>
                  <a:pt x="5896" y="6829"/>
                  <a:pt x="5904" y="6821"/>
                </a:cubicBezTo>
              </a:path>
              <a:path w="4665" h="1911">
                <a:moveTo>
                  <a:pt x="6672" y="6722"/>
                </a:moveTo>
                <a:cubicBezTo>
                  <a:pt x="6672" y="6822"/>
                  <a:pt x="6642" y="6878"/>
                  <a:pt x="6623" y="6970"/>
                </a:cubicBezTo>
                <a:cubicBezTo>
                  <a:pt x="6612" y="7023"/>
                  <a:pt x="6601" y="7097"/>
                  <a:pt x="6573" y="7144"/>
                </a:cubicBezTo>
                <a:cubicBezTo>
                  <a:pt x="6552" y="7178"/>
                  <a:pt x="6552" y="7184"/>
                  <a:pt x="6524" y="7193"/>
                </a:cubicBezTo>
                <a:cubicBezTo>
                  <a:pt x="6559" y="7158"/>
                  <a:pt x="6571" y="7136"/>
                  <a:pt x="6573" y="7094"/>
                </a:cubicBezTo>
              </a:path>
              <a:path w="4665" h="1911">
                <a:moveTo>
                  <a:pt x="7069" y="5953"/>
                </a:moveTo>
                <a:cubicBezTo>
                  <a:pt x="7069" y="6002"/>
                  <a:pt x="7058" y="6012"/>
                  <a:pt x="7045" y="6052"/>
                </a:cubicBezTo>
                <a:cubicBezTo>
                  <a:pt x="7032" y="6091"/>
                  <a:pt x="7016" y="6145"/>
                  <a:pt x="6995" y="6176"/>
                </a:cubicBezTo>
                <a:cubicBezTo>
                  <a:pt x="6969" y="6215"/>
                  <a:pt x="6961" y="6250"/>
                  <a:pt x="7020" y="6276"/>
                </a:cubicBezTo>
                <a:cubicBezTo>
                  <a:pt x="7085" y="6305"/>
                  <a:pt x="7227" y="6298"/>
                  <a:pt x="7293" y="6300"/>
                </a:cubicBezTo>
                <a:cubicBezTo>
                  <a:pt x="7374" y="6302"/>
                  <a:pt x="7468" y="6282"/>
                  <a:pt x="7541" y="6251"/>
                </a:cubicBezTo>
                <a:cubicBezTo>
                  <a:pt x="7586" y="6232"/>
                  <a:pt x="7607" y="6209"/>
                  <a:pt x="7640" y="6176"/>
                </a:cubicBezTo>
              </a:path>
              <a:path w="4665" h="1911">
                <a:moveTo>
                  <a:pt x="7640" y="5705"/>
                </a:moveTo>
                <a:cubicBezTo>
                  <a:pt x="7625" y="5806"/>
                  <a:pt x="7594" y="5876"/>
                  <a:pt x="7590" y="5978"/>
                </a:cubicBezTo>
                <a:cubicBezTo>
                  <a:pt x="7586" y="6096"/>
                  <a:pt x="7551" y="6208"/>
                  <a:pt x="7541" y="6325"/>
                </a:cubicBezTo>
                <a:cubicBezTo>
                  <a:pt x="7531" y="6444"/>
                  <a:pt x="7506" y="6555"/>
                  <a:pt x="7491" y="6672"/>
                </a:cubicBezTo>
                <a:cubicBezTo>
                  <a:pt x="7483" y="6734"/>
                  <a:pt x="7466" y="6782"/>
                  <a:pt x="7466" y="6846"/>
                </a:cubicBezTo>
                <a:cubicBezTo>
                  <a:pt x="7426" y="6833"/>
                  <a:pt x="7441" y="6798"/>
                  <a:pt x="7441" y="6747"/>
                </a:cubicBezTo>
              </a:path>
              <a:path w="4665" h="1911">
                <a:moveTo>
                  <a:pt x="7789" y="5333"/>
                </a:moveTo>
                <a:cubicBezTo>
                  <a:pt x="7870" y="5406"/>
                  <a:pt x="7945" y="5450"/>
                  <a:pt x="8037" y="5507"/>
                </a:cubicBezTo>
                <a:cubicBezTo>
                  <a:pt x="8144" y="5574"/>
                  <a:pt x="8249" y="5644"/>
                  <a:pt x="8359" y="5705"/>
                </a:cubicBezTo>
                <a:cubicBezTo>
                  <a:pt x="8457" y="5759"/>
                  <a:pt x="8558" y="5801"/>
                  <a:pt x="8657" y="5854"/>
                </a:cubicBezTo>
                <a:cubicBezTo>
                  <a:pt x="8715" y="5885"/>
                  <a:pt x="8757" y="5911"/>
                  <a:pt x="8806" y="5953"/>
                </a:cubicBezTo>
                <a:cubicBezTo>
                  <a:pt x="8768" y="5977"/>
                  <a:pt x="8742" y="5994"/>
                  <a:pt x="8706" y="6028"/>
                </a:cubicBezTo>
                <a:cubicBezTo>
                  <a:pt x="8641" y="6090"/>
                  <a:pt x="8580" y="6149"/>
                  <a:pt x="8533" y="6226"/>
                </a:cubicBezTo>
                <a:cubicBezTo>
                  <a:pt x="8477" y="6317"/>
                  <a:pt x="8424" y="6413"/>
                  <a:pt x="8359" y="6499"/>
                </a:cubicBezTo>
                <a:cubicBezTo>
                  <a:pt x="8286" y="6596"/>
                  <a:pt x="8211" y="6702"/>
                  <a:pt x="8136" y="6796"/>
                </a:cubicBezTo>
                <a:cubicBezTo>
                  <a:pt x="8072" y="6877"/>
                  <a:pt x="7986" y="6946"/>
                  <a:pt x="7913" y="70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68840" y="1803240"/>
            <a:ext cx="2803320" cy="723960"/>
          </a:xfrm>
          <a:custGeom>
            <a:avLst/>
            <a:gdLst/>
            <a:ahLst/>
            <a:rect l="l" t="t" r="r" b="b"/>
            <a:pathLst>
              <a:path w="7789" h="2010">
                <a:moveTo>
                  <a:pt x="10468" y="5928"/>
                </a:moveTo>
                <a:cubicBezTo>
                  <a:pt x="10619" y="5912"/>
                  <a:pt x="10791" y="5874"/>
                  <a:pt x="10939" y="5928"/>
                </a:cubicBezTo>
                <a:cubicBezTo>
                  <a:pt x="11042" y="5966"/>
                  <a:pt x="11086" y="6024"/>
                  <a:pt x="11112" y="6127"/>
                </a:cubicBezTo>
                <a:cubicBezTo>
                  <a:pt x="11143" y="6251"/>
                  <a:pt x="11134" y="6395"/>
                  <a:pt x="11137" y="6524"/>
                </a:cubicBezTo>
                <a:cubicBezTo>
                  <a:pt x="11139" y="6637"/>
                  <a:pt x="11178" y="6737"/>
                  <a:pt x="11187" y="6846"/>
                </a:cubicBezTo>
                <a:cubicBezTo>
                  <a:pt x="11193" y="6919"/>
                  <a:pt x="11198" y="6959"/>
                  <a:pt x="11212" y="7020"/>
                </a:cubicBezTo>
                <a:cubicBezTo>
                  <a:pt x="11220" y="6962"/>
                  <a:pt x="11235" y="6893"/>
                  <a:pt x="11237" y="6821"/>
                </a:cubicBezTo>
                <a:cubicBezTo>
                  <a:pt x="11241" y="6686"/>
                  <a:pt x="11258" y="6559"/>
                  <a:pt x="11261" y="6424"/>
                </a:cubicBezTo>
                <a:cubicBezTo>
                  <a:pt x="11265" y="6272"/>
                  <a:pt x="11283" y="6128"/>
                  <a:pt x="11286" y="5978"/>
                </a:cubicBezTo>
                <a:cubicBezTo>
                  <a:pt x="11289" y="5843"/>
                  <a:pt x="11292" y="5690"/>
                  <a:pt x="11311" y="5556"/>
                </a:cubicBezTo>
                <a:cubicBezTo>
                  <a:pt x="11329" y="5431"/>
                  <a:pt x="11329" y="5279"/>
                  <a:pt x="11361" y="5159"/>
                </a:cubicBezTo>
                <a:cubicBezTo>
                  <a:pt x="11368" y="5132"/>
                  <a:pt x="11411" y="5051"/>
                  <a:pt x="11435" y="5035"/>
                </a:cubicBezTo>
                <a:cubicBezTo>
                  <a:pt x="11494" y="4996"/>
                  <a:pt x="11499" y="5040"/>
                  <a:pt x="11559" y="5035"/>
                </a:cubicBezTo>
                <a:cubicBezTo>
                  <a:pt x="11663" y="5027"/>
                  <a:pt x="11781" y="5043"/>
                  <a:pt x="11881" y="5060"/>
                </a:cubicBezTo>
                <a:cubicBezTo>
                  <a:pt x="12058" y="5090"/>
                  <a:pt x="12247" y="5101"/>
                  <a:pt x="12427" y="5110"/>
                </a:cubicBezTo>
                <a:cubicBezTo>
                  <a:pt x="12677" y="5122"/>
                  <a:pt x="12923" y="5095"/>
                  <a:pt x="13171" y="5085"/>
                </a:cubicBezTo>
                <a:cubicBezTo>
                  <a:pt x="13460" y="5074"/>
                  <a:pt x="13751" y="5072"/>
                  <a:pt x="14039" y="5060"/>
                </a:cubicBezTo>
                <a:cubicBezTo>
                  <a:pt x="14328" y="5048"/>
                  <a:pt x="14804" y="5060"/>
                  <a:pt x="15007" y="5060"/>
                </a:cubicBezTo>
                <a:cubicBezTo>
                  <a:pt x="14966" y="5060"/>
                  <a:pt x="14941" y="5060"/>
                  <a:pt x="14908" y="5060"/>
                </a:cubicBezTo>
              </a:path>
              <a:path w="7789" h="2010">
                <a:moveTo>
                  <a:pt x="11782" y="5953"/>
                </a:moveTo>
                <a:cubicBezTo>
                  <a:pt x="11838" y="5884"/>
                  <a:pt x="11896" y="5816"/>
                  <a:pt x="11981" y="5779"/>
                </a:cubicBezTo>
                <a:cubicBezTo>
                  <a:pt x="12052" y="5748"/>
                  <a:pt x="12176" y="5692"/>
                  <a:pt x="12254" y="5705"/>
                </a:cubicBezTo>
                <a:cubicBezTo>
                  <a:pt x="12317" y="5716"/>
                  <a:pt x="12404" y="5754"/>
                  <a:pt x="12427" y="5804"/>
                </a:cubicBezTo>
                <a:cubicBezTo>
                  <a:pt x="12467" y="5891"/>
                  <a:pt x="12379" y="5975"/>
                  <a:pt x="12328" y="6028"/>
                </a:cubicBezTo>
                <a:cubicBezTo>
                  <a:pt x="12259" y="6100"/>
                  <a:pt x="12176" y="6155"/>
                  <a:pt x="12105" y="6226"/>
                </a:cubicBezTo>
                <a:cubicBezTo>
                  <a:pt x="12050" y="6281"/>
                  <a:pt x="11988" y="6309"/>
                  <a:pt x="11931" y="6350"/>
                </a:cubicBezTo>
                <a:cubicBezTo>
                  <a:pt x="11968" y="6336"/>
                  <a:pt x="12020" y="6307"/>
                  <a:pt x="12055" y="6300"/>
                </a:cubicBezTo>
                <a:cubicBezTo>
                  <a:pt x="12125" y="6286"/>
                  <a:pt x="12267" y="6287"/>
                  <a:pt x="12328" y="6325"/>
                </a:cubicBezTo>
                <a:cubicBezTo>
                  <a:pt x="12392" y="6365"/>
                  <a:pt x="12421" y="6452"/>
                  <a:pt x="12402" y="6524"/>
                </a:cubicBezTo>
                <a:cubicBezTo>
                  <a:pt x="12371" y="6637"/>
                  <a:pt x="12268" y="6688"/>
                  <a:pt x="12179" y="6747"/>
                </a:cubicBezTo>
                <a:cubicBezTo>
                  <a:pt x="12097" y="6801"/>
                  <a:pt x="12034" y="6880"/>
                  <a:pt x="11931" y="6896"/>
                </a:cubicBezTo>
                <a:cubicBezTo>
                  <a:pt x="11788" y="6918"/>
                  <a:pt x="11834" y="6812"/>
                  <a:pt x="11857" y="6722"/>
                </a:cubicBezTo>
              </a:path>
              <a:path w="7789" h="2010">
                <a:moveTo>
                  <a:pt x="12551" y="5631"/>
                </a:moveTo>
                <a:cubicBezTo>
                  <a:pt x="12648" y="5534"/>
                  <a:pt x="12720" y="5456"/>
                  <a:pt x="12874" y="5482"/>
                </a:cubicBezTo>
                <a:cubicBezTo>
                  <a:pt x="12938" y="5493"/>
                  <a:pt x="12987" y="5569"/>
                  <a:pt x="12973" y="5631"/>
                </a:cubicBezTo>
                <a:cubicBezTo>
                  <a:pt x="12955" y="5713"/>
                  <a:pt x="12880" y="5773"/>
                  <a:pt x="12824" y="5829"/>
                </a:cubicBezTo>
                <a:cubicBezTo>
                  <a:pt x="12814" y="5839"/>
                  <a:pt x="12670" y="5934"/>
                  <a:pt x="12675" y="5953"/>
                </a:cubicBezTo>
                <a:cubicBezTo>
                  <a:pt x="12682" y="5979"/>
                  <a:pt x="12793" y="5930"/>
                  <a:pt x="12799" y="5928"/>
                </a:cubicBezTo>
              </a:path>
              <a:path w="7789" h="2010">
                <a:moveTo>
                  <a:pt x="13221" y="5854"/>
                </a:moveTo>
                <a:cubicBezTo>
                  <a:pt x="13192" y="5955"/>
                  <a:pt x="13171" y="6023"/>
                  <a:pt x="13171" y="6127"/>
                </a:cubicBezTo>
                <a:cubicBezTo>
                  <a:pt x="13171" y="6211"/>
                  <a:pt x="13175" y="6279"/>
                  <a:pt x="13196" y="6350"/>
                </a:cubicBezTo>
                <a:cubicBezTo>
                  <a:pt x="13196" y="6358"/>
                  <a:pt x="13196" y="6367"/>
                  <a:pt x="13196" y="6375"/>
                </a:cubicBezTo>
              </a:path>
              <a:path w="7789" h="2010">
                <a:moveTo>
                  <a:pt x="12898" y="6201"/>
                </a:moveTo>
                <a:cubicBezTo>
                  <a:pt x="12995" y="6201"/>
                  <a:pt x="13080" y="6166"/>
                  <a:pt x="13171" y="6152"/>
                </a:cubicBezTo>
                <a:cubicBezTo>
                  <a:pt x="13247" y="6152"/>
                  <a:pt x="13273" y="6152"/>
                  <a:pt x="13320" y="6127"/>
                </a:cubicBezTo>
              </a:path>
              <a:path w="7789" h="2010">
                <a:moveTo>
                  <a:pt x="13692" y="5854"/>
                </a:moveTo>
                <a:cubicBezTo>
                  <a:pt x="13639" y="5930"/>
                  <a:pt x="13628" y="5978"/>
                  <a:pt x="13593" y="6052"/>
                </a:cubicBezTo>
                <a:cubicBezTo>
                  <a:pt x="13568" y="6106"/>
                  <a:pt x="13553" y="6123"/>
                  <a:pt x="13593" y="6152"/>
                </a:cubicBezTo>
                <a:cubicBezTo>
                  <a:pt x="13669" y="6207"/>
                  <a:pt x="13679" y="6181"/>
                  <a:pt x="13767" y="6176"/>
                </a:cubicBezTo>
                <a:cubicBezTo>
                  <a:pt x="13842" y="6172"/>
                  <a:pt x="13929" y="6150"/>
                  <a:pt x="13990" y="6102"/>
                </a:cubicBezTo>
                <a:cubicBezTo>
                  <a:pt x="14006" y="6085"/>
                  <a:pt x="14023" y="6069"/>
                  <a:pt x="14039" y="6052"/>
                </a:cubicBezTo>
              </a:path>
              <a:path w="7789" h="2010">
                <a:moveTo>
                  <a:pt x="13965" y="5804"/>
                </a:moveTo>
                <a:cubicBezTo>
                  <a:pt x="13946" y="5961"/>
                  <a:pt x="13928" y="6121"/>
                  <a:pt x="13915" y="6276"/>
                </a:cubicBezTo>
                <a:cubicBezTo>
                  <a:pt x="13902" y="6426"/>
                  <a:pt x="13885" y="6576"/>
                  <a:pt x="13866" y="6722"/>
                </a:cubicBezTo>
                <a:cubicBezTo>
                  <a:pt x="13860" y="6766"/>
                  <a:pt x="13866" y="7007"/>
                  <a:pt x="13866" y="6772"/>
                </a:cubicBezTo>
                <a:cubicBezTo>
                  <a:pt x="13866" y="6755"/>
                  <a:pt x="13866" y="6739"/>
                  <a:pt x="13866" y="6722"/>
                </a:cubicBezTo>
              </a:path>
              <a:path w="7789" h="2010">
                <a:moveTo>
                  <a:pt x="14263" y="5531"/>
                </a:moveTo>
                <a:cubicBezTo>
                  <a:pt x="14392" y="5448"/>
                  <a:pt x="14353" y="5445"/>
                  <a:pt x="14486" y="5482"/>
                </a:cubicBezTo>
                <a:cubicBezTo>
                  <a:pt x="14486" y="5541"/>
                  <a:pt x="14462" y="5578"/>
                  <a:pt x="14436" y="5631"/>
                </a:cubicBezTo>
                <a:cubicBezTo>
                  <a:pt x="14399" y="5705"/>
                  <a:pt x="14361" y="5744"/>
                  <a:pt x="14312" y="5804"/>
                </a:cubicBezTo>
                <a:cubicBezTo>
                  <a:pt x="14278" y="5845"/>
                  <a:pt x="14268" y="5887"/>
                  <a:pt x="14337" y="5904"/>
                </a:cubicBezTo>
                <a:cubicBezTo>
                  <a:pt x="14416" y="5924"/>
                  <a:pt x="14506" y="5883"/>
                  <a:pt x="14585" y="5879"/>
                </a:cubicBezTo>
                <a:cubicBezTo>
                  <a:pt x="14635" y="5879"/>
                  <a:pt x="14651" y="5879"/>
                  <a:pt x="14684" y="5879"/>
                </a:cubicBezTo>
              </a:path>
              <a:path w="7789" h="2010">
                <a:moveTo>
                  <a:pt x="14734" y="6102"/>
                </a:moveTo>
                <a:cubicBezTo>
                  <a:pt x="14792" y="6102"/>
                  <a:pt x="14850" y="6102"/>
                  <a:pt x="14908" y="6102"/>
                </a:cubicBezTo>
              </a:path>
              <a:path w="7789" h="2010">
                <a:moveTo>
                  <a:pt x="14684" y="6400"/>
                </a:moveTo>
                <a:cubicBezTo>
                  <a:pt x="14785" y="6400"/>
                  <a:pt x="14837" y="6385"/>
                  <a:pt x="14932" y="6350"/>
                </a:cubicBezTo>
              </a:path>
              <a:path w="7789" h="2010">
                <a:moveTo>
                  <a:pt x="15379" y="5978"/>
                </a:moveTo>
                <a:cubicBezTo>
                  <a:pt x="15373" y="6134"/>
                  <a:pt x="15346" y="6252"/>
                  <a:pt x="15329" y="6400"/>
                </a:cubicBezTo>
                <a:cubicBezTo>
                  <a:pt x="15319" y="6490"/>
                  <a:pt x="15309" y="6583"/>
                  <a:pt x="15304" y="6672"/>
                </a:cubicBezTo>
                <a:cubicBezTo>
                  <a:pt x="15302" y="6719"/>
                  <a:pt x="15294" y="6733"/>
                  <a:pt x="15280" y="6772"/>
                </a:cubicBezTo>
                <a:cubicBezTo>
                  <a:pt x="15290" y="6691"/>
                  <a:pt x="15291" y="6606"/>
                  <a:pt x="15304" y="6524"/>
                </a:cubicBezTo>
                <a:cubicBezTo>
                  <a:pt x="15328" y="6368"/>
                  <a:pt x="15350" y="6210"/>
                  <a:pt x="15354" y="6052"/>
                </a:cubicBezTo>
                <a:cubicBezTo>
                  <a:pt x="15357" y="5931"/>
                  <a:pt x="15391" y="5822"/>
                  <a:pt x="15404" y="5705"/>
                </a:cubicBezTo>
                <a:cubicBezTo>
                  <a:pt x="15417" y="5593"/>
                  <a:pt x="15442" y="5573"/>
                  <a:pt x="15503" y="5482"/>
                </a:cubicBezTo>
                <a:cubicBezTo>
                  <a:pt x="15578" y="5370"/>
                  <a:pt x="15746" y="5343"/>
                  <a:pt x="15875" y="5308"/>
                </a:cubicBezTo>
                <a:cubicBezTo>
                  <a:pt x="16019" y="5269"/>
                  <a:pt x="16174" y="5245"/>
                  <a:pt x="16321" y="5234"/>
                </a:cubicBezTo>
                <a:cubicBezTo>
                  <a:pt x="16450" y="5225"/>
                  <a:pt x="16569" y="5226"/>
                  <a:pt x="16694" y="5209"/>
                </a:cubicBezTo>
                <a:cubicBezTo>
                  <a:pt x="16714" y="5206"/>
                  <a:pt x="16805" y="5209"/>
                  <a:pt x="16694" y="5209"/>
                </a:cubicBezTo>
              </a:path>
              <a:path w="7789" h="2010">
                <a:moveTo>
                  <a:pt x="15701" y="5879"/>
                </a:moveTo>
                <a:cubicBezTo>
                  <a:pt x="15645" y="5916"/>
                  <a:pt x="15599" y="5933"/>
                  <a:pt x="15652" y="5928"/>
                </a:cubicBezTo>
                <a:cubicBezTo>
                  <a:pt x="15699" y="5902"/>
                  <a:pt x="15747" y="5864"/>
                  <a:pt x="15801" y="5854"/>
                </a:cubicBezTo>
                <a:cubicBezTo>
                  <a:pt x="15855" y="5844"/>
                  <a:pt x="15916" y="5857"/>
                  <a:pt x="15949" y="5904"/>
                </a:cubicBezTo>
                <a:cubicBezTo>
                  <a:pt x="16014" y="5995"/>
                  <a:pt x="15993" y="6152"/>
                  <a:pt x="15974" y="6251"/>
                </a:cubicBezTo>
                <a:cubicBezTo>
                  <a:pt x="15956" y="6344"/>
                  <a:pt x="15908" y="6451"/>
                  <a:pt x="15850" y="6524"/>
                </a:cubicBezTo>
                <a:cubicBezTo>
                  <a:pt x="15820" y="6562"/>
                  <a:pt x="15723" y="6636"/>
                  <a:pt x="15677" y="6648"/>
                </a:cubicBezTo>
                <a:cubicBezTo>
                  <a:pt x="15624" y="6662"/>
                  <a:pt x="15581" y="6642"/>
                  <a:pt x="15553" y="6598"/>
                </a:cubicBezTo>
                <a:cubicBezTo>
                  <a:pt x="15516" y="6540"/>
                  <a:pt x="15550" y="6461"/>
                  <a:pt x="15577" y="6400"/>
                </a:cubicBezTo>
                <a:cubicBezTo>
                  <a:pt x="15618" y="6307"/>
                  <a:pt x="15687" y="6325"/>
                  <a:pt x="15776" y="6325"/>
                </a:cubicBezTo>
                <a:cubicBezTo>
                  <a:pt x="15856" y="6325"/>
                  <a:pt x="15925" y="6358"/>
                  <a:pt x="15999" y="6375"/>
                </a:cubicBezTo>
                <a:cubicBezTo>
                  <a:pt x="16057" y="6388"/>
                  <a:pt x="16102" y="6378"/>
                  <a:pt x="16123" y="6350"/>
                </a:cubicBezTo>
                <a:cubicBezTo>
                  <a:pt x="16151" y="6322"/>
                  <a:pt x="16160" y="6309"/>
                  <a:pt x="16148" y="6276"/>
                </a:cubicBezTo>
              </a:path>
              <a:path w="7789" h="2010">
                <a:moveTo>
                  <a:pt x="16321" y="5854"/>
                </a:moveTo>
                <a:cubicBezTo>
                  <a:pt x="16427" y="5810"/>
                  <a:pt x="16526" y="5771"/>
                  <a:pt x="16619" y="5705"/>
                </a:cubicBezTo>
              </a:path>
              <a:path w="7789" h="2010">
                <a:moveTo>
                  <a:pt x="16197" y="5953"/>
                </a:moveTo>
                <a:cubicBezTo>
                  <a:pt x="16182" y="5975"/>
                  <a:pt x="16067" y="6086"/>
                  <a:pt x="16148" y="6127"/>
                </a:cubicBezTo>
                <a:cubicBezTo>
                  <a:pt x="16233" y="6169"/>
                  <a:pt x="16359" y="6106"/>
                  <a:pt x="16446" y="6152"/>
                </a:cubicBezTo>
                <a:cubicBezTo>
                  <a:pt x="16514" y="6188"/>
                  <a:pt x="16533" y="6252"/>
                  <a:pt x="16545" y="6325"/>
                </a:cubicBezTo>
                <a:cubicBezTo>
                  <a:pt x="16562" y="6429"/>
                  <a:pt x="16521" y="6435"/>
                  <a:pt x="16470" y="6499"/>
                </a:cubicBezTo>
                <a:cubicBezTo>
                  <a:pt x="16413" y="6571"/>
                  <a:pt x="16399" y="6597"/>
                  <a:pt x="16297" y="6623"/>
                </a:cubicBezTo>
                <a:cubicBezTo>
                  <a:pt x="16250" y="6635"/>
                  <a:pt x="16206" y="6628"/>
                  <a:pt x="16173" y="6598"/>
                </a:cubicBezTo>
                <a:cubicBezTo>
                  <a:pt x="16128" y="6557"/>
                  <a:pt x="16148" y="6540"/>
                  <a:pt x="16173" y="6499"/>
                </a:cubicBezTo>
              </a:path>
              <a:path w="7789" h="2010">
                <a:moveTo>
                  <a:pt x="16892" y="6077"/>
                </a:moveTo>
                <a:cubicBezTo>
                  <a:pt x="17004" y="6070"/>
                  <a:pt x="17063" y="6051"/>
                  <a:pt x="17165" y="6028"/>
                </a:cubicBezTo>
                <a:cubicBezTo>
                  <a:pt x="17190" y="6028"/>
                  <a:pt x="17198" y="6028"/>
                  <a:pt x="17214" y="6028"/>
                </a:cubicBezTo>
              </a:path>
              <a:path w="7789" h="2010">
                <a:moveTo>
                  <a:pt x="16842" y="6325"/>
                </a:moveTo>
                <a:cubicBezTo>
                  <a:pt x="16969" y="6317"/>
                  <a:pt x="17044" y="6291"/>
                  <a:pt x="17165" y="6251"/>
                </a:cubicBezTo>
              </a:path>
              <a:path w="7789" h="2010">
                <a:moveTo>
                  <a:pt x="17735" y="5606"/>
                </a:moveTo>
                <a:cubicBezTo>
                  <a:pt x="17849" y="5589"/>
                  <a:pt x="18018" y="5586"/>
                  <a:pt x="18132" y="5556"/>
                </a:cubicBezTo>
                <a:cubicBezTo>
                  <a:pt x="18178" y="5544"/>
                  <a:pt x="18218" y="5529"/>
                  <a:pt x="18256" y="5507"/>
                </a:cubicBezTo>
              </a:path>
              <a:path w="7789" h="2010">
                <a:moveTo>
                  <a:pt x="17760" y="5680"/>
                </a:moveTo>
                <a:cubicBezTo>
                  <a:pt x="17734" y="5711"/>
                  <a:pt x="17574" y="5840"/>
                  <a:pt x="17611" y="5928"/>
                </a:cubicBezTo>
                <a:cubicBezTo>
                  <a:pt x="17627" y="5967"/>
                  <a:pt x="17679" y="5953"/>
                  <a:pt x="17711" y="5953"/>
                </a:cubicBezTo>
                <a:cubicBezTo>
                  <a:pt x="17770" y="5953"/>
                  <a:pt x="17808" y="5914"/>
                  <a:pt x="17859" y="5904"/>
                </a:cubicBezTo>
                <a:cubicBezTo>
                  <a:pt x="17936" y="5889"/>
                  <a:pt x="17992" y="5920"/>
                  <a:pt x="18058" y="5953"/>
                </a:cubicBezTo>
                <a:cubicBezTo>
                  <a:pt x="18131" y="5990"/>
                  <a:pt x="18227" y="6110"/>
                  <a:pt x="18207" y="6201"/>
                </a:cubicBezTo>
                <a:cubicBezTo>
                  <a:pt x="18195" y="6253"/>
                  <a:pt x="18120" y="6367"/>
                  <a:pt x="18083" y="6400"/>
                </a:cubicBezTo>
                <a:cubicBezTo>
                  <a:pt x="18032" y="6445"/>
                  <a:pt x="17900" y="6467"/>
                  <a:pt x="17835" y="6474"/>
                </a:cubicBezTo>
                <a:cubicBezTo>
                  <a:pt x="17755" y="6483"/>
                  <a:pt x="17668" y="6474"/>
                  <a:pt x="17587" y="64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38240" y="2463840"/>
            <a:ext cx="776520" cy="403200"/>
          </a:xfrm>
          <a:custGeom>
            <a:avLst/>
            <a:gdLst/>
            <a:ahLst/>
            <a:rect l="l" t="t" r="r" b="b"/>
            <a:pathLst>
              <a:path w="2159" h="1117">
                <a:moveTo>
                  <a:pt x="5383" y="7169"/>
                </a:moveTo>
                <a:cubicBezTo>
                  <a:pt x="5481" y="7124"/>
                  <a:pt x="5582" y="7094"/>
                  <a:pt x="5680" y="7045"/>
                </a:cubicBezTo>
                <a:cubicBezTo>
                  <a:pt x="5786" y="6992"/>
                  <a:pt x="5889" y="6959"/>
                  <a:pt x="6003" y="6921"/>
                </a:cubicBezTo>
                <a:cubicBezTo>
                  <a:pt x="6077" y="6897"/>
                  <a:pt x="6134" y="6873"/>
                  <a:pt x="6201" y="6846"/>
                </a:cubicBezTo>
                <a:cubicBezTo>
                  <a:pt x="6226" y="6846"/>
                  <a:pt x="6234" y="6846"/>
                  <a:pt x="6201" y="6846"/>
                </a:cubicBezTo>
              </a:path>
              <a:path w="2159" h="1117">
                <a:moveTo>
                  <a:pt x="5680" y="7243"/>
                </a:moveTo>
                <a:cubicBezTo>
                  <a:pt x="5762" y="7232"/>
                  <a:pt x="5944" y="7228"/>
                  <a:pt x="6028" y="7193"/>
                </a:cubicBezTo>
                <a:cubicBezTo>
                  <a:pt x="6061" y="7179"/>
                  <a:pt x="6065" y="7153"/>
                  <a:pt x="6102" y="7144"/>
                </a:cubicBezTo>
              </a:path>
              <a:path w="2159" h="1117">
                <a:moveTo>
                  <a:pt x="5755" y="7342"/>
                </a:moveTo>
                <a:cubicBezTo>
                  <a:pt x="5705" y="7433"/>
                  <a:pt x="5680" y="7458"/>
                  <a:pt x="5755" y="7541"/>
                </a:cubicBezTo>
                <a:cubicBezTo>
                  <a:pt x="5785" y="7575"/>
                  <a:pt x="5837" y="7577"/>
                  <a:pt x="5879" y="7590"/>
                </a:cubicBezTo>
                <a:cubicBezTo>
                  <a:pt x="5940" y="7608"/>
                  <a:pt x="6049" y="7645"/>
                  <a:pt x="6077" y="7714"/>
                </a:cubicBezTo>
                <a:cubicBezTo>
                  <a:pt x="6105" y="7782"/>
                  <a:pt x="6066" y="7828"/>
                  <a:pt x="6028" y="7863"/>
                </a:cubicBezTo>
                <a:cubicBezTo>
                  <a:pt x="5976" y="7910"/>
                  <a:pt x="5899" y="7949"/>
                  <a:pt x="5829" y="7962"/>
                </a:cubicBezTo>
                <a:cubicBezTo>
                  <a:pt x="5780" y="7971"/>
                  <a:pt x="5695" y="7963"/>
                  <a:pt x="5655" y="7938"/>
                </a:cubicBezTo>
                <a:cubicBezTo>
                  <a:pt x="5604" y="7907"/>
                  <a:pt x="5636" y="7871"/>
                  <a:pt x="5655" y="7838"/>
                </a:cubicBezTo>
              </a:path>
              <a:path w="2159" h="1117">
                <a:moveTo>
                  <a:pt x="6921" y="7119"/>
                </a:moveTo>
                <a:cubicBezTo>
                  <a:pt x="7039" y="7086"/>
                  <a:pt x="7129" y="7038"/>
                  <a:pt x="7243" y="6995"/>
                </a:cubicBezTo>
                <a:cubicBezTo>
                  <a:pt x="7313" y="6968"/>
                  <a:pt x="7373" y="6943"/>
                  <a:pt x="7441" y="6921"/>
                </a:cubicBezTo>
                <a:cubicBezTo>
                  <a:pt x="7466" y="6921"/>
                  <a:pt x="7474" y="6921"/>
                  <a:pt x="7466" y="6896"/>
                </a:cubicBezTo>
              </a:path>
              <a:path w="2159" h="1117">
                <a:moveTo>
                  <a:pt x="7094" y="7268"/>
                </a:moveTo>
                <a:cubicBezTo>
                  <a:pt x="7202" y="7268"/>
                  <a:pt x="7318" y="7285"/>
                  <a:pt x="7417" y="7243"/>
                </a:cubicBezTo>
                <a:cubicBezTo>
                  <a:pt x="7433" y="7235"/>
                  <a:pt x="7450" y="7226"/>
                  <a:pt x="7466" y="7218"/>
                </a:cubicBezTo>
              </a:path>
              <a:path w="2159" h="1117">
                <a:moveTo>
                  <a:pt x="7243" y="7268"/>
                </a:moveTo>
                <a:cubicBezTo>
                  <a:pt x="7171" y="7340"/>
                  <a:pt x="7138" y="7335"/>
                  <a:pt x="7144" y="7392"/>
                </a:cubicBezTo>
                <a:cubicBezTo>
                  <a:pt x="7197" y="7445"/>
                  <a:pt x="7227" y="7444"/>
                  <a:pt x="7293" y="7466"/>
                </a:cubicBezTo>
                <a:cubicBezTo>
                  <a:pt x="7350" y="7485"/>
                  <a:pt x="7473" y="7519"/>
                  <a:pt x="7516" y="7565"/>
                </a:cubicBezTo>
                <a:cubicBezTo>
                  <a:pt x="7573" y="7626"/>
                  <a:pt x="7533" y="7669"/>
                  <a:pt x="7491" y="7714"/>
                </a:cubicBezTo>
                <a:cubicBezTo>
                  <a:pt x="7430" y="7780"/>
                  <a:pt x="7345" y="7772"/>
                  <a:pt x="7268" y="7789"/>
                </a:cubicBezTo>
                <a:cubicBezTo>
                  <a:pt x="7185" y="7808"/>
                  <a:pt x="7102" y="7841"/>
                  <a:pt x="7020" y="78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52760" y="3214800"/>
            <a:ext cx="758520" cy="884160"/>
          </a:xfrm>
          <a:custGeom>
            <a:avLst/>
            <a:gdLst/>
            <a:ahLst/>
            <a:rect l="l" t="t" r="r" b="b"/>
            <a:pathLst>
              <a:path w="2109" h="2456">
                <a:moveTo>
                  <a:pt x="5655" y="8930"/>
                </a:moveTo>
                <a:cubicBezTo>
                  <a:pt x="5588" y="9011"/>
                  <a:pt x="5516" y="9084"/>
                  <a:pt x="5432" y="9153"/>
                </a:cubicBezTo>
                <a:cubicBezTo>
                  <a:pt x="5257" y="9296"/>
                  <a:pt x="5075" y="9422"/>
                  <a:pt x="4887" y="9550"/>
                </a:cubicBezTo>
                <a:cubicBezTo>
                  <a:pt x="4830" y="9589"/>
                  <a:pt x="4665" y="9713"/>
                  <a:pt x="4638" y="9748"/>
                </a:cubicBezTo>
                <a:cubicBezTo>
                  <a:pt x="4603" y="9794"/>
                  <a:pt x="4567" y="9913"/>
                  <a:pt x="4589" y="9971"/>
                </a:cubicBezTo>
                <a:cubicBezTo>
                  <a:pt x="4630" y="10079"/>
                  <a:pt x="4703" y="10147"/>
                  <a:pt x="4787" y="10220"/>
                </a:cubicBezTo>
                <a:cubicBezTo>
                  <a:pt x="4904" y="10322"/>
                  <a:pt x="4974" y="10468"/>
                  <a:pt x="5060" y="10592"/>
                </a:cubicBezTo>
                <a:cubicBezTo>
                  <a:pt x="5128" y="10691"/>
                  <a:pt x="5196" y="10787"/>
                  <a:pt x="5259" y="10889"/>
                </a:cubicBezTo>
                <a:cubicBezTo>
                  <a:pt x="5292" y="10943"/>
                  <a:pt x="5303" y="11015"/>
                  <a:pt x="5333" y="11063"/>
                </a:cubicBezTo>
                <a:cubicBezTo>
                  <a:pt x="5333" y="11055"/>
                  <a:pt x="5333" y="11046"/>
                  <a:pt x="5333" y="11038"/>
                </a:cubicBezTo>
              </a:path>
              <a:path w="2109" h="2456">
                <a:moveTo>
                  <a:pt x="5953" y="9178"/>
                </a:moveTo>
                <a:cubicBezTo>
                  <a:pt x="6156" y="9090"/>
                  <a:pt x="6117" y="9099"/>
                  <a:pt x="6276" y="9153"/>
                </a:cubicBezTo>
                <a:cubicBezTo>
                  <a:pt x="6320" y="9153"/>
                  <a:pt x="6334" y="9150"/>
                  <a:pt x="6350" y="9178"/>
                </a:cubicBezTo>
                <a:cubicBezTo>
                  <a:pt x="6342" y="9232"/>
                  <a:pt x="6303" y="9343"/>
                  <a:pt x="6251" y="9376"/>
                </a:cubicBezTo>
                <a:cubicBezTo>
                  <a:pt x="6205" y="9405"/>
                  <a:pt x="6102" y="9432"/>
                  <a:pt x="6052" y="9451"/>
                </a:cubicBezTo>
                <a:cubicBezTo>
                  <a:pt x="6009" y="9472"/>
                  <a:pt x="5997" y="9476"/>
                  <a:pt x="5978" y="9500"/>
                </a:cubicBezTo>
                <a:cubicBezTo>
                  <a:pt x="6015" y="9512"/>
                  <a:pt x="6045" y="9509"/>
                  <a:pt x="6102" y="9525"/>
                </a:cubicBezTo>
                <a:cubicBezTo>
                  <a:pt x="6179" y="9546"/>
                  <a:pt x="6289" y="9567"/>
                  <a:pt x="6350" y="9624"/>
                </a:cubicBezTo>
                <a:cubicBezTo>
                  <a:pt x="6389" y="9661"/>
                  <a:pt x="6436" y="9779"/>
                  <a:pt x="6424" y="9823"/>
                </a:cubicBezTo>
                <a:cubicBezTo>
                  <a:pt x="6409" y="9877"/>
                  <a:pt x="6293" y="9955"/>
                  <a:pt x="6251" y="9971"/>
                </a:cubicBezTo>
                <a:cubicBezTo>
                  <a:pt x="6183" y="9997"/>
                  <a:pt x="6055" y="9971"/>
                  <a:pt x="5978" y="9971"/>
                </a:cubicBezTo>
              </a:path>
              <a:path w="2109" h="2456">
                <a:moveTo>
                  <a:pt x="5581" y="10120"/>
                </a:moveTo>
                <a:cubicBezTo>
                  <a:pt x="5701" y="10153"/>
                  <a:pt x="5825" y="10145"/>
                  <a:pt x="5953" y="10145"/>
                </a:cubicBezTo>
                <a:cubicBezTo>
                  <a:pt x="6176" y="10145"/>
                  <a:pt x="6796" y="10145"/>
                  <a:pt x="6573" y="10145"/>
                </a:cubicBezTo>
              </a:path>
              <a:path w="2109" h="2456">
                <a:moveTo>
                  <a:pt x="6102" y="10443"/>
                </a:moveTo>
                <a:cubicBezTo>
                  <a:pt x="6193" y="10443"/>
                  <a:pt x="6284" y="10443"/>
                  <a:pt x="6375" y="10443"/>
                </a:cubicBezTo>
              </a:path>
              <a:path w="2109" h="2456">
                <a:moveTo>
                  <a:pt x="6201" y="10368"/>
                </a:moveTo>
                <a:cubicBezTo>
                  <a:pt x="6154" y="10401"/>
                  <a:pt x="6069" y="10455"/>
                  <a:pt x="6052" y="10517"/>
                </a:cubicBezTo>
                <a:cubicBezTo>
                  <a:pt x="6037" y="10574"/>
                  <a:pt x="6009" y="10614"/>
                  <a:pt x="6003" y="10691"/>
                </a:cubicBezTo>
                <a:cubicBezTo>
                  <a:pt x="6003" y="10699"/>
                  <a:pt x="6003" y="10708"/>
                  <a:pt x="6003" y="10716"/>
                </a:cubicBezTo>
                <a:cubicBezTo>
                  <a:pt x="6051" y="10716"/>
                  <a:pt x="6111" y="10676"/>
                  <a:pt x="6152" y="10691"/>
                </a:cubicBezTo>
                <a:cubicBezTo>
                  <a:pt x="6194" y="10707"/>
                  <a:pt x="6268" y="10720"/>
                  <a:pt x="6300" y="10765"/>
                </a:cubicBezTo>
                <a:cubicBezTo>
                  <a:pt x="6333" y="10811"/>
                  <a:pt x="6387" y="10883"/>
                  <a:pt x="6400" y="10939"/>
                </a:cubicBezTo>
                <a:cubicBezTo>
                  <a:pt x="6415" y="11005"/>
                  <a:pt x="6353" y="11081"/>
                  <a:pt x="6325" y="11137"/>
                </a:cubicBezTo>
                <a:cubicBezTo>
                  <a:pt x="6282" y="11222"/>
                  <a:pt x="6230" y="11212"/>
                  <a:pt x="6152" y="11237"/>
                </a:cubicBezTo>
                <a:cubicBezTo>
                  <a:pt x="6072" y="11263"/>
                  <a:pt x="6050" y="11258"/>
                  <a:pt x="5978" y="11237"/>
                </a:cubicBezTo>
                <a:cubicBezTo>
                  <a:pt x="5938" y="11225"/>
                  <a:pt x="5938" y="11228"/>
                  <a:pt x="5928" y="11187"/>
                </a:cubicBezTo>
              </a:path>
              <a:path w="2109" h="2456">
                <a:moveTo>
                  <a:pt x="6697" y="11137"/>
                </a:moveTo>
                <a:cubicBezTo>
                  <a:pt x="6688" y="11247"/>
                  <a:pt x="6674" y="11311"/>
                  <a:pt x="6573" y="11385"/>
                </a:cubicBezTo>
                <a:cubicBezTo>
                  <a:pt x="6535" y="11412"/>
                  <a:pt x="6574" y="11326"/>
                  <a:pt x="6598" y="112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0160" y="3295800"/>
            <a:ext cx="304920" cy="347400"/>
          </a:xfrm>
          <a:custGeom>
            <a:avLst/>
            <a:gdLst/>
            <a:ahLst/>
            <a:rect l="l" t="t" r="r" b="b"/>
            <a:pathLst>
              <a:path w="844" h="968">
                <a:moveTo>
                  <a:pt x="2332" y="9153"/>
                </a:moveTo>
                <a:cubicBezTo>
                  <a:pt x="2390" y="9153"/>
                  <a:pt x="2398" y="9153"/>
                  <a:pt x="2456" y="9153"/>
                </a:cubicBezTo>
                <a:cubicBezTo>
                  <a:pt x="2603" y="9153"/>
                  <a:pt x="2987" y="9086"/>
                  <a:pt x="3101" y="9178"/>
                </a:cubicBezTo>
                <a:cubicBezTo>
                  <a:pt x="3163" y="9228"/>
                  <a:pt x="3147" y="9224"/>
                  <a:pt x="3125" y="9302"/>
                </a:cubicBezTo>
                <a:cubicBezTo>
                  <a:pt x="3101" y="9386"/>
                  <a:pt x="3079" y="9467"/>
                  <a:pt x="3051" y="9550"/>
                </a:cubicBezTo>
                <a:cubicBezTo>
                  <a:pt x="3005" y="9687"/>
                  <a:pt x="2973" y="9844"/>
                  <a:pt x="2927" y="9971"/>
                </a:cubicBezTo>
                <a:cubicBezTo>
                  <a:pt x="2916" y="10002"/>
                  <a:pt x="2918" y="10091"/>
                  <a:pt x="2902" y="10120"/>
                </a:cubicBezTo>
                <a:cubicBezTo>
                  <a:pt x="2894" y="10120"/>
                  <a:pt x="2885" y="10120"/>
                  <a:pt x="2877" y="101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55840" y="3616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043" y="10046"/>
                </a:moveTo>
                <a:lnTo>
                  <a:pt x="4043" y="10046"/>
                </a:lnTo>
                <a:lnTo>
                  <a:pt x="4043" y="10046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33760" y="3295800"/>
            <a:ext cx="858600" cy="741240"/>
          </a:xfrm>
          <a:custGeom>
            <a:avLst/>
            <a:gdLst/>
            <a:ahLst/>
            <a:rect l="l" t="t" r="r" b="b"/>
            <a:pathLst>
              <a:path w="2383" h="2060">
                <a:moveTo>
                  <a:pt x="7441" y="9252"/>
                </a:moveTo>
                <a:cubicBezTo>
                  <a:pt x="7432" y="9336"/>
                  <a:pt x="7385" y="9377"/>
                  <a:pt x="7367" y="9451"/>
                </a:cubicBezTo>
                <a:cubicBezTo>
                  <a:pt x="7354" y="9504"/>
                  <a:pt x="7328" y="9575"/>
                  <a:pt x="7317" y="9599"/>
                </a:cubicBezTo>
                <a:cubicBezTo>
                  <a:pt x="7292" y="9658"/>
                  <a:pt x="7351" y="9674"/>
                  <a:pt x="7392" y="9674"/>
                </a:cubicBezTo>
                <a:cubicBezTo>
                  <a:pt x="7483" y="9674"/>
                  <a:pt x="7574" y="9674"/>
                  <a:pt x="7665" y="9674"/>
                </a:cubicBezTo>
              </a:path>
              <a:path w="2383" h="2060">
                <a:moveTo>
                  <a:pt x="7863" y="9153"/>
                </a:moveTo>
                <a:cubicBezTo>
                  <a:pt x="7820" y="9185"/>
                  <a:pt x="7804" y="9261"/>
                  <a:pt x="7789" y="9327"/>
                </a:cubicBezTo>
                <a:cubicBezTo>
                  <a:pt x="7764" y="9439"/>
                  <a:pt x="7743" y="9560"/>
                  <a:pt x="7739" y="9674"/>
                </a:cubicBezTo>
                <a:cubicBezTo>
                  <a:pt x="7735" y="9773"/>
                  <a:pt x="7739" y="9872"/>
                  <a:pt x="7739" y="9971"/>
                </a:cubicBezTo>
              </a:path>
              <a:path w="2383" h="2060">
                <a:moveTo>
                  <a:pt x="7317" y="10071"/>
                </a:moveTo>
                <a:cubicBezTo>
                  <a:pt x="7491" y="10071"/>
                  <a:pt x="7772" y="10140"/>
                  <a:pt x="7913" y="10120"/>
                </a:cubicBezTo>
                <a:cubicBezTo>
                  <a:pt x="7976" y="10078"/>
                  <a:pt x="7988" y="10062"/>
                  <a:pt x="8037" y="10071"/>
                </a:cubicBezTo>
              </a:path>
              <a:path w="2383" h="2060">
                <a:moveTo>
                  <a:pt x="7590" y="10368"/>
                </a:moveTo>
                <a:cubicBezTo>
                  <a:pt x="7717" y="10445"/>
                  <a:pt x="7725" y="10406"/>
                  <a:pt x="7838" y="10368"/>
                </a:cubicBezTo>
                <a:cubicBezTo>
                  <a:pt x="7855" y="10368"/>
                  <a:pt x="7871" y="10368"/>
                  <a:pt x="7888" y="10368"/>
                </a:cubicBezTo>
              </a:path>
              <a:path w="2383" h="2060">
                <a:moveTo>
                  <a:pt x="7665" y="10418"/>
                </a:moveTo>
                <a:cubicBezTo>
                  <a:pt x="7518" y="10549"/>
                  <a:pt x="7635" y="10464"/>
                  <a:pt x="7565" y="10567"/>
                </a:cubicBezTo>
                <a:cubicBezTo>
                  <a:pt x="7542" y="10600"/>
                  <a:pt x="7541" y="10562"/>
                  <a:pt x="7541" y="10641"/>
                </a:cubicBezTo>
                <a:cubicBezTo>
                  <a:pt x="7641" y="10641"/>
                  <a:pt x="7681" y="10639"/>
                  <a:pt x="7764" y="10691"/>
                </a:cubicBezTo>
                <a:cubicBezTo>
                  <a:pt x="7831" y="10733"/>
                  <a:pt x="7871" y="10746"/>
                  <a:pt x="7913" y="10815"/>
                </a:cubicBezTo>
                <a:cubicBezTo>
                  <a:pt x="7954" y="10883"/>
                  <a:pt x="7983" y="10939"/>
                  <a:pt x="7938" y="11013"/>
                </a:cubicBezTo>
                <a:cubicBezTo>
                  <a:pt x="7912" y="11056"/>
                  <a:pt x="7809" y="11105"/>
                  <a:pt x="7764" y="11112"/>
                </a:cubicBezTo>
                <a:cubicBezTo>
                  <a:pt x="7691" y="11123"/>
                  <a:pt x="7607" y="11117"/>
                  <a:pt x="7541" y="11088"/>
                </a:cubicBezTo>
                <a:cubicBezTo>
                  <a:pt x="7471" y="11057"/>
                  <a:pt x="7451" y="11006"/>
                  <a:pt x="7441" y="10939"/>
                </a:cubicBezTo>
              </a:path>
              <a:path w="2383" h="2060">
                <a:moveTo>
                  <a:pt x="8483" y="9451"/>
                </a:moveTo>
                <a:cubicBezTo>
                  <a:pt x="8527" y="9480"/>
                  <a:pt x="8562" y="9505"/>
                  <a:pt x="8607" y="9550"/>
                </a:cubicBezTo>
                <a:cubicBezTo>
                  <a:pt x="8709" y="9652"/>
                  <a:pt x="8814" y="9737"/>
                  <a:pt x="8930" y="9823"/>
                </a:cubicBezTo>
                <a:cubicBezTo>
                  <a:pt x="9069" y="9927"/>
                  <a:pt x="9216" y="9988"/>
                  <a:pt x="9351" y="10071"/>
                </a:cubicBezTo>
                <a:cubicBezTo>
                  <a:pt x="9428" y="10119"/>
                  <a:pt x="9595" y="10218"/>
                  <a:pt x="9649" y="10269"/>
                </a:cubicBezTo>
                <a:cubicBezTo>
                  <a:pt x="9679" y="10299"/>
                  <a:pt x="9690" y="10313"/>
                  <a:pt x="9699" y="10344"/>
                </a:cubicBezTo>
                <a:cubicBezTo>
                  <a:pt x="9622" y="10363"/>
                  <a:pt x="9594" y="10387"/>
                  <a:pt x="9500" y="10418"/>
                </a:cubicBezTo>
                <a:cubicBezTo>
                  <a:pt x="9355" y="10465"/>
                  <a:pt x="9229" y="10550"/>
                  <a:pt x="9103" y="10641"/>
                </a:cubicBezTo>
                <a:cubicBezTo>
                  <a:pt x="8965" y="10741"/>
                  <a:pt x="8851" y="10868"/>
                  <a:pt x="8731" y="10988"/>
                </a:cubicBezTo>
                <a:cubicBezTo>
                  <a:pt x="8664" y="11055"/>
                  <a:pt x="8606" y="11133"/>
                  <a:pt x="8558" y="112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12920" y="4268880"/>
            <a:ext cx="2098440" cy="1116000"/>
          </a:xfrm>
          <a:custGeom>
            <a:avLst/>
            <a:gdLst/>
            <a:ahLst/>
            <a:rect l="l" t="t" r="r" b="b"/>
            <a:pathLst>
              <a:path w="5830" h="3101">
                <a:moveTo>
                  <a:pt x="4762" y="11857"/>
                </a:moveTo>
                <a:cubicBezTo>
                  <a:pt x="4696" y="11956"/>
                  <a:pt x="4633" y="12053"/>
                  <a:pt x="4539" y="12129"/>
                </a:cubicBezTo>
                <a:cubicBezTo>
                  <a:pt x="4426" y="12220"/>
                  <a:pt x="4312" y="12297"/>
                  <a:pt x="4192" y="12378"/>
                </a:cubicBezTo>
                <a:cubicBezTo>
                  <a:pt x="4093" y="12445"/>
                  <a:pt x="3977" y="12524"/>
                  <a:pt x="3870" y="12576"/>
                </a:cubicBezTo>
                <a:cubicBezTo>
                  <a:pt x="3803" y="12609"/>
                  <a:pt x="3725" y="12618"/>
                  <a:pt x="3671" y="12675"/>
                </a:cubicBezTo>
                <a:cubicBezTo>
                  <a:pt x="3648" y="12698"/>
                  <a:pt x="3640" y="12702"/>
                  <a:pt x="3646" y="12725"/>
                </a:cubicBezTo>
                <a:cubicBezTo>
                  <a:pt x="3681" y="12756"/>
                  <a:pt x="3741" y="12793"/>
                  <a:pt x="3770" y="12824"/>
                </a:cubicBezTo>
                <a:cubicBezTo>
                  <a:pt x="3857" y="12918"/>
                  <a:pt x="3940" y="13020"/>
                  <a:pt x="4018" y="13122"/>
                </a:cubicBezTo>
                <a:cubicBezTo>
                  <a:pt x="4122" y="13257"/>
                  <a:pt x="4243" y="13381"/>
                  <a:pt x="4341" y="13519"/>
                </a:cubicBezTo>
                <a:cubicBezTo>
                  <a:pt x="4438" y="13655"/>
                  <a:pt x="4522" y="13802"/>
                  <a:pt x="4614" y="13940"/>
                </a:cubicBezTo>
                <a:cubicBezTo>
                  <a:pt x="4681" y="14041"/>
                  <a:pt x="4806" y="14213"/>
                  <a:pt x="4837" y="14238"/>
                </a:cubicBezTo>
              </a:path>
              <a:path w="5830" h="3101">
                <a:moveTo>
                  <a:pt x="5060" y="12278"/>
                </a:moveTo>
                <a:cubicBezTo>
                  <a:pt x="5043" y="12270"/>
                  <a:pt x="5058" y="12222"/>
                  <a:pt x="5085" y="12204"/>
                </a:cubicBezTo>
                <a:cubicBezTo>
                  <a:pt x="5103" y="12192"/>
                  <a:pt x="5162" y="12161"/>
                  <a:pt x="5184" y="12154"/>
                </a:cubicBezTo>
                <a:cubicBezTo>
                  <a:pt x="5222" y="12141"/>
                  <a:pt x="5292" y="12195"/>
                  <a:pt x="5308" y="12229"/>
                </a:cubicBezTo>
                <a:cubicBezTo>
                  <a:pt x="5359" y="12337"/>
                  <a:pt x="5338" y="12467"/>
                  <a:pt x="5308" y="12576"/>
                </a:cubicBezTo>
                <a:cubicBezTo>
                  <a:pt x="5277" y="12692"/>
                  <a:pt x="5200" y="12734"/>
                  <a:pt x="5135" y="12824"/>
                </a:cubicBezTo>
                <a:cubicBezTo>
                  <a:pt x="5095" y="12880"/>
                  <a:pt x="5061" y="12915"/>
                  <a:pt x="4986" y="12923"/>
                </a:cubicBezTo>
                <a:cubicBezTo>
                  <a:pt x="4944" y="12927"/>
                  <a:pt x="4925" y="12915"/>
                  <a:pt x="4911" y="12874"/>
                </a:cubicBezTo>
                <a:cubicBezTo>
                  <a:pt x="4896" y="12830"/>
                  <a:pt x="4911" y="12762"/>
                  <a:pt x="4936" y="12725"/>
                </a:cubicBezTo>
                <a:cubicBezTo>
                  <a:pt x="4972" y="12671"/>
                  <a:pt x="5014" y="12692"/>
                  <a:pt x="5060" y="12700"/>
                </a:cubicBezTo>
                <a:cubicBezTo>
                  <a:pt x="5098" y="12706"/>
                  <a:pt x="5162" y="12770"/>
                  <a:pt x="5184" y="12799"/>
                </a:cubicBezTo>
                <a:cubicBezTo>
                  <a:pt x="5235" y="12868"/>
                  <a:pt x="5255" y="12947"/>
                  <a:pt x="5333" y="12973"/>
                </a:cubicBezTo>
                <a:cubicBezTo>
                  <a:pt x="5366" y="12984"/>
                  <a:pt x="5388" y="12943"/>
                  <a:pt x="5407" y="12923"/>
                </a:cubicBezTo>
              </a:path>
              <a:path w="5830" h="3101">
                <a:moveTo>
                  <a:pt x="5730" y="12154"/>
                </a:moveTo>
                <a:cubicBezTo>
                  <a:pt x="5722" y="12248"/>
                  <a:pt x="5721" y="12358"/>
                  <a:pt x="5705" y="12452"/>
                </a:cubicBezTo>
                <a:cubicBezTo>
                  <a:pt x="5690" y="12539"/>
                  <a:pt x="5659" y="12633"/>
                  <a:pt x="5680" y="12725"/>
                </a:cubicBezTo>
                <a:cubicBezTo>
                  <a:pt x="5697" y="12798"/>
                  <a:pt x="5742" y="12875"/>
                  <a:pt x="5755" y="12948"/>
                </a:cubicBezTo>
                <a:cubicBezTo>
                  <a:pt x="5755" y="12973"/>
                  <a:pt x="5755" y="12997"/>
                  <a:pt x="5755" y="13022"/>
                </a:cubicBezTo>
              </a:path>
              <a:path w="5830" h="3101">
                <a:moveTo>
                  <a:pt x="5035" y="13097"/>
                </a:moveTo>
                <a:cubicBezTo>
                  <a:pt x="5268" y="13097"/>
                  <a:pt x="5505" y="13099"/>
                  <a:pt x="5730" y="13072"/>
                </a:cubicBezTo>
                <a:cubicBezTo>
                  <a:pt x="5773" y="13067"/>
                  <a:pt x="5896" y="13087"/>
                  <a:pt x="5928" y="13047"/>
                </a:cubicBezTo>
                <a:cubicBezTo>
                  <a:pt x="5928" y="13022"/>
                  <a:pt x="5928" y="13014"/>
                  <a:pt x="5928" y="12998"/>
                </a:cubicBezTo>
              </a:path>
              <a:path w="5830" h="3101">
                <a:moveTo>
                  <a:pt x="5457" y="13370"/>
                </a:moveTo>
                <a:cubicBezTo>
                  <a:pt x="5531" y="13370"/>
                  <a:pt x="5648" y="13395"/>
                  <a:pt x="5705" y="13345"/>
                </a:cubicBezTo>
                <a:cubicBezTo>
                  <a:pt x="5749" y="13307"/>
                  <a:pt x="5768" y="13305"/>
                  <a:pt x="5779" y="13271"/>
                </a:cubicBezTo>
              </a:path>
              <a:path w="5830" h="3101">
                <a:moveTo>
                  <a:pt x="5457" y="13370"/>
                </a:moveTo>
                <a:cubicBezTo>
                  <a:pt x="5424" y="13416"/>
                  <a:pt x="5386" y="13478"/>
                  <a:pt x="5358" y="13519"/>
                </a:cubicBezTo>
                <a:cubicBezTo>
                  <a:pt x="5332" y="13558"/>
                  <a:pt x="5324" y="13591"/>
                  <a:pt x="5383" y="13618"/>
                </a:cubicBezTo>
                <a:cubicBezTo>
                  <a:pt x="5407" y="13629"/>
                  <a:pt x="5527" y="13638"/>
                  <a:pt x="5556" y="13643"/>
                </a:cubicBezTo>
                <a:cubicBezTo>
                  <a:pt x="5631" y="13656"/>
                  <a:pt x="5668" y="13634"/>
                  <a:pt x="5730" y="13692"/>
                </a:cubicBezTo>
                <a:cubicBezTo>
                  <a:pt x="5801" y="13759"/>
                  <a:pt x="5804" y="13799"/>
                  <a:pt x="5804" y="13891"/>
                </a:cubicBezTo>
                <a:cubicBezTo>
                  <a:pt x="5804" y="13961"/>
                  <a:pt x="5759" y="14007"/>
                  <a:pt x="5705" y="14039"/>
                </a:cubicBezTo>
                <a:cubicBezTo>
                  <a:pt x="5631" y="14082"/>
                  <a:pt x="5491" y="14079"/>
                  <a:pt x="5407" y="14064"/>
                </a:cubicBezTo>
                <a:cubicBezTo>
                  <a:pt x="5312" y="14047"/>
                  <a:pt x="5192" y="13930"/>
                  <a:pt x="5159" y="13841"/>
                </a:cubicBezTo>
                <a:cubicBezTo>
                  <a:pt x="5143" y="13775"/>
                  <a:pt x="5126" y="13709"/>
                  <a:pt x="5110" y="13643"/>
                </a:cubicBezTo>
              </a:path>
              <a:path w="5830" h="3101">
                <a:moveTo>
                  <a:pt x="6350" y="13022"/>
                </a:moveTo>
                <a:cubicBezTo>
                  <a:pt x="6383" y="13111"/>
                  <a:pt x="6354" y="13153"/>
                  <a:pt x="6350" y="13246"/>
                </a:cubicBezTo>
                <a:cubicBezTo>
                  <a:pt x="6347" y="13324"/>
                  <a:pt x="6326" y="13459"/>
                  <a:pt x="6375" y="13519"/>
                </a:cubicBezTo>
                <a:cubicBezTo>
                  <a:pt x="6407" y="13558"/>
                  <a:pt x="6391" y="13530"/>
                  <a:pt x="6424" y="13519"/>
                </a:cubicBezTo>
              </a:path>
              <a:path w="5830" h="3101">
                <a:moveTo>
                  <a:pt x="6871" y="12427"/>
                </a:moveTo>
                <a:cubicBezTo>
                  <a:pt x="7007" y="12392"/>
                  <a:pt x="7051" y="12357"/>
                  <a:pt x="7144" y="12477"/>
                </a:cubicBezTo>
                <a:cubicBezTo>
                  <a:pt x="7202" y="12552"/>
                  <a:pt x="7207" y="12685"/>
                  <a:pt x="7193" y="12774"/>
                </a:cubicBezTo>
                <a:cubicBezTo>
                  <a:pt x="7178" y="12868"/>
                  <a:pt x="7133" y="12919"/>
                  <a:pt x="7069" y="12973"/>
                </a:cubicBezTo>
                <a:cubicBezTo>
                  <a:pt x="7034" y="13003"/>
                  <a:pt x="7017" y="13042"/>
                  <a:pt x="6970" y="13047"/>
                </a:cubicBezTo>
                <a:cubicBezTo>
                  <a:pt x="6920" y="13053"/>
                  <a:pt x="6916" y="13048"/>
                  <a:pt x="6896" y="13022"/>
                </a:cubicBezTo>
                <a:cubicBezTo>
                  <a:pt x="6876" y="12996"/>
                  <a:pt x="6858" y="12916"/>
                  <a:pt x="6896" y="12898"/>
                </a:cubicBezTo>
                <a:cubicBezTo>
                  <a:pt x="6942" y="12877"/>
                  <a:pt x="7030" y="12906"/>
                  <a:pt x="7069" y="12923"/>
                </a:cubicBezTo>
                <a:cubicBezTo>
                  <a:pt x="7146" y="12957"/>
                  <a:pt x="7183" y="12973"/>
                  <a:pt x="7268" y="12973"/>
                </a:cubicBezTo>
                <a:cubicBezTo>
                  <a:pt x="7276" y="12973"/>
                  <a:pt x="7285" y="12973"/>
                  <a:pt x="7293" y="12973"/>
                </a:cubicBezTo>
              </a:path>
              <a:path w="5830" h="3101">
                <a:moveTo>
                  <a:pt x="7714" y="12452"/>
                </a:moveTo>
                <a:cubicBezTo>
                  <a:pt x="7636" y="12389"/>
                  <a:pt x="7592" y="12341"/>
                  <a:pt x="7491" y="12402"/>
                </a:cubicBezTo>
                <a:cubicBezTo>
                  <a:pt x="7451" y="12426"/>
                  <a:pt x="7457" y="12512"/>
                  <a:pt x="7466" y="12551"/>
                </a:cubicBezTo>
                <a:cubicBezTo>
                  <a:pt x="7490" y="12660"/>
                  <a:pt x="7571" y="12750"/>
                  <a:pt x="7615" y="12849"/>
                </a:cubicBezTo>
                <a:cubicBezTo>
                  <a:pt x="7642" y="12910"/>
                  <a:pt x="7692" y="13027"/>
                  <a:pt x="7665" y="13097"/>
                </a:cubicBezTo>
                <a:cubicBezTo>
                  <a:pt x="7648" y="13141"/>
                  <a:pt x="7634" y="13146"/>
                  <a:pt x="7590" y="13146"/>
                </a:cubicBezTo>
                <a:cubicBezTo>
                  <a:pt x="7538" y="13146"/>
                  <a:pt x="7529" y="13134"/>
                  <a:pt x="7491" y="13097"/>
                </a:cubicBezTo>
                <a:cubicBezTo>
                  <a:pt x="7458" y="13064"/>
                  <a:pt x="7466" y="13042"/>
                  <a:pt x="7466" y="12998"/>
                </a:cubicBezTo>
                <a:cubicBezTo>
                  <a:pt x="7466" y="12933"/>
                  <a:pt x="7473" y="12902"/>
                  <a:pt x="7516" y="12849"/>
                </a:cubicBezTo>
                <a:cubicBezTo>
                  <a:pt x="7576" y="12776"/>
                  <a:pt x="7647" y="12709"/>
                  <a:pt x="7714" y="12650"/>
                </a:cubicBezTo>
                <a:cubicBezTo>
                  <a:pt x="7771" y="12600"/>
                  <a:pt x="7807" y="12552"/>
                  <a:pt x="7863" y="12502"/>
                </a:cubicBezTo>
                <a:cubicBezTo>
                  <a:pt x="7886" y="12479"/>
                  <a:pt x="7894" y="12475"/>
                  <a:pt x="7888" y="12452"/>
                </a:cubicBezTo>
              </a:path>
              <a:path w="5830" h="3101">
                <a:moveTo>
                  <a:pt x="7069" y="13246"/>
                </a:moveTo>
                <a:cubicBezTo>
                  <a:pt x="7200" y="13255"/>
                  <a:pt x="7287" y="13259"/>
                  <a:pt x="7417" y="13246"/>
                </a:cubicBezTo>
                <a:cubicBezTo>
                  <a:pt x="7519" y="13236"/>
                  <a:pt x="7618" y="13236"/>
                  <a:pt x="7714" y="13221"/>
                </a:cubicBezTo>
                <a:cubicBezTo>
                  <a:pt x="7773" y="13212"/>
                  <a:pt x="7786" y="13237"/>
                  <a:pt x="7813" y="13196"/>
                </a:cubicBezTo>
              </a:path>
              <a:path w="5830" h="3101">
                <a:moveTo>
                  <a:pt x="7367" y="13593"/>
                </a:moveTo>
                <a:cubicBezTo>
                  <a:pt x="7479" y="13631"/>
                  <a:pt x="7528" y="13643"/>
                  <a:pt x="7640" y="13643"/>
                </a:cubicBezTo>
                <a:cubicBezTo>
                  <a:pt x="7699" y="13643"/>
                  <a:pt x="7700" y="13632"/>
                  <a:pt x="7739" y="13593"/>
                </a:cubicBezTo>
              </a:path>
              <a:path w="5830" h="3101">
                <a:moveTo>
                  <a:pt x="7516" y="13543"/>
                </a:moveTo>
                <a:cubicBezTo>
                  <a:pt x="7424" y="13614"/>
                  <a:pt x="7403" y="13635"/>
                  <a:pt x="7342" y="13717"/>
                </a:cubicBezTo>
                <a:cubicBezTo>
                  <a:pt x="7323" y="13742"/>
                  <a:pt x="7297" y="13805"/>
                  <a:pt x="7317" y="13841"/>
                </a:cubicBezTo>
                <a:cubicBezTo>
                  <a:pt x="7324" y="13854"/>
                  <a:pt x="7362" y="13936"/>
                  <a:pt x="7367" y="13940"/>
                </a:cubicBezTo>
                <a:cubicBezTo>
                  <a:pt x="7412" y="13970"/>
                  <a:pt x="7613" y="13955"/>
                  <a:pt x="7665" y="13965"/>
                </a:cubicBezTo>
                <a:cubicBezTo>
                  <a:pt x="7758" y="13984"/>
                  <a:pt x="7813" y="13994"/>
                  <a:pt x="7863" y="14089"/>
                </a:cubicBezTo>
                <a:cubicBezTo>
                  <a:pt x="7905" y="14168"/>
                  <a:pt x="7896" y="14260"/>
                  <a:pt x="7863" y="14337"/>
                </a:cubicBezTo>
                <a:cubicBezTo>
                  <a:pt x="7832" y="14411"/>
                  <a:pt x="7806" y="14471"/>
                  <a:pt x="7739" y="14511"/>
                </a:cubicBezTo>
                <a:cubicBezTo>
                  <a:pt x="7650" y="14563"/>
                  <a:pt x="7631" y="14550"/>
                  <a:pt x="7541" y="14536"/>
                </a:cubicBezTo>
                <a:cubicBezTo>
                  <a:pt x="7465" y="14524"/>
                  <a:pt x="7414" y="14507"/>
                  <a:pt x="7367" y="14436"/>
                </a:cubicBezTo>
                <a:cubicBezTo>
                  <a:pt x="7325" y="14374"/>
                  <a:pt x="7324" y="14335"/>
                  <a:pt x="7317" y="14263"/>
                </a:cubicBezTo>
              </a:path>
              <a:path w="5830" h="3101">
                <a:moveTo>
                  <a:pt x="8359" y="12675"/>
                </a:moveTo>
                <a:cubicBezTo>
                  <a:pt x="8473" y="12749"/>
                  <a:pt x="8540" y="12824"/>
                  <a:pt x="8632" y="12923"/>
                </a:cubicBezTo>
                <a:cubicBezTo>
                  <a:pt x="8741" y="13039"/>
                  <a:pt x="8875" y="13128"/>
                  <a:pt x="8979" y="13246"/>
                </a:cubicBezTo>
                <a:cubicBezTo>
                  <a:pt x="9078" y="13358"/>
                  <a:pt x="9163" y="13426"/>
                  <a:pt x="9277" y="13519"/>
                </a:cubicBezTo>
                <a:cubicBezTo>
                  <a:pt x="9331" y="13563"/>
                  <a:pt x="9389" y="13620"/>
                  <a:pt x="9451" y="13643"/>
                </a:cubicBezTo>
                <a:cubicBezTo>
                  <a:pt x="9459" y="13643"/>
                  <a:pt x="9467" y="13643"/>
                  <a:pt x="9475" y="13643"/>
                </a:cubicBezTo>
                <a:cubicBezTo>
                  <a:pt x="9424" y="13674"/>
                  <a:pt x="9380" y="13726"/>
                  <a:pt x="9327" y="13767"/>
                </a:cubicBezTo>
                <a:cubicBezTo>
                  <a:pt x="9206" y="13861"/>
                  <a:pt x="9090" y="13957"/>
                  <a:pt x="8979" y="14064"/>
                </a:cubicBezTo>
                <a:cubicBezTo>
                  <a:pt x="8717" y="14317"/>
                  <a:pt x="8535" y="14656"/>
                  <a:pt x="8334" y="149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89040" y="5510160"/>
            <a:ext cx="1465200" cy="884160"/>
          </a:xfrm>
          <a:custGeom>
            <a:avLst/>
            <a:gdLst/>
            <a:ahLst/>
            <a:rect l="l" t="t" r="r" b="b"/>
            <a:pathLst>
              <a:path w="4069" h="2457">
                <a:moveTo>
                  <a:pt x="4514" y="15354"/>
                </a:moveTo>
                <a:cubicBezTo>
                  <a:pt x="4565" y="15341"/>
                  <a:pt x="4597" y="15276"/>
                  <a:pt x="4663" y="15304"/>
                </a:cubicBezTo>
                <a:cubicBezTo>
                  <a:pt x="4709" y="15324"/>
                  <a:pt x="4720" y="15390"/>
                  <a:pt x="4738" y="15429"/>
                </a:cubicBezTo>
                <a:cubicBezTo>
                  <a:pt x="4778" y="15514"/>
                  <a:pt x="4766" y="15590"/>
                  <a:pt x="4738" y="15677"/>
                </a:cubicBezTo>
                <a:cubicBezTo>
                  <a:pt x="4697" y="15806"/>
                  <a:pt x="4682" y="15872"/>
                  <a:pt x="4589" y="15949"/>
                </a:cubicBezTo>
                <a:cubicBezTo>
                  <a:pt x="4539" y="15990"/>
                  <a:pt x="4505" y="15983"/>
                  <a:pt x="4465" y="15974"/>
                </a:cubicBezTo>
                <a:cubicBezTo>
                  <a:pt x="4436" y="15968"/>
                  <a:pt x="4418" y="15938"/>
                  <a:pt x="4415" y="15900"/>
                </a:cubicBezTo>
                <a:cubicBezTo>
                  <a:pt x="4413" y="15868"/>
                  <a:pt x="4415" y="15834"/>
                  <a:pt x="4415" y="15801"/>
                </a:cubicBezTo>
                <a:cubicBezTo>
                  <a:pt x="4477" y="15838"/>
                  <a:pt x="4507" y="15925"/>
                  <a:pt x="4564" y="15974"/>
                </a:cubicBezTo>
                <a:cubicBezTo>
                  <a:pt x="4613" y="16016"/>
                  <a:pt x="4695" y="16083"/>
                  <a:pt x="4762" y="16098"/>
                </a:cubicBezTo>
                <a:cubicBezTo>
                  <a:pt x="4779" y="16098"/>
                  <a:pt x="4795" y="16098"/>
                  <a:pt x="4812" y="16098"/>
                </a:cubicBezTo>
              </a:path>
              <a:path w="4069" h="2457">
                <a:moveTo>
                  <a:pt x="5060" y="15304"/>
                </a:moveTo>
                <a:cubicBezTo>
                  <a:pt x="5068" y="15393"/>
                  <a:pt x="5085" y="15461"/>
                  <a:pt x="5085" y="15553"/>
                </a:cubicBezTo>
                <a:cubicBezTo>
                  <a:pt x="5085" y="15698"/>
                  <a:pt x="5088" y="15837"/>
                  <a:pt x="5110" y="15974"/>
                </a:cubicBezTo>
                <a:cubicBezTo>
                  <a:pt x="5119" y="16029"/>
                  <a:pt x="5142" y="16168"/>
                  <a:pt x="5085" y="16073"/>
                </a:cubicBezTo>
              </a:path>
              <a:path w="4069" h="2457">
                <a:moveTo>
                  <a:pt x="4564" y="16148"/>
                </a:moveTo>
                <a:cubicBezTo>
                  <a:pt x="4743" y="16154"/>
                  <a:pt x="4866" y="16154"/>
                  <a:pt x="5035" y="16148"/>
                </a:cubicBezTo>
                <a:cubicBezTo>
                  <a:pt x="5126" y="16145"/>
                  <a:pt x="5200" y="16137"/>
                  <a:pt x="5283" y="16123"/>
                </a:cubicBezTo>
                <a:cubicBezTo>
                  <a:pt x="5345" y="16113"/>
                  <a:pt x="5339" y="16117"/>
                  <a:pt x="5383" y="16073"/>
                </a:cubicBezTo>
              </a:path>
              <a:path w="4069" h="2457">
                <a:moveTo>
                  <a:pt x="4812" y="16446"/>
                </a:moveTo>
                <a:cubicBezTo>
                  <a:pt x="4910" y="16457"/>
                  <a:pt x="4996" y="16476"/>
                  <a:pt x="5085" y="16421"/>
                </a:cubicBezTo>
                <a:cubicBezTo>
                  <a:pt x="5110" y="16396"/>
                  <a:pt x="5118" y="16388"/>
                  <a:pt x="5135" y="16371"/>
                </a:cubicBezTo>
              </a:path>
              <a:path w="4069" h="2457">
                <a:moveTo>
                  <a:pt x="4762" y="16470"/>
                </a:moveTo>
                <a:cubicBezTo>
                  <a:pt x="4756" y="16492"/>
                  <a:pt x="4719" y="16584"/>
                  <a:pt x="4738" y="16619"/>
                </a:cubicBezTo>
                <a:cubicBezTo>
                  <a:pt x="4767" y="16672"/>
                  <a:pt x="4795" y="16654"/>
                  <a:pt x="4837" y="16669"/>
                </a:cubicBezTo>
                <a:cubicBezTo>
                  <a:pt x="4892" y="16689"/>
                  <a:pt x="4961" y="16674"/>
                  <a:pt x="5011" y="16694"/>
                </a:cubicBezTo>
                <a:cubicBezTo>
                  <a:pt x="5068" y="16717"/>
                  <a:pt x="5107" y="16765"/>
                  <a:pt x="5135" y="16818"/>
                </a:cubicBezTo>
                <a:cubicBezTo>
                  <a:pt x="5177" y="16899"/>
                  <a:pt x="5196" y="16931"/>
                  <a:pt x="5159" y="17016"/>
                </a:cubicBezTo>
                <a:cubicBezTo>
                  <a:pt x="5119" y="17107"/>
                  <a:pt x="5083" y="17179"/>
                  <a:pt x="5011" y="17239"/>
                </a:cubicBezTo>
                <a:cubicBezTo>
                  <a:pt x="4942" y="17297"/>
                  <a:pt x="4871" y="17266"/>
                  <a:pt x="4812" y="17214"/>
                </a:cubicBezTo>
                <a:cubicBezTo>
                  <a:pt x="4749" y="17158"/>
                  <a:pt x="4762" y="17093"/>
                  <a:pt x="4762" y="17016"/>
                </a:cubicBezTo>
              </a:path>
              <a:path w="4069" h="2457">
                <a:moveTo>
                  <a:pt x="5631" y="16173"/>
                </a:moveTo>
                <a:cubicBezTo>
                  <a:pt x="5616" y="16256"/>
                  <a:pt x="5585" y="16382"/>
                  <a:pt x="5606" y="16470"/>
                </a:cubicBezTo>
                <a:cubicBezTo>
                  <a:pt x="5623" y="16541"/>
                  <a:pt x="5675" y="16649"/>
                  <a:pt x="5730" y="16694"/>
                </a:cubicBezTo>
                <a:cubicBezTo>
                  <a:pt x="5804" y="16755"/>
                  <a:pt x="5833" y="16733"/>
                  <a:pt x="5904" y="16694"/>
                </a:cubicBezTo>
              </a:path>
              <a:path w="4069" h="2457">
                <a:moveTo>
                  <a:pt x="5730" y="15627"/>
                </a:moveTo>
                <a:cubicBezTo>
                  <a:pt x="5723" y="15656"/>
                  <a:pt x="5713" y="15672"/>
                  <a:pt x="5705" y="15701"/>
                </a:cubicBezTo>
              </a:path>
              <a:path w="4069" h="2457">
                <a:moveTo>
                  <a:pt x="6623" y="15825"/>
                </a:moveTo>
                <a:cubicBezTo>
                  <a:pt x="6659" y="15837"/>
                  <a:pt x="6655" y="15861"/>
                  <a:pt x="6672" y="15900"/>
                </a:cubicBezTo>
                <a:cubicBezTo>
                  <a:pt x="6715" y="15999"/>
                  <a:pt x="6697" y="16114"/>
                  <a:pt x="6697" y="16222"/>
                </a:cubicBezTo>
                <a:cubicBezTo>
                  <a:pt x="6697" y="16363"/>
                  <a:pt x="6697" y="16503"/>
                  <a:pt x="6697" y="16644"/>
                </a:cubicBezTo>
              </a:path>
              <a:path w="4069" h="2457">
                <a:moveTo>
                  <a:pt x="6424" y="16247"/>
                </a:moveTo>
                <a:cubicBezTo>
                  <a:pt x="6499" y="16256"/>
                  <a:pt x="6551" y="16309"/>
                  <a:pt x="6623" y="16321"/>
                </a:cubicBezTo>
                <a:cubicBezTo>
                  <a:pt x="6683" y="16331"/>
                  <a:pt x="6736" y="16338"/>
                  <a:pt x="6796" y="16346"/>
                </a:cubicBezTo>
              </a:path>
              <a:path w="4069" h="2457">
                <a:moveTo>
                  <a:pt x="7268" y="15726"/>
                </a:moveTo>
                <a:cubicBezTo>
                  <a:pt x="7294" y="15733"/>
                  <a:pt x="7335" y="15769"/>
                  <a:pt x="7367" y="15751"/>
                </a:cubicBezTo>
                <a:cubicBezTo>
                  <a:pt x="7405" y="15730"/>
                  <a:pt x="7442" y="15713"/>
                  <a:pt x="7466" y="15677"/>
                </a:cubicBezTo>
                <a:cubicBezTo>
                  <a:pt x="7496" y="15631"/>
                  <a:pt x="7490" y="15660"/>
                  <a:pt x="7541" y="15677"/>
                </a:cubicBezTo>
                <a:cubicBezTo>
                  <a:pt x="7606" y="15699"/>
                  <a:pt x="7590" y="15732"/>
                  <a:pt x="7590" y="15801"/>
                </a:cubicBezTo>
                <a:cubicBezTo>
                  <a:pt x="7590" y="15906"/>
                  <a:pt x="7576" y="15998"/>
                  <a:pt x="7565" y="16098"/>
                </a:cubicBezTo>
                <a:cubicBezTo>
                  <a:pt x="7554" y="16196"/>
                  <a:pt x="7535" y="16258"/>
                  <a:pt x="7491" y="16346"/>
                </a:cubicBezTo>
                <a:cubicBezTo>
                  <a:pt x="7465" y="16398"/>
                  <a:pt x="7444" y="16408"/>
                  <a:pt x="7392" y="16421"/>
                </a:cubicBezTo>
                <a:cubicBezTo>
                  <a:pt x="7368" y="16390"/>
                  <a:pt x="7327" y="16338"/>
                  <a:pt x="7317" y="16297"/>
                </a:cubicBezTo>
                <a:cubicBezTo>
                  <a:pt x="7308" y="16261"/>
                  <a:pt x="7315" y="16145"/>
                  <a:pt x="7342" y="16123"/>
                </a:cubicBezTo>
                <a:cubicBezTo>
                  <a:pt x="7350" y="16123"/>
                  <a:pt x="7359" y="16123"/>
                  <a:pt x="7367" y="16123"/>
                </a:cubicBezTo>
                <a:cubicBezTo>
                  <a:pt x="7420" y="16123"/>
                  <a:pt x="7482" y="16158"/>
                  <a:pt x="7516" y="16197"/>
                </a:cubicBezTo>
                <a:cubicBezTo>
                  <a:pt x="7560" y="16248"/>
                  <a:pt x="7588" y="16275"/>
                  <a:pt x="7640" y="16321"/>
                </a:cubicBezTo>
                <a:cubicBezTo>
                  <a:pt x="7675" y="16352"/>
                  <a:pt x="7693" y="16346"/>
                  <a:pt x="7739" y="16346"/>
                </a:cubicBezTo>
              </a:path>
              <a:path w="4069" h="2457">
                <a:moveTo>
                  <a:pt x="8012" y="15602"/>
                </a:moveTo>
                <a:cubicBezTo>
                  <a:pt x="7985" y="15541"/>
                  <a:pt x="7999" y="15528"/>
                  <a:pt x="7938" y="15528"/>
                </a:cubicBezTo>
                <a:cubicBezTo>
                  <a:pt x="7893" y="15588"/>
                  <a:pt x="7913" y="15674"/>
                  <a:pt x="7913" y="15751"/>
                </a:cubicBezTo>
                <a:cubicBezTo>
                  <a:pt x="7913" y="15853"/>
                  <a:pt x="7941" y="15974"/>
                  <a:pt x="7962" y="16073"/>
                </a:cubicBezTo>
                <a:cubicBezTo>
                  <a:pt x="7984" y="16178"/>
                  <a:pt x="7985" y="16222"/>
                  <a:pt x="7962" y="16321"/>
                </a:cubicBezTo>
                <a:cubicBezTo>
                  <a:pt x="7951" y="16369"/>
                  <a:pt x="7925" y="16361"/>
                  <a:pt x="7913" y="16396"/>
                </a:cubicBezTo>
                <a:cubicBezTo>
                  <a:pt x="7883" y="16374"/>
                  <a:pt x="7831" y="16361"/>
                  <a:pt x="7813" y="16321"/>
                </a:cubicBezTo>
                <a:cubicBezTo>
                  <a:pt x="7806" y="16307"/>
                  <a:pt x="7854" y="16210"/>
                  <a:pt x="7863" y="16197"/>
                </a:cubicBezTo>
                <a:cubicBezTo>
                  <a:pt x="7897" y="16147"/>
                  <a:pt x="7934" y="16103"/>
                  <a:pt x="7962" y="16049"/>
                </a:cubicBezTo>
                <a:cubicBezTo>
                  <a:pt x="7993" y="15989"/>
                  <a:pt x="8050" y="15891"/>
                  <a:pt x="8062" y="15825"/>
                </a:cubicBezTo>
                <a:cubicBezTo>
                  <a:pt x="8076" y="15744"/>
                  <a:pt x="8082" y="15695"/>
                  <a:pt x="8062" y="15627"/>
                </a:cubicBezTo>
                <a:cubicBezTo>
                  <a:pt x="8046" y="15573"/>
                  <a:pt x="8035" y="15554"/>
                  <a:pt x="7987" y="15577"/>
                </a:cubicBezTo>
              </a:path>
              <a:path w="4069" h="2457">
                <a:moveTo>
                  <a:pt x="7317" y="16421"/>
                </a:moveTo>
                <a:cubicBezTo>
                  <a:pt x="7430" y="16440"/>
                  <a:pt x="7526" y="16446"/>
                  <a:pt x="7640" y="16446"/>
                </a:cubicBezTo>
                <a:cubicBezTo>
                  <a:pt x="7754" y="16446"/>
                  <a:pt x="7856" y="16446"/>
                  <a:pt x="7962" y="16421"/>
                </a:cubicBezTo>
                <a:cubicBezTo>
                  <a:pt x="7990" y="16421"/>
                  <a:pt x="8001" y="16419"/>
                  <a:pt x="8012" y="16396"/>
                </a:cubicBezTo>
              </a:path>
              <a:path w="4069" h="2457">
                <a:moveTo>
                  <a:pt x="7640" y="16768"/>
                </a:moveTo>
                <a:cubicBezTo>
                  <a:pt x="7735" y="16785"/>
                  <a:pt x="7809" y="16816"/>
                  <a:pt x="7888" y="16768"/>
                </a:cubicBezTo>
              </a:path>
              <a:path w="4069" h="2457">
                <a:moveTo>
                  <a:pt x="7689" y="16694"/>
                </a:moveTo>
                <a:cubicBezTo>
                  <a:pt x="7638" y="16751"/>
                  <a:pt x="7611" y="16781"/>
                  <a:pt x="7590" y="16842"/>
                </a:cubicBezTo>
                <a:cubicBezTo>
                  <a:pt x="7576" y="16885"/>
                  <a:pt x="7611" y="16905"/>
                  <a:pt x="7615" y="16942"/>
                </a:cubicBezTo>
                <a:cubicBezTo>
                  <a:pt x="7621" y="16993"/>
                  <a:pt x="7644" y="16991"/>
                  <a:pt x="7689" y="16991"/>
                </a:cubicBezTo>
                <a:cubicBezTo>
                  <a:pt x="7765" y="16991"/>
                  <a:pt x="7813" y="17001"/>
                  <a:pt x="7888" y="17016"/>
                </a:cubicBezTo>
                <a:cubicBezTo>
                  <a:pt x="7961" y="17031"/>
                  <a:pt x="7936" y="17063"/>
                  <a:pt x="7962" y="17115"/>
                </a:cubicBezTo>
                <a:cubicBezTo>
                  <a:pt x="7991" y="17172"/>
                  <a:pt x="7984" y="17223"/>
                  <a:pt x="7962" y="17289"/>
                </a:cubicBezTo>
                <a:cubicBezTo>
                  <a:pt x="7935" y="17371"/>
                  <a:pt x="7875" y="17462"/>
                  <a:pt x="7813" y="17512"/>
                </a:cubicBezTo>
                <a:cubicBezTo>
                  <a:pt x="7760" y="17555"/>
                  <a:pt x="7704" y="17562"/>
                  <a:pt x="7640" y="17562"/>
                </a:cubicBezTo>
                <a:cubicBezTo>
                  <a:pt x="7582" y="17562"/>
                  <a:pt x="7550" y="17566"/>
                  <a:pt x="7516" y="17512"/>
                </a:cubicBezTo>
                <a:cubicBezTo>
                  <a:pt x="7485" y="17463"/>
                  <a:pt x="7491" y="17443"/>
                  <a:pt x="7491" y="17388"/>
                </a:cubicBezTo>
              </a:path>
              <a:path w="4069" h="2457">
                <a:moveTo>
                  <a:pt x="8458" y="16594"/>
                </a:moveTo>
                <a:cubicBezTo>
                  <a:pt x="8477" y="16754"/>
                  <a:pt x="8503" y="16927"/>
                  <a:pt x="8483" y="17090"/>
                </a:cubicBezTo>
                <a:cubicBezTo>
                  <a:pt x="8465" y="17241"/>
                  <a:pt x="8452" y="17389"/>
                  <a:pt x="8409" y="17537"/>
                </a:cubicBezTo>
                <a:cubicBezTo>
                  <a:pt x="8385" y="17618"/>
                  <a:pt x="8362" y="17694"/>
                  <a:pt x="8310" y="17760"/>
                </a:cubicBezTo>
                <a:cubicBezTo>
                  <a:pt x="8265" y="17749"/>
                  <a:pt x="8222" y="17714"/>
                  <a:pt x="8210" y="17661"/>
                </a:cubicBezTo>
                <a:cubicBezTo>
                  <a:pt x="8190" y="17576"/>
                  <a:pt x="8204" y="17491"/>
                  <a:pt x="8210" y="17413"/>
                </a:cubicBezTo>
                <a:cubicBezTo>
                  <a:pt x="8210" y="17388"/>
                  <a:pt x="8210" y="17363"/>
                  <a:pt x="8210" y="17338"/>
                </a:cubicBezTo>
              </a:path>
              <a:path w="4069" h="2457">
                <a:moveTo>
                  <a:pt x="8483" y="15974"/>
                </a:moveTo>
                <a:cubicBezTo>
                  <a:pt x="8455" y="15974"/>
                  <a:pt x="8444" y="15976"/>
                  <a:pt x="8434" y="159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2:53:30Z</dcterms:created>
  <dc:creator>jnewman</dc:creator>
  <dc:description/>
  <dc:language>en-US</dc:language>
  <cp:lastModifiedBy>abeason</cp:lastModifiedBy>
  <dcterms:modified xsi:type="dcterms:W3CDTF">2009-02-23T18:33:36Z</dcterms:modified>
  <cp:revision>11</cp:revision>
  <dc:subject/>
  <dc:title>Lesson 6.3 part three</dc:title>
</cp:coreProperties>
</file>